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D5124-B5F8-48ED-BF20-A62545CA0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B6302-0E32-41E0-9FD5-64D894750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9DBF7-FFA2-409A-A4B5-CD6C0C59D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DDF0F-8B2A-4629-8D11-87CC4D0F9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28AD4-A7A2-43D7-8391-1B6C09CAB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0107B-F239-440A-A92C-0689A33BA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952DD-E7A5-40E5-B9BD-711C0B32B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318DE-022A-4C5D-AC9D-62830BD4A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32FC1-2A4C-47C3-B014-5C00A0EEF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3B19B-DE51-427E-B28E-A99BDC323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2CFD9-FC55-4319-A1F3-050EDAB98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20E32-248B-4FC4-A48D-DC5B68331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Comic Sans MS"/>
              </a:rPr>
              <a:t>Click to edit the title text format</a:t>
            </a:r>
            <a:endParaRPr b="1" lang="en-US" sz="4000" spc="-1" strike="noStrike">
              <a:solidFill>
                <a:srgbClr val="3333cc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065BB-D108-4472-AAAD-731839442F8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Comic Sans MS"/>
              </a:rPr>
              <a:t>PROBLEME DE STATIQUE </a:t>
            </a:r>
            <a:br>
              <a:rPr sz="4000"/>
            </a:br>
            <a:r>
              <a:rPr b="1" lang="en-US" sz="4000" spc="-1" strike="noStrike">
                <a:solidFill>
                  <a:srgbClr val="3333cc"/>
                </a:solidFill>
                <a:latin typeface="Comic Sans MS"/>
              </a:rPr>
              <a:t>AVEC FROTTEM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127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1219320"/>
            <a:ext cx="8380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ffffff"/>
                </a:solidFill>
                <a:latin typeface="Arial Black"/>
              </a:rPr>
              <a:t>P. JEANNERO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LEF-Monochrome" descr=""/>
          <p:cNvPicPr/>
          <p:nvPr/>
        </p:nvPicPr>
        <p:blipFill>
          <a:blip r:embed="rId3"/>
          <a:stretch/>
        </p:blipFill>
        <p:spPr>
          <a:xfrm>
            <a:off x="7972560" y="0"/>
            <a:ext cx="1171440" cy="121932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0" y="0"/>
            <a:ext cx="1295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3.png"/><Relationship Id="rId16" Type="http://schemas.openxmlformats.org/officeDocument/2006/relationships/image" Target="../media/image3.png"/><Relationship Id="rId17" Type="http://schemas.openxmlformats.org/officeDocument/2006/relationships/image" Target="../media/image3.png"/><Relationship Id="rId18" Type="http://schemas.openxmlformats.org/officeDocument/2006/relationships/image" Target="../media/image3.png"/><Relationship Id="rId19" Type="http://schemas.openxmlformats.org/officeDocument/2006/relationships/image" Target="../media/image3.png"/><Relationship Id="rId20" Type="http://schemas.openxmlformats.org/officeDocument/2006/relationships/image" Target="../media/image3.png"/><Relationship Id="rId21" Type="http://schemas.openxmlformats.org/officeDocument/2006/relationships/image" Target="../media/image3.png"/><Relationship Id="rId22" Type="http://schemas.openxmlformats.org/officeDocument/2006/relationships/image" Target="../media/image3.png"/><Relationship Id="rId2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" Target="slide34.xm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04920" y="1295280"/>
            <a:ext cx="81532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Comic Sans MS"/>
              </a:rPr>
              <a:t>SOLIDE SUR UN PLAN HORIZONT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>
            <a:hlinkClick r:id="" action="ppaction://hlinkshowjump?jump=nextslide"/>
          </p:cNvPr>
          <p:cNvSpPr/>
          <p:nvPr/>
        </p:nvSpPr>
        <p:spPr>
          <a:xfrm>
            <a:off x="8682120" y="6553080"/>
            <a:ext cx="457200" cy="304920"/>
          </a:xfrm>
          <a:custGeom>
            <a:avLst/>
            <a:gdLst>
              <a:gd name="textAreaLeft" fmla="*/ 65160 w 457200"/>
              <a:gd name="textAreaRight" fmla="*/ 392040 w 457200"/>
              <a:gd name="textAreaTop" fmla="*/ 65160 h 304920"/>
              <a:gd name="textAreaBottom" fmla="*/ 23976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27762" y="4613"/>
                </a:lnTo>
                <a:lnTo>
                  <a:pt x="4613" y="4613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27762" y="16987"/>
                </a:lnTo>
                <a:lnTo>
                  <a:pt x="27762" y="4613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4613" y="16987"/>
                </a:lnTo>
                <a:lnTo>
                  <a:pt x="27762" y="16987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4613" y="4613"/>
                </a:lnTo>
                <a:lnTo>
                  <a:pt x="4613" y="16987"/>
                </a:lnTo>
                <a:close/>
              </a:path>
              <a:path fill="darken" w="32375" h="21600">
                <a:moveTo>
                  <a:pt x="11576" y="6188"/>
                </a:moveTo>
                <a:lnTo>
                  <a:pt x="20799" y="10800"/>
                </a:lnTo>
                <a:lnTo>
                  <a:pt x="11576" y="15412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1143000" y="3200400"/>
            <a:ext cx="5638680" cy="2514600"/>
            <a:chOff x="1143000" y="3200400"/>
            <a:chExt cx="5638680" cy="2514600"/>
          </a:xfrm>
        </p:grpSpPr>
        <p:grpSp>
          <p:nvGrpSpPr>
            <p:cNvPr id="49" name=""/>
            <p:cNvGrpSpPr/>
            <p:nvPr/>
          </p:nvGrpSpPr>
          <p:grpSpPr>
            <a:xfrm>
              <a:off x="1143000" y="5105520"/>
              <a:ext cx="5638680" cy="609480"/>
              <a:chOff x="1143000" y="5105520"/>
              <a:chExt cx="5638680" cy="609480"/>
            </a:xfrm>
          </p:grpSpPr>
          <p:sp>
            <p:nvSpPr>
              <p:cNvPr id="50" name=""/>
              <p:cNvSpPr/>
              <p:nvPr/>
            </p:nvSpPr>
            <p:spPr>
              <a:xfrm>
                <a:off x="1143000" y="5105520"/>
                <a:ext cx="5638680" cy="60948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143000" y="5105520"/>
                <a:ext cx="563868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2" name=""/>
            <p:cNvSpPr/>
            <p:nvPr/>
          </p:nvSpPr>
          <p:spPr>
            <a:xfrm>
              <a:off x="2209680" y="3200400"/>
              <a:ext cx="3429000" cy="1905120"/>
            </a:xfrm>
            <a:prstGeom prst="rect">
              <a:avLst/>
            </a:prstGeom>
            <a:solidFill>
              <a:srgbClr val="b2b2b2">
                <a:alpha val="50000"/>
              </a:srgbClr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6172200" y="2286000"/>
            <a:ext cx="1905120" cy="533520"/>
          </a:xfrm>
          <a:prstGeom prst="wedgeRectCallout">
            <a:avLst>
              <a:gd name="adj1" fmla="val -77250"/>
              <a:gd name="adj2" fmla="val 150000"/>
            </a:avLst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id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943600" y="4038480"/>
            <a:ext cx="2971800" cy="533520"/>
          </a:xfrm>
          <a:prstGeom prst="wedgeRectCallout">
            <a:avLst>
              <a:gd name="adj1" fmla="val -29379"/>
              <a:gd name="adj2" fmla="val 147620"/>
            </a:avLst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 plan horizontal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3" name=""/>
          <p:cNvGrpSpPr/>
          <p:nvPr/>
        </p:nvGrpSpPr>
        <p:grpSpPr>
          <a:xfrm>
            <a:off x="1143000" y="5105520"/>
            <a:ext cx="5638680" cy="609480"/>
            <a:chOff x="1143000" y="5105520"/>
            <a:chExt cx="5638680" cy="609480"/>
          </a:xfrm>
        </p:grpSpPr>
        <p:sp>
          <p:nvSpPr>
            <p:cNvPr id="384" name=""/>
            <p:cNvSpPr/>
            <p:nvPr/>
          </p:nvSpPr>
          <p:spPr>
            <a:xfrm>
              <a:off x="1143000" y="5105520"/>
              <a:ext cx="5638680" cy="6094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1143000" y="5105520"/>
              <a:ext cx="56386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6" name=""/>
          <p:cNvSpPr/>
          <p:nvPr/>
        </p:nvSpPr>
        <p:spPr>
          <a:xfrm>
            <a:off x="2209680" y="3200400"/>
            <a:ext cx="3429000" cy="1905120"/>
          </a:xfrm>
          <a:prstGeom prst="rect">
            <a:avLst/>
          </a:prstGeom>
          <a:solidFill>
            <a:srgbClr val="b2b2b2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0" y="1420920"/>
            <a:ext cx="868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Comic Sans MS"/>
              </a:rPr>
              <a:t>Observons sur la figure ce qui se passe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921120" y="4038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3768840" y="41148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5410080" y="41148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638680" y="4114800"/>
            <a:ext cx="432000" cy="0"/>
          </a:xfrm>
          <a:prstGeom prst="line">
            <a:avLst/>
          </a:prstGeom>
          <a:ln w="5724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 flipH="1" flipV="1">
            <a:off x="3726360" y="2754720"/>
            <a:ext cx="329040" cy="2339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921120" y="4114800"/>
            <a:ext cx="0" cy="231300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4" name=""/>
          <p:cNvGrpSpPr/>
          <p:nvPr/>
        </p:nvGrpSpPr>
        <p:grpSpPr>
          <a:xfrm>
            <a:off x="1143000" y="5105520"/>
            <a:ext cx="5638680" cy="609480"/>
            <a:chOff x="1143000" y="5105520"/>
            <a:chExt cx="5638680" cy="609480"/>
          </a:xfrm>
        </p:grpSpPr>
        <p:sp>
          <p:nvSpPr>
            <p:cNvPr id="395" name=""/>
            <p:cNvSpPr/>
            <p:nvPr/>
          </p:nvSpPr>
          <p:spPr>
            <a:xfrm>
              <a:off x="1143000" y="5105520"/>
              <a:ext cx="5638680" cy="6094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143000" y="5105520"/>
              <a:ext cx="56386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/>
          <p:nvPr/>
        </p:nvSpPr>
        <p:spPr>
          <a:xfrm>
            <a:off x="2209680" y="3200400"/>
            <a:ext cx="3429000" cy="1905120"/>
          </a:xfrm>
          <a:prstGeom prst="rect">
            <a:avLst/>
          </a:prstGeom>
          <a:solidFill>
            <a:srgbClr val="b2b2b2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0" y="1420920"/>
            <a:ext cx="868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Comic Sans MS"/>
              </a:rPr>
              <a:t>Observons sur la figure ce qui se passe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921120" y="4038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768840" y="41148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410080" y="41148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638680" y="4114800"/>
            <a:ext cx="503280" cy="0"/>
          </a:xfrm>
          <a:prstGeom prst="line">
            <a:avLst/>
          </a:prstGeom>
          <a:ln w="5724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 flipH="1" flipV="1">
            <a:off x="3679560" y="2761200"/>
            <a:ext cx="410400" cy="23263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921120" y="4114800"/>
            <a:ext cx="0" cy="231300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5" name=""/>
          <p:cNvGrpSpPr/>
          <p:nvPr/>
        </p:nvGrpSpPr>
        <p:grpSpPr>
          <a:xfrm>
            <a:off x="1143000" y="5105520"/>
            <a:ext cx="5638680" cy="609480"/>
            <a:chOff x="1143000" y="5105520"/>
            <a:chExt cx="5638680" cy="609480"/>
          </a:xfrm>
        </p:grpSpPr>
        <p:sp>
          <p:nvSpPr>
            <p:cNvPr id="406" name=""/>
            <p:cNvSpPr/>
            <p:nvPr/>
          </p:nvSpPr>
          <p:spPr>
            <a:xfrm>
              <a:off x="1143000" y="5105520"/>
              <a:ext cx="5638680" cy="6094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1143000" y="5105520"/>
              <a:ext cx="56386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8" name=""/>
          <p:cNvSpPr/>
          <p:nvPr/>
        </p:nvSpPr>
        <p:spPr>
          <a:xfrm>
            <a:off x="2209680" y="3200400"/>
            <a:ext cx="3429000" cy="1905120"/>
          </a:xfrm>
          <a:prstGeom prst="rect">
            <a:avLst/>
          </a:prstGeom>
          <a:solidFill>
            <a:srgbClr val="b2b2b2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0" y="1420920"/>
            <a:ext cx="868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Comic Sans MS"/>
              </a:rPr>
              <a:t>Observons sur la figure ce qui se passe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921120" y="4038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3768840" y="41148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410080" y="41148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638680" y="4114800"/>
            <a:ext cx="576360" cy="0"/>
          </a:xfrm>
          <a:prstGeom prst="line">
            <a:avLst/>
          </a:prstGeom>
          <a:ln w="5724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 flipH="1" flipV="1">
            <a:off x="3631320" y="2769120"/>
            <a:ext cx="491040" cy="23104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921120" y="4114800"/>
            <a:ext cx="0" cy="231300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6" name=""/>
          <p:cNvGrpSpPr/>
          <p:nvPr/>
        </p:nvGrpSpPr>
        <p:grpSpPr>
          <a:xfrm>
            <a:off x="1143000" y="5105520"/>
            <a:ext cx="5638680" cy="609480"/>
            <a:chOff x="1143000" y="5105520"/>
            <a:chExt cx="5638680" cy="609480"/>
          </a:xfrm>
        </p:grpSpPr>
        <p:sp>
          <p:nvSpPr>
            <p:cNvPr id="417" name=""/>
            <p:cNvSpPr/>
            <p:nvPr/>
          </p:nvSpPr>
          <p:spPr>
            <a:xfrm>
              <a:off x="1143000" y="5105520"/>
              <a:ext cx="5638680" cy="6094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1143000" y="5105520"/>
              <a:ext cx="56386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9" name=""/>
          <p:cNvSpPr/>
          <p:nvPr/>
        </p:nvSpPr>
        <p:spPr>
          <a:xfrm>
            <a:off x="2209680" y="3200400"/>
            <a:ext cx="3429000" cy="1905120"/>
          </a:xfrm>
          <a:prstGeom prst="rect">
            <a:avLst/>
          </a:prstGeom>
          <a:solidFill>
            <a:srgbClr val="b2b2b2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0" y="1420920"/>
            <a:ext cx="868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Comic Sans MS"/>
              </a:rPr>
              <a:t>Observons sur la figure ce qui se passe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921120" y="4038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768840" y="41148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5410080" y="41148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638680" y="4114800"/>
            <a:ext cx="648000" cy="0"/>
          </a:xfrm>
          <a:prstGeom prst="line">
            <a:avLst/>
          </a:prstGeom>
          <a:ln w="5724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 flipH="1" flipV="1">
            <a:off x="3584520" y="2782800"/>
            <a:ext cx="571680" cy="22924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921120" y="4114800"/>
            <a:ext cx="0" cy="231300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7" name=""/>
          <p:cNvGrpSpPr/>
          <p:nvPr/>
        </p:nvGrpSpPr>
        <p:grpSpPr>
          <a:xfrm>
            <a:off x="1143000" y="5105520"/>
            <a:ext cx="5638680" cy="609480"/>
            <a:chOff x="1143000" y="5105520"/>
            <a:chExt cx="5638680" cy="609480"/>
          </a:xfrm>
        </p:grpSpPr>
        <p:sp>
          <p:nvSpPr>
            <p:cNvPr id="428" name=""/>
            <p:cNvSpPr/>
            <p:nvPr/>
          </p:nvSpPr>
          <p:spPr>
            <a:xfrm>
              <a:off x="1143000" y="5105520"/>
              <a:ext cx="5638680" cy="6094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1143000" y="5105520"/>
              <a:ext cx="56386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0" name=""/>
          <p:cNvSpPr/>
          <p:nvPr/>
        </p:nvSpPr>
        <p:spPr>
          <a:xfrm>
            <a:off x="2209680" y="3200400"/>
            <a:ext cx="3429000" cy="1905120"/>
          </a:xfrm>
          <a:prstGeom prst="rect">
            <a:avLst/>
          </a:prstGeom>
          <a:solidFill>
            <a:srgbClr val="b2b2b2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0" y="1420920"/>
            <a:ext cx="868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Comic Sans MS"/>
              </a:rPr>
              <a:t>Observons sur la figure ce qui se passe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3921120" y="4038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768840" y="41148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410080" y="41148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638680" y="4114800"/>
            <a:ext cx="719280" cy="0"/>
          </a:xfrm>
          <a:prstGeom prst="line">
            <a:avLst/>
          </a:prstGeom>
          <a:ln w="5724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flipH="1" flipV="1">
            <a:off x="3543120" y="2801520"/>
            <a:ext cx="650880" cy="22708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921120" y="4114800"/>
            <a:ext cx="0" cy="231300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8" name=""/>
          <p:cNvGrpSpPr/>
          <p:nvPr/>
        </p:nvGrpSpPr>
        <p:grpSpPr>
          <a:xfrm>
            <a:off x="1143000" y="5105520"/>
            <a:ext cx="5638680" cy="609480"/>
            <a:chOff x="1143000" y="5105520"/>
            <a:chExt cx="5638680" cy="609480"/>
          </a:xfrm>
        </p:grpSpPr>
        <p:sp>
          <p:nvSpPr>
            <p:cNvPr id="439" name=""/>
            <p:cNvSpPr/>
            <p:nvPr/>
          </p:nvSpPr>
          <p:spPr>
            <a:xfrm>
              <a:off x="1143000" y="5105520"/>
              <a:ext cx="5638680" cy="6094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143000" y="5105520"/>
              <a:ext cx="56386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1" name=""/>
          <p:cNvSpPr/>
          <p:nvPr/>
        </p:nvSpPr>
        <p:spPr>
          <a:xfrm>
            <a:off x="2209680" y="3200400"/>
            <a:ext cx="3429000" cy="1905120"/>
          </a:xfrm>
          <a:prstGeom prst="rect">
            <a:avLst/>
          </a:prstGeom>
          <a:solidFill>
            <a:srgbClr val="b2b2b2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0" y="1420920"/>
            <a:ext cx="868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Comic Sans MS"/>
              </a:rPr>
              <a:t>Observons sur la figure ce qui se passe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921120" y="4038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768840" y="41148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410080" y="41148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638680" y="4114800"/>
            <a:ext cx="792360" cy="0"/>
          </a:xfrm>
          <a:prstGeom prst="line">
            <a:avLst/>
          </a:prstGeom>
          <a:ln w="5724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 flipH="1" flipV="1">
            <a:off x="3486240" y="2812320"/>
            <a:ext cx="730080" cy="22464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921120" y="4114800"/>
            <a:ext cx="0" cy="231300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9" name=""/>
          <p:cNvGrpSpPr/>
          <p:nvPr/>
        </p:nvGrpSpPr>
        <p:grpSpPr>
          <a:xfrm>
            <a:off x="1143000" y="5105520"/>
            <a:ext cx="5638680" cy="609480"/>
            <a:chOff x="1143000" y="5105520"/>
            <a:chExt cx="5638680" cy="609480"/>
          </a:xfrm>
        </p:grpSpPr>
        <p:sp>
          <p:nvSpPr>
            <p:cNvPr id="450" name=""/>
            <p:cNvSpPr/>
            <p:nvPr/>
          </p:nvSpPr>
          <p:spPr>
            <a:xfrm>
              <a:off x="1143000" y="5105520"/>
              <a:ext cx="5638680" cy="6094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1143000" y="5105520"/>
              <a:ext cx="56386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2" name=""/>
          <p:cNvSpPr/>
          <p:nvPr/>
        </p:nvSpPr>
        <p:spPr>
          <a:xfrm>
            <a:off x="0" y="1420920"/>
            <a:ext cx="868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Comic Sans MS"/>
              </a:rPr>
              <a:t>Observons sur la figure ce qui se passe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84560" y="2812320"/>
            <a:ext cx="4220640" cy="3615480"/>
            <a:chOff x="2284560" y="2812320"/>
            <a:chExt cx="4220640" cy="3615480"/>
          </a:xfrm>
        </p:grpSpPr>
        <p:sp>
          <p:nvSpPr>
            <p:cNvPr id="454" name=""/>
            <p:cNvSpPr/>
            <p:nvPr/>
          </p:nvSpPr>
          <p:spPr>
            <a:xfrm>
              <a:off x="2284560" y="3200400"/>
              <a:ext cx="3428640" cy="1905120"/>
            </a:xfrm>
            <a:prstGeom prst="rect">
              <a:avLst/>
            </a:prstGeom>
            <a:solidFill>
              <a:srgbClr val="b2b2b2">
                <a:alpha val="50000"/>
              </a:srgbClr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3995640" y="40384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3843360" y="4114800"/>
              <a:ext cx="304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5484600" y="41148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5713200" y="4114800"/>
              <a:ext cx="792000" cy="0"/>
            </a:xfrm>
            <a:prstGeom prst="line">
              <a:avLst/>
            </a:prstGeom>
            <a:ln w="57240">
              <a:solidFill>
                <a:srgbClr val="00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flipH="1" flipV="1">
              <a:off x="3560760" y="2812320"/>
              <a:ext cx="730080" cy="22464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995640" y="4114800"/>
              <a:ext cx="0" cy="231300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1" name=""/>
          <p:cNvGrpSpPr/>
          <p:nvPr/>
        </p:nvGrpSpPr>
        <p:grpSpPr>
          <a:xfrm>
            <a:off x="1143000" y="5105520"/>
            <a:ext cx="5638680" cy="609480"/>
            <a:chOff x="1143000" y="5105520"/>
            <a:chExt cx="5638680" cy="609480"/>
          </a:xfrm>
        </p:grpSpPr>
        <p:sp>
          <p:nvSpPr>
            <p:cNvPr id="462" name=""/>
            <p:cNvSpPr/>
            <p:nvPr/>
          </p:nvSpPr>
          <p:spPr>
            <a:xfrm>
              <a:off x="1143000" y="5105520"/>
              <a:ext cx="5638680" cy="6094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1143000" y="5105520"/>
              <a:ext cx="56386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4" name=""/>
          <p:cNvSpPr/>
          <p:nvPr/>
        </p:nvSpPr>
        <p:spPr>
          <a:xfrm>
            <a:off x="2362320" y="3200400"/>
            <a:ext cx="3429000" cy="1905120"/>
          </a:xfrm>
          <a:prstGeom prst="rect">
            <a:avLst/>
          </a:prstGeom>
          <a:solidFill>
            <a:srgbClr val="b2b2b2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0" y="1420920"/>
            <a:ext cx="868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Comic Sans MS"/>
              </a:rPr>
              <a:t>Observons sur la figure ce qui se passe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073400" y="4038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921120" y="4114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5562720" y="41148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791320" y="4114800"/>
            <a:ext cx="792000" cy="0"/>
          </a:xfrm>
          <a:prstGeom prst="line">
            <a:avLst/>
          </a:prstGeom>
          <a:ln w="5724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 flipH="1" flipV="1">
            <a:off x="3645000" y="2812320"/>
            <a:ext cx="730080" cy="22464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4073400" y="4114800"/>
            <a:ext cx="0" cy="231300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2" name=""/>
          <p:cNvGrpSpPr/>
          <p:nvPr/>
        </p:nvGrpSpPr>
        <p:grpSpPr>
          <a:xfrm>
            <a:off x="1143000" y="5105520"/>
            <a:ext cx="5638680" cy="609480"/>
            <a:chOff x="1143000" y="5105520"/>
            <a:chExt cx="5638680" cy="609480"/>
          </a:xfrm>
        </p:grpSpPr>
        <p:sp>
          <p:nvSpPr>
            <p:cNvPr id="473" name=""/>
            <p:cNvSpPr/>
            <p:nvPr/>
          </p:nvSpPr>
          <p:spPr>
            <a:xfrm>
              <a:off x="1143000" y="5105520"/>
              <a:ext cx="5638680" cy="6094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1143000" y="5105520"/>
              <a:ext cx="56386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5" name=""/>
          <p:cNvSpPr/>
          <p:nvPr/>
        </p:nvSpPr>
        <p:spPr>
          <a:xfrm>
            <a:off x="0" y="1420920"/>
            <a:ext cx="868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Comic Sans MS"/>
              </a:rPr>
              <a:t>Observons sur la figure ce qui se passe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6" name=""/>
          <p:cNvGrpSpPr/>
          <p:nvPr/>
        </p:nvGrpSpPr>
        <p:grpSpPr>
          <a:xfrm>
            <a:off x="2435400" y="2812320"/>
            <a:ext cx="4221000" cy="3615480"/>
            <a:chOff x="2435400" y="2812320"/>
            <a:chExt cx="4221000" cy="3615480"/>
          </a:xfrm>
        </p:grpSpPr>
        <p:sp>
          <p:nvSpPr>
            <p:cNvPr id="477" name=""/>
            <p:cNvSpPr/>
            <p:nvPr/>
          </p:nvSpPr>
          <p:spPr>
            <a:xfrm>
              <a:off x="2435400" y="3200400"/>
              <a:ext cx="3429000" cy="1905120"/>
            </a:xfrm>
            <a:prstGeom prst="rect">
              <a:avLst/>
            </a:prstGeom>
            <a:solidFill>
              <a:srgbClr val="b2b2b2">
                <a:alpha val="50000"/>
              </a:srgbClr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4146480" y="40384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3994200" y="411480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5635800" y="41148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5864400" y="4114800"/>
              <a:ext cx="792000" cy="0"/>
            </a:xfrm>
            <a:prstGeom prst="line">
              <a:avLst/>
            </a:prstGeom>
            <a:ln w="57240">
              <a:solidFill>
                <a:srgbClr val="00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 flipH="1" flipV="1">
              <a:off x="3718080" y="2812320"/>
              <a:ext cx="730080" cy="22464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146480" y="4114800"/>
              <a:ext cx="0" cy="231300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4" name=""/>
          <p:cNvGrpSpPr/>
          <p:nvPr/>
        </p:nvGrpSpPr>
        <p:grpSpPr>
          <a:xfrm>
            <a:off x="1143000" y="5105520"/>
            <a:ext cx="5638680" cy="609480"/>
            <a:chOff x="1143000" y="5105520"/>
            <a:chExt cx="5638680" cy="609480"/>
          </a:xfrm>
        </p:grpSpPr>
        <p:sp>
          <p:nvSpPr>
            <p:cNvPr id="485" name=""/>
            <p:cNvSpPr/>
            <p:nvPr/>
          </p:nvSpPr>
          <p:spPr>
            <a:xfrm>
              <a:off x="1143000" y="5105520"/>
              <a:ext cx="5638680" cy="6094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1143000" y="5105520"/>
              <a:ext cx="56386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7" name=""/>
          <p:cNvSpPr/>
          <p:nvPr/>
        </p:nvSpPr>
        <p:spPr>
          <a:xfrm>
            <a:off x="2514600" y="3200400"/>
            <a:ext cx="3429000" cy="1905120"/>
          </a:xfrm>
          <a:prstGeom prst="rect">
            <a:avLst/>
          </a:prstGeom>
          <a:solidFill>
            <a:srgbClr val="b2b2b2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0" y="1420920"/>
            <a:ext cx="868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Comic Sans MS"/>
              </a:rPr>
              <a:t>Observons sur la figure ce qui se passe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4226040" y="4038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4073400" y="4114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715000" y="41148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43600" y="4114800"/>
            <a:ext cx="792000" cy="0"/>
          </a:xfrm>
          <a:prstGeom prst="line">
            <a:avLst/>
          </a:prstGeom>
          <a:ln w="5724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 flipH="1" flipV="1">
            <a:off x="3797280" y="2801160"/>
            <a:ext cx="730080" cy="22464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4226040" y="4114800"/>
            <a:ext cx="0" cy="231300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76212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Comic Sans MS"/>
              </a:rPr>
              <a:t>ON ISOLE LE SOLID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1143000" y="5105520"/>
            <a:ext cx="5638680" cy="609480"/>
            <a:chOff x="1143000" y="5105520"/>
            <a:chExt cx="5638680" cy="609480"/>
          </a:xfrm>
        </p:grpSpPr>
        <p:sp>
          <p:nvSpPr>
            <p:cNvPr id="57" name=""/>
            <p:cNvSpPr/>
            <p:nvPr/>
          </p:nvSpPr>
          <p:spPr>
            <a:xfrm>
              <a:off x="1143000" y="5105520"/>
              <a:ext cx="5638680" cy="6094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143000" y="5105520"/>
              <a:ext cx="56386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" name=""/>
          <p:cNvSpPr/>
          <p:nvPr/>
        </p:nvSpPr>
        <p:spPr>
          <a:xfrm>
            <a:off x="2209680" y="3200400"/>
            <a:ext cx="3429000" cy="1905120"/>
          </a:xfrm>
          <a:prstGeom prst="rect">
            <a:avLst/>
          </a:prstGeom>
          <a:solidFill>
            <a:srgbClr val="b2b2b2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5" name=""/>
          <p:cNvGrpSpPr/>
          <p:nvPr/>
        </p:nvGrpSpPr>
        <p:grpSpPr>
          <a:xfrm>
            <a:off x="1143000" y="5105520"/>
            <a:ext cx="5638680" cy="609480"/>
            <a:chOff x="1143000" y="5105520"/>
            <a:chExt cx="5638680" cy="609480"/>
          </a:xfrm>
        </p:grpSpPr>
        <p:sp>
          <p:nvSpPr>
            <p:cNvPr id="496" name=""/>
            <p:cNvSpPr/>
            <p:nvPr/>
          </p:nvSpPr>
          <p:spPr>
            <a:xfrm>
              <a:off x="1143000" y="5105520"/>
              <a:ext cx="5638680" cy="6094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1143000" y="5105520"/>
              <a:ext cx="56386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8" name=""/>
          <p:cNvSpPr/>
          <p:nvPr/>
        </p:nvSpPr>
        <p:spPr>
          <a:xfrm>
            <a:off x="0" y="1420920"/>
            <a:ext cx="868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Comic Sans MS"/>
              </a:rPr>
              <a:t>Observons sur la figure ce qui se passe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9" name=""/>
          <p:cNvGrpSpPr/>
          <p:nvPr/>
        </p:nvGrpSpPr>
        <p:grpSpPr>
          <a:xfrm>
            <a:off x="2590920" y="2801160"/>
            <a:ext cx="4221000" cy="3626640"/>
            <a:chOff x="2590920" y="2801160"/>
            <a:chExt cx="4221000" cy="3626640"/>
          </a:xfrm>
        </p:grpSpPr>
        <p:sp>
          <p:nvSpPr>
            <p:cNvPr id="500" name=""/>
            <p:cNvSpPr/>
            <p:nvPr/>
          </p:nvSpPr>
          <p:spPr>
            <a:xfrm>
              <a:off x="2590920" y="3200400"/>
              <a:ext cx="3429000" cy="1905120"/>
            </a:xfrm>
            <a:prstGeom prst="rect">
              <a:avLst/>
            </a:prstGeom>
            <a:solidFill>
              <a:srgbClr val="b2b2b2">
                <a:alpha val="50000"/>
              </a:srgbClr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4302360" y="40384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4149720" y="411480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5791320" y="41148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6019920" y="4114800"/>
              <a:ext cx="792000" cy="0"/>
            </a:xfrm>
            <a:prstGeom prst="line">
              <a:avLst/>
            </a:prstGeom>
            <a:ln w="57240">
              <a:solidFill>
                <a:srgbClr val="00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 flipH="1" flipV="1">
              <a:off x="3873600" y="2801160"/>
              <a:ext cx="730080" cy="22464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4302360" y="4114800"/>
              <a:ext cx="0" cy="231300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7" name=""/>
          <p:cNvGrpSpPr/>
          <p:nvPr/>
        </p:nvGrpSpPr>
        <p:grpSpPr>
          <a:xfrm>
            <a:off x="1143000" y="5105520"/>
            <a:ext cx="5638680" cy="609480"/>
            <a:chOff x="1143000" y="5105520"/>
            <a:chExt cx="5638680" cy="609480"/>
          </a:xfrm>
        </p:grpSpPr>
        <p:sp>
          <p:nvSpPr>
            <p:cNvPr id="508" name=""/>
            <p:cNvSpPr/>
            <p:nvPr/>
          </p:nvSpPr>
          <p:spPr>
            <a:xfrm>
              <a:off x="1143000" y="5105520"/>
              <a:ext cx="5638680" cy="6094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1143000" y="5105520"/>
              <a:ext cx="56386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0" name=""/>
          <p:cNvSpPr/>
          <p:nvPr/>
        </p:nvSpPr>
        <p:spPr>
          <a:xfrm>
            <a:off x="2666880" y="3200400"/>
            <a:ext cx="3429000" cy="1905120"/>
          </a:xfrm>
          <a:prstGeom prst="rect">
            <a:avLst/>
          </a:prstGeom>
          <a:solidFill>
            <a:srgbClr val="b2b2b2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0" y="1420920"/>
            <a:ext cx="868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Comic Sans MS"/>
              </a:rPr>
              <a:t>Observons sur la figure ce qui se passe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4378320" y="4038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4226040" y="41148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5867280" y="41148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6095880" y="4114800"/>
            <a:ext cx="792360" cy="0"/>
          </a:xfrm>
          <a:prstGeom prst="line">
            <a:avLst/>
          </a:prstGeom>
          <a:ln w="5724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 flipH="1" flipV="1">
            <a:off x="3944880" y="2801160"/>
            <a:ext cx="730080" cy="22464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4378320" y="4114800"/>
            <a:ext cx="0" cy="231300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8" name=""/>
          <p:cNvGrpSpPr/>
          <p:nvPr/>
        </p:nvGrpSpPr>
        <p:grpSpPr>
          <a:xfrm>
            <a:off x="1143000" y="5105520"/>
            <a:ext cx="5638680" cy="609480"/>
            <a:chOff x="1143000" y="5105520"/>
            <a:chExt cx="5638680" cy="609480"/>
          </a:xfrm>
        </p:grpSpPr>
        <p:sp>
          <p:nvSpPr>
            <p:cNvPr id="519" name=""/>
            <p:cNvSpPr/>
            <p:nvPr/>
          </p:nvSpPr>
          <p:spPr>
            <a:xfrm>
              <a:off x="1143000" y="5105520"/>
              <a:ext cx="5638680" cy="6094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143000" y="5105520"/>
              <a:ext cx="56386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1" name=""/>
          <p:cNvSpPr/>
          <p:nvPr/>
        </p:nvSpPr>
        <p:spPr>
          <a:xfrm>
            <a:off x="0" y="1420920"/>
            <a:ext cx="868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Comic Sans MS"/>
              </a:rPr>
              <a:t>Observons sur la figure ce qui se passe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2741760" y="2801160"/>
            <a:ext cx="4220640" cy="3626640"/>
            <a:chOff x="2741760" y="2801160"/>
            <a:chExt cx="4220640" cy="3626640"/>
          </a:xfrm>
        </p:grpSpPr>
        <p:sp>
          <p:nvSpPr>
            <p:cNvPr id="523" name=""/>
            <p:cNvSpPr/>
            <p:nvPr/>
          </p:nvSpPr>
          <p:spPr>
            <a:xfrm>
              <a:off x="2741760" y="3200400"/>
              <a:ext cx="3428640" cy="1905120"/>
            </a:xfrm>
            <a:prstGeom prst="rect">
              <a:avLst/>
            </a:prstGeom>
            <a:solidFill>
              <a:srgbClr val="b2b2b2">
                <a:alpha val="50000"/>
              </a:srgbClr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4452840" y="40384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4300560" y="4114800"/>
              <a:ext cx="304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941800" y="41148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170400" y="4114800"/>
              <a:ext cx="792000" cy="0"/>
            </a:xfrm>
            <a:prstGeom prst="line">
              <a:avLst/>
            </a:prstGeom>
            <a:ln w="57240">
              <a:solidFill>
                <a:srgbClr val="00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 flipH="1" flipV="1">
              <a:off x="4019400" y="2801160"/>
              <a:ext cx="730080" cy="22464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452840" y="4114800"/>
              <a:ext cx="0" cy="231300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0" name=""/>
          <p:cNvGrpSpPr/>
          <p:nvPr/>
        </p:nvGrpSpPr>
        <p:grpSpPr>
          <a:xfrm>
            <a:off x="1143000" y="5105520"/>
            <a:ext cx="5638680" cy="609480"/>
            <a:chOff x="1143000" y="5105520"/>
            <a:chExt cx="5638680" cy="609480"/>
          </a:xfrm>
        </p:grpSpPr>
        <p:sp>
          <p:nvSpPr>
            <p:cNvPr id="531" name=""/>
            <p:cNvSpPr/>
            <p:nvPr/>
          </p:nvSpPr>
          <p:spPr>
            <a:xfrm>
              <a:off x="1143000" y="5105520"/>
              <a:ext cx="5638680" cy="6094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1143000" y="5105520"/>
              <a:ext cx="56386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3" name=""/>
          <p:cNvSpPr/>
          <p:nvPr/>
        </p:nvSpPr>
        <p:spPr>
          <a:xfrm>
            <a:off x="0" y="1420920"/>
            <a:ext cx="868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Comic Sans MS"/>
              </a:rPr>
              <a:t>Observons sur la figure ce qui se passe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4" name=""/>
          <p:cNvGrpSpPr/>
          <p:nvPr/>
        </p:nvGrpSpPr>
        <p:grpSpPr>
          <a:xfrm>
            <a:off x="2819520" y="2813760"/>
            <a:ext cx="4221000" cy="3614040"/>
            <a:chOff x="2819520" y="2813760"/>
            <a:chExt cx="4221000" cy="3614040"/>
          </a:xfrm>
        </p:grpSpPr>
        <p:sp>
          <p:nvSpPr>
            <p:cNvPr id="535" name=""/>
            <p:cNvSpPr/>
            <p:nvPr/>
          </p:nvSpPr>
          <p:spPr>
            <a:xfrm>
              <a:off x="2819520" y="3200400"/>
              <a:ext cx="3429000" cy="1905120"/>
            </a:xfrm>
            <a:prstGeom prst="rect">
              <a:avLst/>
            </a:prstGeom>
            <a:solidFill>
              <a:srgbClr val="b2b2b2">
                <a:alpha val="50000"/>
              </a:srgbClr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4530600" y="40384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78320" y="411480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6019920" y="41148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6248520" y="4114800"/>
              <a:ext cx="792000" cy="0"/>
            </a:xfrm>
            <a:prstGeom prst="line">
              <a:avLst/>
            </a:prstGeom>
            <a:ln w="57240">
              <a:solidFill>
                <a:srgbClr val="00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 flipH="1" flipV="1">
              <a:off x="4102200" y="2813760"/>
              <a:ext cx="730080" cy="22464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4530600" y="4114800"/>
              <a:ext cx="0" cy="231300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2" name=""/>
          <p:cNvGrpSpPr/>
          <p:nvPr/>
        </p:nvGrpSpPr>
        <p:grpSpPr>
          <a:xfrm>
            <a:off x="1143000" y="5105520"/>
            <a:ext cx="5638680" cy="609480"/>
            <a:chOff x="1143000" y="5105520"/>
            <a:chExt cx="5638680" cy="609480"/>
          </a:xfrm>
        </p:grpSpPr>
        <p:sp>
          <p:nvSpPr>
            <p:cNvPr id="543" name=""/>
            <p:cNvSpPr/>
            <p:nvPr/>
          </p:nvSpPr>
          <p:spPr>
            <a:xfrm>
              <a:off x="1143000" y="5105520"/>
              <a:ext cx="5638680" cy="6094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143000" y="5105520"/>
              <a:ext cx="56386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5" name=""/>
          <p:cNvSpPr/>
          <p:nvPr/>
        </p:nvSpPr>
        <p:spPr>
          <a:xfrm>
            <a:off x="0" y="1420920"/>
            <a:ext cx="868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Comic Sans MS"/>
              </a:rPr>
              <a:t>Observons sur la figure ce qui se passe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2895480" y="3198960"/>
            <a:ext cx="3429000" cy="1904760"/>
          </a:xfrm>
          <a:prstGeom prst="rect">
            <a:avLst/>
          </a:prstGeom>
          <a:solidFill>
            <a:srgbClr val="b2b2b2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4606920" y="4025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4454640" y="41022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6095880" y="41022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6324480" y="4102200"/>
            <a:ext cx="792360" cy="0"/>
          </a:xfrm>
          <a:prstGeom prst="line">
            <a:avLst/>
          </a:prstGeom>
          <a:ln w="5724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 flipH="1" flipV="1">
            <a:off x="4178520" y="2801160"/>
            <a:ext cx="730080" cy="22464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4606920" y="4102200"/>
            <a:ext cx="0" cy="231300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3" name=""/>
          <p:cNvGrpSpPr/>
          <p:nvPr/>
        </p:nvGrpSpPr>
        <p:grpSpPr>
          <a:xfrm>
            <a:off x="1143000" y="5105520"/>
            <a:ext cx="5638680" cy="609480"/>
            <a:chOff x="1143000" y="5105520"/>
            <a:chExt cx="5638680" cy="609480"/>
          </a:xfrm>
        </p:grpSpPr>
        <p:sp>
          <p:nvSpPr>
            <p:cNvPr id="554" name=""/>
            <p:cNvSpPr/>
            <p:nvPr/>
          </p:nvSpPr>
          <p:spPr>
            <a:xfrm>
              <a:off x="1143000" y="5105520"/>
              <a:ext cx="5638680" cy="6094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1143000" y="5105520"/>
              <a:ext cx="56386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6" name=""/>
          <p:cNvSpPr/>
          <p:nvPr/>
        </p:nvSpPr>
        <p:spPr>
          <a:xfrm>
            <a:off x="0" y="1420920"/>
            <a:ext cx="868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Comic Sans MS"/>
              </a:rPr>
              <a:t>Observons sur la figure ce qui se passe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2971800" y="3198960"/>
            <a:ext cx="3429000" cy="1904760"/>
          </a:xfrm>
          <a:prstGeom prst="rect">
            <a:avLst/>
          </a:prstGeom>
          <a:solidFill>
            <a:srgbClr val="b2b2b2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4683240" y="40226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4530600" y="409896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6172200" y="409896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6400800" y="4098960"/>
            <a:ext cx="792000" cy="0"/>
          </a:xfrm>
          <a:prstGeom prst="line">
            <a:avLst/>
          </a:prstGeom>
          <a:ln w="5724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 flipH="1" flipV="1">
            <a:off x="4257720" y="2801160"/>
            <a:ext cx="730080" cy="22464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4683240" y="4098960"/>
            <a:ext cx="0" cy="231300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4" name=""/>
          <p:cNvGrpSpPr/>
          <p:nvPr/>
        </p:nvGrpSpPr>
        <p:grpSpPr>
          <a:xfrm>
            <a:off x="1143000" y="5105520"/>
            <a:ext cx="5638680" cy="609480"/>
            <a:chOff x="1143000" y="5105520"/>
            <a:chExt cx="5638680" cy="609480"/>
          </a:xfrm>
        </p:grpSpPr>
        <p:sp>
          <p:nvSpPr>
            <p:cNvPr id="565" name=""/>
            <p:cNvSpPr/>
            <p:nvPr/>
          </p:nvSpPr>
          <p:spPr>
            <a:xfrm>
              <a:off x="1143000" y="5105520"/>
              <a:ext cx="5638680" cy="6094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143000" y="5105520"/>
              <a:ext cx="56386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7" name=""/>
          <p:cNvSpPr/>
          <p:nvPr/>
        </p:nvSpPr>
        <p:spPr>
          <a:xfrm>
            <a:off x="0" y="1420920"/>
            <a:ext cx="868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Comic Sans MS"/>
              </a:rPr>
              <a:t>Observons sur la figure ce qui se passe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3048120" y="3198960"/>
            <a:ext cx="3429000" cy="1904760"/>
          </a:xfrm>
          <a:prstGeom prst="rect">
            <a:avLst/>
          </a:prstGeom>
          <a:solidFill>
            <a:srgbClr val="b2b2b2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4759200" y="40226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4606920" y="409896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6248520" y="409896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6477120" y="4098960"/>
            <a:ext cx="792000" cy="0"/>
          </a:xfrm>
          <a:prstGeom prst="line">
            <a:avLst/>
          </a:prstGeom>
          <a:ln w="5724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 flipH="1" flipV="1">
            <a:off x="4334040" y="2801160"/>
            <a:ext cx="730080" cy="22464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4759200" y="4098960"/>
            <a:ext cx="0" cy="231300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5" name=""/>
          <p:cNvGrpSpPr/>
          <p:nvPr/>
        </p:nvGrpSpPr>
        <p:grpSpPr>
          <a:xfrm>
            <a:off x="1143000" y="5105520"/>
            <a:ext cx="5638680" cy="609480"/>
            <a:chOff x="1143000" y="5105520"/>
            <a:chExt cx="5638680" cy="609480"/>
          </a:xfrm>
        </p:grpSpPr>
        <p:sp>
          <p:nvSpPr>
            <p:cNvPr id="576" name=""/>
            <p:cNvSpPr/>
            <p:nvPr/>
          </p:nvSpPr>
          <p:spPr>
            <a:xfrm>
              <a:off x="1143000" y="5105520"/>
              <a:ext cx="5638680" cy="6094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143000" y="5105520"/>
              <a:ext cx="56386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8" name=""/>
          <p:cNvSpPr/>
          <p:nvPr/>
        </p:nvSpPr>
        <p:spPr>
          <a:xfrm>
            <a:off x="0" y="1420920"/>
            <a:ext cx="868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Comic Sans MS"/>
              </a:rPr>
              <a:t>Observons sur la figure ce qui se passe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3124080" y="3200400"/>
            <a:ext cx="3429000" cy="1905120"/>
          </a:xfrm>
          <a:prstGeom prst="rect">
            <a:avLst/>
          </a:prstGeom>
          <a:solidFill>
            <a:srgbClr val="b2b2b2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4835520" y="4038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4683240" y="41148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6324480" y="41148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6553080" y="4114800"/>
            <a:ext cx="792360" cy="0"/>
          </a:xfrm>
          <a:prstGeom prst="line">
            <a:avLst/>
          </a:prstGeom>
          <a:ln w="5724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 flipH="1" flipV="1">
            <a:off x="4407120" y="2812320"/>
            <a:ext cx="730080" cy="22464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4835520" y="4114800"/>
            <a:ext cx="0" cy="231300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6" name=""/>
          <p:cNvGrpSpPr/>
          <p:nvPr/>
        </p:nvGrpSpPr>
        <p:grpSpPr>
          <a:xfrm>
            <a:off x="1143000" y="5105520"/>
            <a:ext cx="5638680" cy="609480"/>
            <a:chOff x="1143000" y="5105520"/>
            <a:chExt cx="5638680" cy="609480"/>
          </a:xfrm>
        </p:grpSpPr>
        <p:sp>
          <p:nvSpPr>
            <p:cNvPr id="587" name=""/>
            <p:cNvSpPr/>
            <p:nvPr/>
          </p:nvSpPr>
          <p:spPr>
            <a:xfrm>
              <a:off x="1143000" y="5105520"/>
              <a:ext cx="5638680" cy="6094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1143000" y="5105520"/>
              <a:ext cx="56386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9" name=""/>
          <p:cNvSpPr/>
          <p:nvPr/>
        </p:nvSpPr>
        <p:spPr>
          <a:xfrm>
            <a:off x="0" y="1420920"/>
            <a:ext cx="868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Comic Sans MS"/>
              </a:rPr>
              <a:t>Observons sur la figure ce qui se passe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3200400" y="3200400"/>
            <a:ext cx="3429000" cy="1905120"/>
          </a:xfrm>
          <a:prstGeom prst="rect">
            <a:avLst/>
          </a:prstGeom>
          <a:solidFill>
            <a:srgbClr val="b2b2b2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4911840" y="4038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4759200" y="4114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6400800" y="41148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6629400" y="4114800"/>
            <a:ext cx="792000" cy="0"/>
          </a:xfrm>
          <a:prstGeom prst="line">
            <a:avLst/>
          </a:prstGeom>
          <a:ln w="5724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 flipH="1" flipV="1">
            <a:off x="4483080" y="2812320"/>
            <a:ext cx="730080" cy="22464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911840" y="4114800"/>
            <a:ext cx="0" cy="231300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7" name=""/>
          <p:cNvGrpSpPr/>
          <p:nvPr/>
        </p:nvGrpSpPr>
        <p:grpSpPr>
          <a:xfrm>
            <a:off x="1143000" y="5105520"/>
            <a:ext cx="5638680" cy="609480"/>
            <a:chOff x="1143000" y="5105520"/>
            <a:chExt cx="5638680" cy="609480"/>
          </a:xfrm>
        </p:grpSpPr>
        <p:sp>
          <p:nvSpPr>
            <p:cNvPr id="598" name=""/>
            <p:cNvSpPr/>
            <p:nvPr/>
          </p:nvSpPr>
          <p:spPr>
            <a:xfrm>
              <a:off x="1143000" y="5105520"/>
              <a:ext cx="5638680" cy="6094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1143000" y="5105520"/>
              <a:ext cx="56386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0" name=""/>
          <p:cNvSpPr/>
          <p:nvPr/>
        </p:nvSpPr>
        <p:spPr>
          <a:xfrm>
            <a:off x="3276720" y="3200400"/>
            <a:ext cx="3429000" cy="1905120"/>
          </a:xfrm>
          <a:prstGeom prst="rect">
            <a:avLst/>
          </a:prstGeom>
          <a:solidFill>
            <a:srgbClr val="b2b2b2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0" y="1420920"/>
            <a:ext cx="868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Comic Sans MS"/>
              </a:rPr>
              <a:t>Observons sur la figure ce qui se passe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4987800" y="4038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4835520" y="4114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6477120" y="41148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6705720" y="4114800"/>
            <a:ext cx="792000" cy="0"/>
          </a:xfrm>
          <a:prstGeom prst="line">
            <a:avLst/>
          </a:prstGeom>
          <a:ln w="5724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 flipH="1" flipV="1">
            <a:off x="4562640" y="2805840"/>
            <a:ext cx="730080" cy="22464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4987800" y="4114800"/>
            <a:ext cx="0" cy="231300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>
            <a:hlinkClick r:id="" action="ppaction://hlinkshowjump?jump=nextslide"/>
          </p:cNvPr>
          <p:cNvSpPr/>
          <p:nvPr/>
        </p:nvSpPr>
        <p:spPr>
          <a:xfrm>
            <a:off x="8682120" y="6551640"/>
            <a:ext cx="457200" cy="304920"/>
          </a:xfrm>
          <a:custGeom>
            <a:avLst/>
            <a:gdLst>
              <a:gd name="textAreaLeft" fmla="*/ 65160 w 457200"/>
              <a:gd name="textAreaRight" fmla="*/ 392040 w 457200"/>
              <a:gd name="textAreaTop" fmla="*/ 65160 h 304920"/>
              <a:gd name="textAreaBottom" fmla="*/ 23976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27762" y="4613"/>
                </a:lnTo>
                <a:lnTo>
                  <a:pt x="4613" y="4613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27762" y="16987"/>
                </a:lnTo>
                <a:lnTo>
                  <a:pt x="27762" y="4613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4613" y="16987"/>
                </a:lnTo>
                <a:lnTo>
                  <a:pt x="27762" y="16987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4613" y="4613"/>
                </a:lnTo>
                <a:lnTo>
                  <a:pt x="4613" y="16987"/>
                </a:lnTo>
                <a:close/>
              </a:path>
              <a:path fill="darken" w="32375" h="21600">
                <a:moveTo>
                  <a:pt x="11576" y="6188"/>
                </a:moveTo>
                <a:lnTo>
                  <a:pt x="20799" y="10800"/>
                </a:lnTo>
                <a:lnTo>
                  <a:pt x="11576" y="15412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>
            <a:hlinkClick r:id="" action="ppaction://hlinkshowjump?jump=previousslide"/>
          </p:cNvPr>
          <p:cNvSpPr/>
          <p:nvPr/>
        </p:nvSpPr>
        <p:spPr>
          <a:xfrm>
            <a:off x="633240" y="6551640"/>
            <a:ext cx="457200" cy="304920"/>
          </a:xfrm>
          <a:custGeom>
            <a:avLst/>
            <a:gdLst>
              <a:gd name="textAreaLeft" fmla="*/ 60120 w 457200"/>
              <a:gd name="textAreaRight" fmla="*/ 397080 w 457200"/>
              <a:gd name="textAreaTop" fmla="*/ 60120 h 304920"/>
              <a:gd name="textAreaBottom" fmla="*/ 24480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28100" y="4275"/>
                </a:lnTo>
                <a:lnTo>
                  <a:pt x="4275" y="4275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28100" y="17325"/>
                </a:lnTo>
                <a:lnTo>
                  <a:pt x="28100" y="4275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4275" y="17325"/>
                </a:lnTo>
                <a:lnTo>
                  <a:pt x="28100" y="17325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4275" y="4275"/>
                </a:lnTo>
                <a:lnTo>
                  <a:pt x="4275" y="17325"/>
                </a:lnTo>
                <a:close/>
              </a:path>
              <a:path fill="darken" w="32375" h="21600">
                <a:moveTo>
                  <a:pt x="11324" y="10800"/>
                </a:moveTo>
                <a:lnTo>
                  <a:pt x="21051" y="5936"/>
                </a:lnTo>
                <a:lnTo>
                  <a:pt x="21051" y="15664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>
            <a:hlinkClick r:id="" action="ppaction://hlinkshowjump?jump=firstslide"/>
          </p:cNvPr>
          <p:cNvSpPr/>
          <p:nvPr/>
        </p:nvSpPr>
        <p:spPr>
          <a:xfrm>
            <a:off x="0" y="6551640"/>
            <a:ext cx="457200" cy="304920"/>
          </a:xfrm>
          <a:custGeom>
            <a:avLst/>
            <a:gdLst>
              <a:gd name="textAreaLeft" fmla="*/ 58680 w 457200"/>
              <a:gd name="textAreaRight" fmla="*/ 398520 w 457200"/>
              <a:gd name="textAreaTop" fmla="*/ 58680 h 304920"/>
              <a:gd name="textAreaBottom" fmla="*/ 24624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28212" y="4163"/>
                </a:lnTo>
                <a:lnTo>
                  <a:pt x="4163" y="4163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28212" y="17437"/>
                </a:lnTo>
                <a:lnTo>
                  <a:pt x="28212" y="4163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4163" y="17437"/>
                </a:lnTo>
                <a:lnTo>
                  <a:pt x="28212" y="17437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4163" y="4163"/>
                </a:lnTo>
                <a:lnTo>
                  <a:pt x="4163" y="17437"/>
                </a:lnTo>
                <a:close/>
              </a:path>
              <a:path fill="darken" w="32375" h="21600">
                <a:moveTo>
                  <a:pt x="13717" y="10800"/>
                </a:moveTo>
                <a:lnTo>
                  <a:pt x="21134" y="5853"/>
                </a:lnTo>
                <a:lnTo>
                  <a:pt x="21134" y="15747"/>
                </a:lnTo>
                <a:close/>
              </a:path>
              <a:path fill="darken" w="32375" h="21600">
                <a:moveTo>
                  <a:pt x="11240" y="5853"/>
                </a:moveTo>
                <a:lnTo>
                  <a:pt x="12414" y="5853"/>
                </a:lnTo>
                <a:lnTo>
                  <a:pt x="12414" y="15747"/>
                </a:lnTo>
                <a:lnTo>
                  <a:pt x="11240" y="15747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>
            <a:hlinkClick r:id="" action="ppaction://hlinkshowjump?jump=nextslide"/>
          </p:cNvPr>
          <p:cNvSpPr/>
          <p:nvPr/>
        </p:nvSpPr>
        <p:spPr>
          <a:xfrm>
            <a:off x="8682120" y="6553080"/>
            <a:ext cx="457200" cy="304920"/>
          </a:xfrm>
          <a:custGeom>
            <a:avLst/>
            <a:gdLst>
              <a:gd name="textAreaLeft" fmla="*/ 65160 w 457200"/>
              <a:gd name="textAreaRight" fmla="*/ 392040 w 457200"/>
              <a:gd name="textAreaTop" fmla="*/ 65160 h 304920"/>
              <a:gd name="textAreaBottom" fmla="*/ 23976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27762" y="4613"/>
                </a:lnTo>
                <a:lnTo>
                  <a:pt x="4613" y="4613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27762" y="16987"/>
                </a:lnTo>
                <a:lnTo>
                  <a:pt x="27762" y="4613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4613" y="16987"/>
                </a:lnTo>
                <a:lnTo>
                  <a:pt x="27762" y="16987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4613" y="4613"/>
                </a:lnTo>
                <a:lnTo>
                  <a:pt x="4613" y="16987"/>
                </a:lnTo>
                <a:close/>
              </a:path>
              <a:path fill="darken" w="32375" h="21600">
                <a:moveTo>
                  <a:pt x="11576" y="6188"/>
                </a:moveTo>
                <a:lnTo>
                  <a:pt x="20799" y="10800"/>
                </a:lnTo>
                <a:lnTo>
                  <a:pt x="11576" y="15412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>
            <a:hlinkClick r:id="" action="ppaction://hlinkshowjump?jump=previousslide"/>
          </p:cNvPr>
          <p:cNvSpPr/>
          <p:nvPr/>
        </p:nvSpPr>
        <p:spPr>
          <a:xfrm>
            <a:off x="722160" y="6553080"/>
            <a:ext cx="457200" cy="304920"/>
          </a:xfrm>
          <a:custGeom>
            <a:avLst/>
            <a:gdLst>
              <a:gd name="textAreaLeft" fmla="*/ 47520 w 457200"/>
              <a:gd name="textAreaRight" fmla="*/ 409680 w 457200"/>
              <a:gd name="textAreaTop" fmla="*/ 47520 h 304920"/>
              <a:gd name="textAreaBottom" fmla="*/ 25740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29000" y="3375"/>
                </a:lnTo>
                <a:lnTo>
                  <a:pt x="3375" y="3375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29000" y="18225"/>
                </a:lnTo>
                <a:lnTo>
                  <a:pt x="29000" y="3375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3375" y="18225"/>
                </a:lnTo>
                <a:lnTo>
                  <a:pt x="29000" y="18225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3375" y="3375"/>
                </a:lnTo>
                <a:lnTo>
                  <a:pt x="3375" y="18225"/>
                </a:lnTo>
                <a:close/>
              </a:path>
              <a:path fill="darken" w="32375" h="21600">
                <a:moveTo>
                  <a:pt x="10653" y="10800"/>
                </a:moveTo>
                <a:lnTo>
                  <a:pt x="21722" y="5266"/>
                </a:lnTo>
                <a:lnTo>
                  <a:pt x="21722" y="16334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1295280"/>
            <a:ext cx="7772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Comic Sans MS"/>
              </a:rPr>
              <a:t>ON ISOLE LE SOLID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1143000" y="5105520"/>
            <a:ext cx="5638680" cy="609480"/>
            <a:chOff x="1143000" y="5105520"/>
            <a:chExt cx="5638680" cy="609480"/>
          </a:xfrm>
        </p:grpSpPr>
        <p:sp>
          <p:nvSpPr>
            <p:cNvPr id="64" name=""/>
            <p:cNvSpPr/>
            <p:nvPr/>
          </p:nvSpPr>
          <p:spPr>
            <a:xfrm>
              <a:off x="1143000" y="5105520"/>
              <a:ext cx="5638680" cy="6094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143000" y="5105520"/>
              <a:ext cx="56386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2209680" y="3200400"/>
            <a:ext cx="3429000" cy="1905120"/>
          </a:xfrm>
          <a:prstGeom prst="rect">
            <a:avLst/>
          </a:prstGeom>
          <a:solidFill>
            <a:srgbClr val="b2b2b2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1217520" y="5200560"/>
            <a:ext cx="5638680" cy="609480"/>
            <a:chOff x="1217520" y="5200560"/>
            <a:chExt cx="5638680" cy="609480"/>
          </a:xfrm>
        </p:grpSpPr>
        <p:sp>
          <p:nvSpPr>
            <p:cNvPr id="68" name=""/>
            <p:cNvSpPr/>
            <p:nvPr/>
          </p:nvSpPr>
          <p:spPr>
            <a:xfrm>
              <a:off x="1217520" y="5200560"/>
              <a:ext cx="5638680" cy="60948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17520" y="5200560"/>
              <a:ext cx="56386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1305000" y="5291280"/>
            <a:ext cx="5638680" cy="609480"/>
            <a:chOff x="1305000" y="5291280"/>
            <a:chExt cx="5638680" cy="609480"/>
          </a:xfrm>
        </p:grpSpPr>
        <p:sp>
          <p:nvSpPr>
            <p:cNvPr id="71" name=""/>
            <p:cNvSpPr/>
            <p:nvPr/>
          </p:nvSpPr>
          <p:spPr>
            <a:xfrm>
              <a:off x="1305000" y="5291280"/>
              <a:ext cx="5638680" cy="60948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305000" y="5291280"/>
              <a:ext cx="56386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" name=""/>
          <p:cNvGrpSpPr/>
          <p:nvPr/>
        </p:nvGrpSpPr>
        <p:grpSpPr>
          <a:xfrm>
            <a:off x="1415880" y="5372280"/>
            <a:ext cx="5638680" cy="609480"/>
            <a:chOff x="1415880" y="5372280"/>
            <a:chExt cx="5638680" cy="609480"/>
          </a:xfrm>
        </p:grpSpPr>
        <p:sp>
          <p:nvSpPr>
            <p:cNvPr id="74" name=""/>
            <p:cNvSpPr/>
            <p:nvPr/>
          </p:nvSpPr>
          <p:spPr>
            <a:xfrm>
              <a:off x="1415880" y="5372280"/>
              <a:ext cx="5638680" cy="60948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415880" y="5372280"/>
              <a:ext cx="56386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1522440" y="5465880"/>
            <a:ext cx="5638680" cy="609480"/>
            <a:chOff x="1522440" y="5465880"/>
            <a:chExt cx="5638680" cy="609480"/>
          </a:xfrm>
        </p:grpSpPr>
        <p:sp>
          <p:nvSpPr>
            <p:cNvPr id="77" name=""/>
            <p:cNvSpPr/>
            <p:nvPr/>
          </p:nvSpPr>
          <p:spPr>
            <a:xfrm>
              <a:off x="1522440" y="5465880"/>
              <a:ext cx="5638680" cy="60948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522440" y="5465880"/>
              <a:ext cx="56386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" name=""/>
          <p:cNvGrpSpPr/>
          <p:nvPr/>
        </p:nvGrpSpPr>
        <p:grpSpPr>
          <a:xfrm>
            <a:off x="1638360" y="5556240"/>
            <a:ext cx="5638680" cy="609480"/>
            <a:chOff x="1638360" y="5556240"/>
            <a:chExt cx="5638680" cy="609480"/>
          </a:xfrm>
        </p:grpSpPr>
        <p:sp>
          <p:nvSpPr>
            <p:cNvPr id="80" name=""/>
            <p:cNvSpPr/>
            <p:nvPr/>
          </p:nvSpPr>
          <p:spPr>
            <a:xfrm>
              <a:off x="1638360" y="5556240"/>
              <a:ext cx="5638680" cy="60948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638360" y="5556240"/>
              <a:ext cx="56386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1746360" y="5645160"/>
            <a:ext cx="5638680" cy="609480"/>
            <a:chOff x="1746360" y="5645160"/>
            <a:chExt cx="5638680" cy="609480"/>
          </a:xfrm>
        </p:grpSpPr>
        <p:sp>
          <p:nvSpPr>
            <p:cNvPr id="83" name=""/>
            <p:cNvSpPr/>
            <p:nvPr/>
          </p:nvSpPr>
          <p:spPr>
            <a:xfrm>
              <a:off x="1746360" y="5645160"/>
              <a:ext cx="5638680" cy="60948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746360" y="5645160"/>
              <a:ext cx="56386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" name=""/>
          <p:cNvGrpSpPr/>
          <p:nvPr/>
        </p:nvGrpSpPr>
        <p:grpSpPr>
          <a:xfrm>
            <a:off x="1841400" y="5734080"/>
            <a:ext cx="5638680" cy="609480"/>
            <a:chOff x="1841400" y="5734080"/>
            <a:chExt cx="5638680" cy="609480"/>
          </a:xfrm>
        </p:grpSpPr>
        <p:sp>
          <p:nvSpPr>
            <p:cNvPr id="86" name=""/>
            <p:cNvSpPr/>
            <p:nvPr/>
          </p:nvSpPr>
          <p:spPr>
            <a:xfrm>
              <a:off x="1841400" y="5734080"/>
              <a:ext cx="5638680" cy="60948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841400" y="5734080"/>
              <a:ext cx="56386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" name=""/>
          <p:cNvGrpSpPr/>
          <p:nvPr/>
        </p:nvGrpSpPr>
        <p:grpSpPr>
          <a:xfrm>
            <a:off x="1962000" y="5816520"/>
            <a:ext cx="5638680" cy="609480"/>
            <a:chOff x="1962000" y="5816520"/>
            <a:chExt cx="5638680" cy="609480"/>
          </a:xfrm>
        </p:grpSpPr>
        <p:sp>
          <p:nvSpPr>
            <p:cNvPr id="89" name=""/>
            <p:cNvSpPr/>
            <p:nvPr/>
          </p:nvSpPr>
          <p:spPr>
            <a:xfrm>
              <a:off x="1962000" y="5816520"/>
              <a:ext cx="5638680" cy="609480"/>
            </a:xfrm>
            <a:prstGeom prst="rect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62000" y="5816520"/>
              <a:ext cx="56386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82960" y="5899320"/>
            <a:ext cx="5638680" cy="609480"/>
            <a:chOff x="2082960" y="5899320"/>
            <a:chExt cx="5638680" cy="609480"/>
          </a:xfrm>
        </p:grpSpPr>
        <p:sp>
          <p:nvSpPr>
            <p:cNvPr id="92" name=""/>
            <p:cNvSpPr/>
            <p:nvPr/>
          </p:nvSpPr>
          <p:spPr>
            <a:xfrm>
              <a:off x="2082960" y="5899320"/>
              <a:ext cx="5638680" cy="609480"/>
            </a:xfrm>
            <a:prstGeom prst="rect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082960" y="5899320"/>
              <a:ext cx="56386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235240" y="5987880"/>
            <a:ext cx="5638680" cy="609480"/>
            <a:chOff x="2235240" y="5987880"/>
            <a:chExt cx="5638680" cy="609480"/>
          </a:xfrm>
        </p:grpSpPr>
        <p:sp>
          <p:nvSpPr>
            <p:cNvPr id="95" name=""/>
            <p:cNvSpPr/>
            <p:nvPr/>
          </p:nvSpPr>
          <p:spPr>
            <a:xfrm>
              <a:off x="2235240" y="5987880"/>
              <a:ext cx="5638680" cy="609480"/>
            </a:xfrm>
            <a:prstGeom prst="rect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235240" y="5987880"/>
              <a:ext cx="56386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2400480" y="6083280"/>
            <a:ext cx="5638680" cy="609480"/>
            <a:chOff x="2400480" y="6083280"/>
            <a:chExt cx="5638680" cy="609480"/>
          </a:xfrm>
        </p:grpSpPr>
        <p:sp>
          <p:nvSpPr>
            <p:cNvPr id="98" name=""/>
            <p:cNvSpPr/>
            <p:nvPr/>
          </p:nvSpPr>
          <p:spPr>
            <a:xfrm>
              <a:off x="2400480" y="6083280"/>
              <a:ext cx="5638680" cy="609480"/>
            </a:xfrm>
            <a:prstGeom prst="rect">
              <a:avLst/>
            </a:prstGeom>
            <a:blipFill rotWithShape="0">
              <a:blip r:embed="rId1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400480" y="6083280"/>
              <a:ext cx="56386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2565360" y="6172200"/>
            <a:ext cx="5638680" cy="609480"/>
            <a:chOff x="2565360" y="6172200"/>
            <a:chExt cx="5638680" cy="609480"/>
          </a:xfrm>
        </p:grpSpPr>
        <p:sp>
          <p:nvSpPr>
            <p:cNvPr id="101" name=""/>
            <p:cNvSpPr/>
            <p:nvPr/>
          </p:nvSpPr>
          <p:spPr>
            <a:xfrm>
              <a:off x="2565360" y="6172200"/>
              <a:ext cx="5638680" cy="609480"/>
            </a:xfrm>
            <a:prstGeom prst="rect">
              <a:avLst/>
            </a:prstGeom>
            <a:blipFill rotWithShape="0">
              <a:blip r:embed="rId1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565360" y="6172200"/>
              <a:ext cx="56386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2679840" y="6248520"/>
            <a:ext cx="5638680" cy="609480"/>
            <a:chOff x="2679840" y="6248520"/>
            <a:chExt cx="5638680" cy="609480"/>
          </a:xfrm>
        </p:grpSpPr>
        <p:sp>
          <p:nvSpPr>
            <p:cNvPr id="104" name=""/>
            <p:cNvSpPr/>
            <p:nvPr/>
          </p:nvSpPr>
          <p:spPr>
            <a:xfrm>
              <a:off x="2679840" y="6248520"/>
              <a:ext cx="5638680" cy="609480"/>
            </a:xfrm>
            <a:prstGeom prst="rect">
              <a:avLst/>
            </a:prstGeom>
            <a:blipFill rotWithShape="0">
              <a:blip r:embed="rId1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679840" y="6248520"/>
              <a:ext cx="56386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2800440" y="6343560"/>
            <a:ext cx="5638680" cy="609480"/>
            <a:chOff x="2800440" y="6343560"/>
            <a:chExt cx="5638680" cy="609480"/>
          </a:xfrm>
        </p:grpSpPr>
        <p:sp>
          <p:nvSpPr>
            <p:cNvPr id="107" name=""/>
            <p:cNvSpPr/>
            <p:nvPr/>
          </p:nvSpPr>
          <p:spPr>
            <a:xfrm>
              <a:off x="2800440" y="6343560"/>
              <a:ext cx="5638680" cy="609480"/>
            </a:xfrm>
            <a:prstGeom prst="rect">
              <a:avLst/>
            </a:prstGeom>
            <a:blipFill rotWithShape="0">
              <a:blip r:embed="rId1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800440" y="6343560"/>
              <a:ext cx="56386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2933640" y="6432480"/>
            <a:ext cx="5638680" cy="609480"/>
            <a:chOff x="2933640" y="6432480"/>
            <a:chExt cx="5638680" cy="609480"/>
          </a:xfrm>
        </p:grpSpPr>
        <p:sp>
          <p:nvSpPr>
            <p:cNvPr id="110" name=""/>
            <p:cNvSpPr/>
            <p:nvPr/>
          </p:nvSpPr>
          <p:spPr>
            <a:xfrm>
              <a:off x="2933640" y="6432480"/>
              <a:ext cx="5638680" cy="609480"/>
            </a:xfrm>
            <a:prstGeom prst="rect">
              <a:avLst/>
            </a:prstGeom>
            <a:blipFill rotWithShape="0">
              <a:blip r:embed="rId1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933640" y="6432480"/>
              <a:ext cx="56386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3079800" y="6540480"/>
            <a:ext cx="5638680" cy="609480"/>
            <a:chOff x="3079800" y="6540480"/>
            <a:chExt cx="5638680" cy="609480"/>
          </a:xfrm>
        </p:grpSpPr>
        <p:sp>
          <p:nvSpPr>
            <p:cNvPr id="113" name=""/>
            <p:cNvSpPr/>
            <p:nvPr/>
          </p:nvSpPr>
          <p:spPr>
            <a:xfrm>
              <a:off x="3079800" y="6540480"/>
              <a:ext cx="5638680" cy="609480"/>
            </a:xfrm>
            <a:prstGeom prst="rect">
              <a:avLst/>
            </a:prstGeom>
            <a:blipFill rotWithShape="0">
              <a:blip r:embed="rId1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079800" y="6540480"/>
              <a:ext cx="56386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162240" y="6642000"/>
            <a:ext cx="5638680" cy="609480"/>
            <a:chOff x="3162240" y="6642000"/>
            <a:chExt cx="5638680" cy="609480"/>
          </a:xfrm>
        </p:grpSpPr>
        <p:sp>
          <p:nvSpPr>
            <p:cNvPr id="116" name=""/>
            <p:cNvSpPr/>
            <p:nvPr/>
          </p:nvSpPr>
          <p:spPr>
            <a:xfrm>
              <a:off x="3162240" y="6642000"/>
              <a:ext cx="5638680" cy="609480"/>
            </a:xfrm>
            <a:prstGeom prst="rect">
              <a:avLst/>
            </a:prstGeom>
            <a:blipFill rotWithShape="0">
              <a:blip r:embed="rId1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162240" y="6642000"/>
              <a:ext cx="56386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3289320" y="6724800"/>
            <a:ext cx="5638680" cy="609480"/>
            <a:chOff x="3289320" y="6724800"/>
            <a:chExt cx="5638680" cy="609480"/>
          </a:xfrm>
        </p:grpSpPr>
        <p:sp>
          <p:nvSpPr>
            <p:cNvPr id="119" name=""/>
            <p:cNvSpPr/>
            <p:nvPr/>
          </p:nvSpPr>
          <p:spPr>
            <a:xfrm>
              <a:off x="3289320" y="6724800"/>
              <a:ext cx="5638680" cy="609480"/>
            </a:xfrm>
            <a:prstGeom prst="rect">
              <a:avLst/>
            </a:prstGeom>
            <a:blipFill rotWithShape="0">
              <a:blip r:embed="rId2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289320" y="6724800"/>
              <a:ext cx="56386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3384720" y="6858000"/>
            <a:ext cx="5638680" cy="609480"/>
            <a:chOff x="3384720" y="6858000"/>
            <a:chExt cx="5638680" cy="609480"/>
          </a:xfrm>
        </p:grpSpPr>
        <p:sp>
          <p:nvSpPr>
            <p:cNvPr id="122" name=""/>
            <p:cNvSpPr/>
            <p:nvPr/>
          </p:nvSpPr>
          <p:spPr>
            <a:xfrm>
              <a:off x="3384720" y="6858000"/>
              <a:ext cx="5638680" cy="609480"/>
            </a:xfrm>
            <a:prstGeom prst="rect">
              <a:avLst/>
            </a:prstGeom>
            <a:blipFill rotWithShape="0">
              <a:blip r:embed="rId2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384720" y="6858000"/>
              <a:ext cx="56386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3505320" y="6946920"/>
            <a:ext cx="5638680" cy="609480"/>
            <a:chOff x="3505320" y="6946920"/>
            <a:chExt cx="5638680" cy="609480"/>
          </a:xfrm>
        </p:grpSpPr>
        <p:sp>
          <p:nvSpPr>
            <p:cNvPr id="125" name=""/>
            <p:cNvSpPr/>
            <p:nvPr/>
          </p:nvSpPr>
          <p:spPr>
            <a:xfrm>
              <a:off x="3505320" y="6946920"/>
              <a:ext cx="5638680" cy="609480"/>
            </a:xfrm>
            <a:prstGeom prst="rect">
              <a:avLst/>
            </a:prstGeom>
            <a:blipFill rotWithShape="0">
              <a:blip r:embed="rId2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505320" y="6946920"/>
              <a:ext cx="56386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2209680" y="5943600"/>
            <a:ext cx="44197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Comic Sans MS"/>
              </a:rPr>
              <a:t>Il est soumis à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1" name=""/>
          <p:cNvGrpSpPr/>
          <p:nvPr/>
        </p:nvGrpSpPr>
        <p:grpSpPr>
          <a:xfrm>
            <a:off x="1143000" y="5105520"/>
            <a:ext cx="5638680" cy="609480"/>
            <a:chOff x="1143000" y="5105520"/>
            <a:chExt cx="5638680" cy="609480"/>
          </a:xfrm>
        </p:grpSpPr>
        <p:sp>
          <p:nvSpPr>
            <p:cNvPr id="612" name=""/>
            <p:cNvSpPr/>
            <p:nvPr/>
          </p:nvSpPr>
          <p:spPr>
            <a:xfrm>
              <a:off x="1143000" y="5105520"/>
              <a:ext cx="5638680" cy="6094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143000" y="5105520"/>
              <a:ext cx="56386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4" name=""/>
          <p:cNvSpPr/>
          <p:nvPr/>
        </p:nvSpPr>
        <p:spPr>
          <a:xfrm>
            <a:off x="2209680" y="3200400"/>
            <a:ext cx="3429000" cy="1905120"/>
          </a:xfrm>
          <a:prstGeom prst="rect">
            <a:avLst/>
          </a:prstGeom>
          <a:solidFill>
            <a:srgbClr val="b2b2b2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0" y="1420920"/>
            <a:ext cx="868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Comic Sans MS"/>
              </a:rPr>
              <a:t>On peut remarquer que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3921120" y="4038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768840" y="41148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5410080" y="41148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5638680" y="4114800"/>
            <a:ext cx="792360" cy="0"/>
          </a:xfrm>
          <a:prstGeom prst="line">
            <a:avLst/>
          </a:prstGeom>
          <a:ln w="5724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 flipH="1" flipV="1">
            <a:off x="3492720" y="2805840"/>
            <a:ext cx="730080" cy="22464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921120" y="4114800"/>
            <a:ext cx="0" cy="231300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0" y="1878120"/>
            <a:ext cx="868212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Comic Sans MS"/>
              </a:rPr>
              <a:t>La force en B doit atteindre une certaine valeur pour permettre le déplacement ( </a:t>
            </a: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glissement </a:t>
            </a:r>
            <a:r>
              <a:rPr b="1" lang="en-US" sz="2000" spc="-1" strike="noStrike">
                <a:solidFill>
                  <a:srgbClr val="990033"/>
                </a:solidFill>
                <a:latin typeface="Comic Sans MS"/>
              </a:rPr>
              <a:t>)</a:t>
            </a: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990033"/>
                </a:solidFill>
                <a:latin typeface="Comic Sans MS"/>
              </a:rPr>
              <a:t>de 1 sur 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0" y="2590920"/>
            <a:ext cx="86821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Comic Sans MS"/>
              </a:rPr>
              <a:t>Avant que cette valeur            ne soit atteinte, il y a </a:t>
            </a: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adhérence</a:t>
            </a:r>
            <a:r>
              <a:rPr b="1" lang="en-US" sz="2000" spc="-1" strike="noStrike">
                <a:solidFill>
                  <a:srgbClr val="990033"/>
                </a:solidFill>
                <a:latin typeface="Comic Sans MS"/>
              </a:rPr>
              <a:t> entre 0 et 1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>
            <a:hlinkClick r:id="" action="ppaction://hlinkshowjump?jump=nextslide"/>
          </p:cNvPr>
          <p:cNvSpPr/>
          <p:nvPr/>
        </p:nvSpPr>
        <p:spPr>
          <a:xfrm>
            <a:off x="8682120" y="6551640"/>
            <a:ext cx="457200" cy="304920"/>
          </a:xfrm>
          <a:custGeom>
            <a:avLst/>
            <a:gdLst>
              <a:gd name="textAreaLeft" fmla="*/ 65160 w 457200"/>
              <a:gd name="textAreaRight" fmla="*/ 392040 w 457200"/>
              <a:gd name="textAreaTop" fmla="*/ 65160 h 304920"/>
              <a:gd name="textAreaBottom" fmla="*/ 23976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27762" y="4613"/>
                </a:lnTo>
                <a:lnTo>
                  <a:pt x="4613" y="4613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27762" y="16987"/>
                </a:lnTo>
                <a:lnTo>
                  <a:pt x="27762" y="4613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4613" y="16987"/>
                </a:lnTo>
                <a:lnTo>
                  <a:pt x="27762" y="16987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4613" y="4613"/>
                </a:lnTo>
                <a:lnTo>
                  <a:pt x="4613" y="16987"/>
                </a:lnTo>
                <a:close/>
              </a:path>
              <a:path fill="darken" w="32375" h="21600">
                <a:moveTo>
                  <a:pt x="11576" y="6188"/>
                </a:moveTo>
                <a:lnTo>
                  <a:pt x="20799" y="10800"/>
                </a:lnTo>
                <a:lnTo>
                  <a:pt x="11576" y="15412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>
            <a:hlinkClick r:id="" action="ppaction://hlinkshowjump?jump=previousslide"/>
          </p:cNvPr>
          <p:cNvSpPr/>
          <p:nvPr/>
        </p:nvSpPr>
        <p:spPr>
          <a:xfrm>
            <a:off x="633240" y="6551640"/>
            <a:ext cx="457200" cy="304920"/>
          </a:xfrm>
          <a:custGeom>
            <a:avLst/>
            <a:gdLst>
              <a:gd name="textAreaLeft" fmla="*/ 60120 w 457200"/>
              <a:gd name="textAreaRight" fmla="*/ 397080 w 457200"/>
              <a:gd name="textAreaTop" fmla="*/ 60120 h 304920"/>
              <a:gd name="textAreaBottom" fmla="*/ 24480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28100" y="4275"/>
                </a:lnTo>
                <a:lnTo>
                  <a:pt x="4275" y="4275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28100" y="17325"/>
                </a:lnTo>
                <a:lnTo>
                  <a:pt x="28100" y="4275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4275" y="17325"/>
                </a:lnTo>
                <a:lnTo>
                  <a:pt x="28100" y="17325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4275" y="4275"/>
                </a:lnTo>
                <a:lnTo>
                  <a:pt x="4275" y="17325"/>
                </a:lnTo>
                <a:close/>
              </a:path>
              <a:path fill="darken" w="32375" h="21600">
                <a:moveTo>
                  <a:pt x="11324" y="10800"/>
                </a:moveTo>
                <a:lnTo>
                  <a:pt x="21051" y="5936"/>
                </a:lnTo>
                <a:lnTo>
                  <a:pt x="21051" y="15664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>
            <a:hlinkClick r:id="" action="ppaction://hlinkshowjump?jump=firstslide"/>
          </p:cNvPr>
          <p:cNvSpPr/>
          <p:nvPr/>
        </p:nvSpPr>
        <p:spPr>
          <a:xfrm>
            <a:off x="0" y="6551640"/>
            <a:ext cx="457200" cy="304920"/>
          </a:xfrm>
          <a:custGeom>
            <a:avLst/>
            <a:gdLst>
              <a:gd name="textAreaLeft" fmla="*/ 58680 w 457200"/>
              <a:gd name="textAreaRight" fmla="*/ 398520 w 457200"/>
              <a:gd name="textAreaTop" fmla="*/ 58680 h 304920"/>
              <a:gd name="textAreaBottom" fmla="*/ 24624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28212" y="4163"/>
                </a:lnTo>
                <a:lnTo>
                  <a:pt x="4163" y="4163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28212" y="17437"/>
                </a:lnTo>
                <a:lnTo>
                  <a:pt x="28212" y="4163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4163" y="17437"/>
                </a:lnTo>
                <a:lnTo>
                  <a:pt x="28212" y="17437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4163" y="4163"/>
                </a:lnTo>
                <a:lnTo>
                  <a:pt x="4163" y="17437"/>
                </a:lnTo>
                <a:close/>
              </a:path>
              <a:path fill="darken" w="32375" h="21600">
                <a:moveTo>
                  <a:pt x="13717" y="10800"/>
                </a:moveTo>
                <a:lnTo>
                  <a:pt x="21134" y="5853"/>
                </a:lnTo>
                <a:lnTo>
                  <a:pt x="21134" y="15747"/>
                </a:lnTo>
                <a:close/>
              </a:path>
              <a:path fill="darken" w="32375" h="21600">
                <a:moveTo>
                  <a:pt x="11240" y="5853"/>
                </a:moveTo>
                <a:lnTo>
                  <a:pt x="12414" y="5853"/>
                </a:lnTo>
                <a:lnTo>
                  <a:pt x="12414" y="15747"/>
                </a:lnTo>
                <a:lnTo>
                  <a:pt x="11240" y="15747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6781680" y="3200400"/>
            <a:ext cx="2210040" cy="17524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990033"/>
                </a:solidFill>
                <a:latin typeface="Comic Sans MS"/>
              </a:rPr>
              <a:t>La limite entre l’adhérence et le glissement est appelée 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0000"/>
                </a:solidFill>
                <a:latin typeface="Comic Sans MS"/>
              </a:rPr>
              <a:t>équilibre strict</a:t>
            </a:r>
            <a:r>
              <a:rPr b="1" lang="fr-FR" sz="2000" spc="-1" strike="noStrike">
                <a:solidFill>
                  <a:srgbClr val="990033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6019920" y="3581280"/>
            <a:ext cx="581040" cy="457200"/>
            <a:chOff x="6019920" y="3581280"/>
            <a:chExt cx="581040" cy="457200"/>
          </a:xfrm>
        </p:grpSpPr>
        <p:grpSp>
          <p:nvGrpSpPr>
            <p:cNvPr id="629" name=""/>
            <p:cNvGrpSpPr/>
            <p:nvPr/>
          </p:nvGrpSpPr>
          <p:grpSpPr>
            <a:xfrm>
              <a:off x="6019920" y="3581280"/>
              <a:ext cx="581040" cy="457200"/>
              <a:chOff x="6019920" y="3581280"/>
              <a:chExt cx="581040" cy="457200"/>
            </a:xfrm>
          </p:grpSpPr>
          <p:sp>
            <p:nvSpPr>
              <p:cNvPr id="630" name=""/>
              <p:cNvSpPr/>
              <p:nvPr/>
            </p:nvSpPr>
            <p:spPr>
              <a:xfrm>
                <a:off x="6019920" y="3581280"/>
                <a:ext cx="58104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0800" bIns="1080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6600"/>
                    </a:solidFill>
                    <a:latin typeface="Comic Sans MS"/>
                  </a:rPr>
                  <a:t>B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6064920" y="3581280"/>
                <a:ext cx="35748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2" name=""/>
            <p:cNvSpPr/>
            <p:nvPr/>
          </p:nvSpPr>
          <p:spPr>
            <a:xfrm>
              <a:off x="6019920" y="3581280"/>
              <a:ext cx="316800" cy="0"/>
            </a:xfrm>
            <a:prstGeom prst="line">
              <a:avLst/>
            </a:prstGeom>
            <a:ln w="19080">
              <a:solidFill>
                <a:srgbClr val="00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3" name=""/>
          <p:cNvGrpSpPr/>
          <p:nvPr/>
        </p:nvGrpSpPr>
        <p:grpSpPr>
          <a:xfrm>
            <a:off x="1143000" y="5105520"/>
            <a:ext cx="5638680" cy="609480"/>
            <a:chOff x="1143000" y="5105520"/>
            <a:chExt cx="5638680" cy="609480"/>
          </a:xfrm>
        </p:grpSpPr>
        <p:sp>
          <p:nvSpPr>
            <p:cNvPr id="634" name=""/>
            <p:cNvSpPr/>
            <p:nvPr/>
          </p:nvSpPr>
          <p:spPr>
            <a:xfrm>
              <a:off x="1143000" y="5105520"/>
              <a:ext cx="5638680" cy="6094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143000" y="5105520"/>
              <a:ext cx="56386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6" name=""/>
          <p:cNvSpPr/>
          <p:nvPr/>
        </p:nvSpPr>
        <p:spPr>
          <a:xfrm>
            <a:off x="2209680" y="3200400"/>
            <a:ext cx="3429000" cy="1905120"/>
          </a:xfrm>
          <a:prstGeom prst="rect">
            <a:avLst/>
          </a:prstGeom>
          <a:solidFill>
            <a:srgbClr val="b2b2b2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0" y="1420920"/>
            <a:ext cx="868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Comic Sans MS"/>
              </a:rPr>
              <a:t>On peut remarquer également que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3921120" y="4038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3768840" y="41148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5410080" y="41148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5638680" y="4114800"/>
            <a:ext cx="792360" cy="0"/>
          </a:xfrm>
          <a:prstGeom prst="line">
            <a:avLst/>
          </a:prstGeom>
          <a:ln w="5724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 flipH="1" flipV="1">
            <a:off x="3492720" y="2805840"/>
            <a:ext cx="730080" cy="22464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3921120" y="4114800"/>
            <a:ext cx="0" cy="231300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0" y="1878120"/>
            <a:ext cx="868212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Comic Sans MS"/>
              </a:rPr>
              <a:t>Les trois forces restent concourantes. Pour cela, le point A s’est déplacé vers la droi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>
            <a:hlinkClick r:id="" action="ppaction://hlinkshowjump?jump=nextslide"/>
          </p:cNvPr>
          <p:cNvSpPr/>
          <p:nvPr/>
        </p:nvSpPr>
        <p:spPr>
          <a:xfrm>
            <a:off x="8682120" y="6551640"/>
            <a:ext cx="457200" cy="304920"/>
          </a:xfrm>
          <a:custGeom>
            <a:avLst/>
            <a:gdLst>
              <a:gd name="textAreaLeft" fmla="*/ 65160 w 457200"/>
              <a:gd name="textAreaRight" fmla="*/ 392040 w 457200"/>
              <a:gd name="textAreaTop" fmla="*/ 65160 h 304920"/>
              <a:gd name="textAreaBottom" fmla="*/ 23976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27762" y="4613"/>
                </a:lnTo>
                <a:lnTo>
                  <a:pt x="4613" y="4613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27762" y="16987"/>
                </a:lnTo>
                <a:lnTo>
                  <a:pt x="27762" y="4613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4613" y="16987"/>
                </a:lnTo>
                <a:lnTo>
                  <a:pt x="27762" y="16987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4613" y="4613"/>
                </a:lnTo>
                <a:lnTo>
                  <a:pt x="4613" y="16987"/>
                </a:lnTo>
                <a:close/>
              </a:path>
              <a:path fill="darken" w="32375" h="21600">
                <a:moveTo>
                  <a:pt x="11576" y="6188"/>
                </a:moveTo>
                <a:lnTo>
                  <a:pt x="20799" y="10800"/>
                </a:lnTo>
                <a:lnTo>
                  <a:pt x="11576" y="15412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>
            <a:hlinkClick r:id="" action="ppaction://hlinkshowjump?jump=previousslide"/>
          </p:cNvPr>
          <p:cNvSpPr/>
          <p:nvPr/>
        </p:nvSpPr>
        <p:spPr>
          <a:xfrm>
            <a:off x="633240" y="6551640"/>
            <a:ext cx="457200" cy="304920"/>
          </a:xfrm>
          <a:custGeom>
            <a:avLst/>
            <a:gdLst>
              <a:gd name="textAreaLeft" fmla="*/ 60120 w 457200"/>
              <a:gd name="textAreaRight" fmla="*/ 397080 w 457200"/>
              <a:gd name="textAreaTop" fmla="*/ 60120 h 304920"/>
              <a:gd name="textAreaBottom" fmla="*/ 24480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28100" y="4275"/>
                </a:lnTo>
                <a:lnTo>
                  <a:pt x="4275" y="4275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28100" y="17325"/>
                </a:lnTo>
                <a:lnTo>
                  <a:pt x="28100" y="4275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4275" y="17325"/>
                </a:lnTo>
                <a:lnTo>
                  <a:pt x="28100" y="17325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4275" y="4275"/>
                </a:lnTo>
                <a:lnTo>
                  <a:pt x="4275" y="17325"/>
                </a:lnTo>
                <a:close/>
              </a:path>
              <a:path fill="darken" w="32375" h="21600">
                <a:moveTo>
                  <a:pt x="11324" y="10800"/>
                </a:moveTo>
                <a:lnTo>
                  <a:pt x="21051" y="5936"/>
                </a:lnTo>
                <a:lnTo>
                  <a:pt x="21051" y="15664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>
            <a:hlinkClick r:id="" action="ppaction://hlinkshowjump?jump=firstslide"/>
          </p:cNvPr>
          <p:cNvSpPr/>
          <p:nvPr/>
        </p:nvSpPr>
        <p:spPr>
          <a:xfrm>
            <a:off x="0" y="6551640"/>
            <a:ext cx="457200" cy="304920"/>
          </a:xfrm>
          <a:custGeom>
            <a:avLst/>
            <a:gdLst>
              <a:gd name="textAreaLeft" fmla="*/ 58680 w 457200"/>
              <a:gd name="textAreaRight" fmla="*/ 398520 w 457200"/>
              <a:gd name="textAreaTop" fmla="*/ 58680 h 304920"/>
              <a:gd name="textAreaBottom" fmla="*/ 24624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28212" y="4163"/>
                </a:lnTo>
                <a:lnTo>
                  <a:pt x="4163" y="4163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28212" y="17437"/>
                </a:lnTo>
                <a:lnTo>
                  <a:pt x="28212" y="4163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4163" y="17437"/>
                </a:lnTo>
                <a:lnTo>
                  <a:pt x="28212" y="17437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4163" y="4163"/>
                </a:lnTo>
                <a:lnTo>
                  <a:pt x="4163" y="17437"/>
                </a:lnTo>
                <a:close/>
              </a:path>
              <a:path fill="darken" w="32375" h="21600">
                <a:moveTo>
                  <a:pt x="13717" y="10800"/>
                </a:moveTo>
                <a:lnTo>
                  <a:pt x="21134" y="5853"/>
                </a:lnTo>
                <a:lnTo>
                  <a:pt x="21134" y="15747"/>
                </a:lnTo>
                <a:close/>
              </a:path>
              <a:path fill="darken" w="32375" h="21600">
                <a:moveTo>
                  <a:pt x="11240" y="5853"/>
                </a:moveTo>
                <a:lnTo>
                  <a:pt x="12414" y="5853"/>
                </a:lnTo>
                <a:lnTo>
                  <a:pt x="12414" y="15747"/>
                </a:lnTo>
                <a:lnTo>
                  <a:pt x="11240" y="15747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6781680" y="2590920"/>
            <a:ext cx="2210040" cy="20574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Comic Sans MS"/>
              </a:rPr>
              <a:t>La force en A de 0 sur 1 </a:t>
            </a: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s ’oppose au glissement éventuel</a:t>
            </a:r>
            <a:r>
              <a:rPr b="1" lang="en-US" sz="2000" spc="-1" strike="noStrike">
                <a:solidFill>
                  <a:srgbClr val="990033"/>
                </a:solidFill>
                <a:latin typeface="Comic Sans MS"/>
              </a:rPr>
              <a:t> de 1 par rapport à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9" name=""/>
          <p:cNvGrpSpPr/>
          <p:nvPr/>
        </p:nvGrpSpPr>
        <p:grpSpPr>
          <a:xfrm>
            <a:off x="3768840" y="2590920"/>
            <a:ext cx="838080" cy="457200"/>
            <a:chOff x="3768840" y="2590920"/>
            <a:chExt cx="838080" cy="457200"/>
          </a:xfrm>
        </p:grpSpPr>
        <p:sp>
          <p:nvSpPr>
            <p:cNvPr id="650" name=""/>
            <p:cNvSpPr/>
            <p:nvPr/>
          </p:nvSpPr>
          <p:spPr>
            <a:xfrm>
              <a:off x="3768840" y="2590920"/>
              <a:ext cx="8380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Comic Sans MS"/>
                </a:rPr>
                <a:t>A</a:t>
              </a:r>
              <a:r>
                <a:rPr b="1" lang="en-US" sz="2000" spc="-1" strike="noStrike">
                  <a:solidFill>
                    <a:srgbClr val="ff0000"/>
                  </a:solidFill>
                  <a:latin typeface="Comic Sans MS"/>
                </a:rPr>
                <a:t>0/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3832920" y="2590920"/>
              <a:ext cx="51588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4349880" y="4653000"/>
            <a:ext cx="380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3" name=""/>
          <p:cNvGrpSpPr/>
          <p:nvPr/>
        </p:nvGrpSpPr>
        <p:grpSpPr>
          <a:xfrm>
            <a:off x="1143000" y="5105520"/>
            <a:ext cx="5638680" cy="609480"/>
            <a:chOff x="1143000" y="5105520"/>
            <a:chExt cx="5638680" cy="609480"/>
          </a:xfrm>
        </p:grpSpPr>
        <p:sp>
          <p:nvSpPr>
            <p:cNvPr id="654" name=""/>
            <p:cNvSpPr/>
            <p:nvPr/>
          </p:nvSpPr>
          <p:spPr>
            <a:xfrm>
              <a:off x="1143000" y="5105520"/>
              <a:ext cx="5638680" cy="6094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1143000" y="5105520"/>
              <a:ext cx="56386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6" name=""/>
          <p:cNvSpPr/>
          <p:nvPr/>
        </p:nvSpPr>
        <p:spPr>
          <a:xfrm>
            <a:off x="2209680" y="3200400"/>
            <a:ext cx="3429000" cy="1905120"/>
          </a:xfrm>
          <a:prstGeom prst="rect">
            <a:avLst/>
          </a:prstGeom>
          <a:solidFill>
            <a:srgbClr val="b2b2b2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0" y="1420920"/>
            <a:ext cx="868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Comic Sans MS"/>
              </a:rPr>
              <a:t>On peut remarquer enfin que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3921120" y="4038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3768840" y="41148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410080" y="41148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638680" y="4114800"/>
            <a:ext cx="792360" cy="0"/>
          </a:xfrm>
          <a:prstGeom prst="line">
            <a:avLst/>
          </a:prstGeom>
          <a:ln w="5724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 flipV="1">
            <a:off x="3492720" y="2805840"/>
            <a:ext cx="730080" cy="22464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3921120" y="4114800"/>
            <a:ext cx="0" cy="231300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0" y="1878120"/>
            <a:ext cx="891540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Comic Sans MS"/>
              </a:rPr>
              <a:t>L’angle d’inclinaison de la force en A défini le </a:t>
            </a: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facteur de frottement</a:t>
            </a:r>
            <a:r>
              <a:rPr b="1" lang="en-US" sz="2000" spc="-1" strike="noStrike">
                <a:solidFill>
                  <a:srgbClr val="990033"/>
                </a:solidFill>
                <a:latin typeface="Comic Sans MS"/>
              </a:rPr>
              <a:t> (noté </a:t>
            </a: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µ</a:t>
            </a:r>
            <a:r>
              <a:rPr b="1" lang="en-US" sz="2000" spc="-1" strike="noStrike">
                <a:solidFill>
                  <a:srgbClr val="990033"/>
                </a:solidFill>
                <a:latin typeface="Comic Sans MS"/>
              </a:rPr>
              <a:t>) entre 0 et 1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>
            <a:hlinkClick r:id="" action="ppaction://hlinkshowjump?jump=nextslide"/>
          </p:cNvPr>
          <p:cNvSpPr/>
          <p:nvPr/>
        </p:nvSpPr>
        <p:spPr>
          <a:xfrm>
            <a:off x="8682120" y="6551640"/>
            <a:ext cx="457200" cy="304920"/>
          </a:xfrm>
          <a:custGeom>
            <a:avLst/>
            <a:gdLst>
              <a:gd name="textAreaLeft" fmla="*/ 65160 w 457200"/>
              <a:gd name="textAreaRight" fmla="*/ 392040 w 457200"/>
              <a:gd name="textAreaTop" fmla="*/ 65160 h 304920"/>
              <a:gd name="textAreaBottom" fmla="*/ 23976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27762" y="4613"/>
                </a:lnTo>
                <a:lnTo>
                  <a:pt x="4613" y="4613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27762" y="16987"/>
                </a:lnTo>
                <a:lnTo>
                  <a:pt x="27762" y="4613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4613" y="16987"/>
                </a:lnTo>
                <a:lnTo>
                  <a:pt x="27762" y="16987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4613" y="4613"/>
                </a:lnTo>
                <a:lnTo>
                  <a:pt x="4613" y="16987"/>
                </a:lnTo>
                <a:close/>
              </a:path>
              <a:path fill="darken" w="32375" h="21600">
                <a:moveTo>
                  <a:pt x="11576" y="6188"/>
                </a:moveTo>
                <a:lnTo>
                  <a:pt x="20799" y="10800"/>
                </a:lnTo>
                <a:lnTo>
                  <a:pt x="11576" y="15412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>
            <a:hlinkClick r:id="" action="ppaction://hlinkshowjump?jump=previousslide"/>
          </p:cNvPr>
          <p:cNvSpPr/>
          <p:nvPr/>
        </p:nvSpPr>
        <p:spPr>
          <a:xfrm>
            <a:off x="633240" y="6551640"/>
            <a:ext cx="457200" cy="304920"/>
          </a:xfrm>
          <a:custGeom>
            <a:avLst/>
            <a:gdLst>
              <a:gd name="textAreaLeft" fmla="*/ 60120 w 457200"/>
              <a:gd name="textAreaRight" fmla="*/ 397080 w 457200"/>
              <a:gd name="textAreaTop" fmla="*/ 60120 h 304920"/>
              <a:gd name="textAreaBottom" fmla="*/ 24480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28100" y="4275"/>
                </a:lnTo>
                <a:lnTo>
                  <a:pt x="4275" y="4275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28100" y="17325"/>
                </a:lnTo>
                <a:lnTo>
                  <a:pt x="28100" y="4275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4275" y="17325"/>
                </a:lnTo>
                <a:lnTo>
                  <a:pt x="28100" y="17325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4275" y="4275"/>
                </a:lnTo>
                <a:lnTo>
                  <a:pt x="4275" y="17325"/>
                </a:lnTo>
                <a:close/>
              </a:path>
              <a:path fill="darken" w="32375" h="21600">
                <a:moveTo>
                  <a:pt x="11324" y="10800"/>
                </a:moveTo>
                <a:lnTo>
                  <a:pt x="21051" y="5936"/>
                </a:lnTo>
                <a:lnTo>
                  <a:pt x="21051" y="15664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>
            <a:hlinkClick r:id="" action="ppaction://hlinkshowjump?jump=firstslide"/>
          </p:cNvPr>
          <p:cNvSpPr/>
          <p:nvPr/>
        </p:nvSpPr>
        <p:spPr>
          <a:xfrm>
            <a:off x="0" y="6551640"/>
            <a:ext cx="457200" cy="304920"/>
          </a:xfrm>
          <a:custGeom>
            <a:avLst/>
            <a:gdLst>
              <a:gd name="textAreaLeft" fmla="*/ 58680 w 457200"/>
              <a:gd name="textAreaRight" fmla="*/ 398520 w 457200"/>
              <a:gd name="textAreaTop" fmla="*/ 58680 h 304920"/>
              <a:gd name="textAreaBottom" fmla="*/ 24624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28212" y="4163"/>
                </a:lnTo>
                <a:lnTo>
                  <a:pt x="4163" y="4163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28212" y="17437"/>
                </a:lnTo>
                <a:lnTo>
                  <a:pt x="28212" y="4163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4163" y="17437"/>
                </a:lnTo>
                <a:lnTo>
                  <a:pt x="28212" y="17437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4163" y="4163"/>
                </a:lnTo>
                <a:lnTo>
                  <a:pt x="4163" y="17437"/>
                </a:lnTo>
                <a:close/>
              </a:path>
              <a:path fill="darken" w="32375" h="21600">
                <a:moveTo>
                  <a:pt x="13717" y="10800"/>
                </a:moveTo>
                <a:lnTo>
                  <a:pt x="21134" y="5853"/>
                </a:lnTo>
                <a:lnTo>
                  <a:pt x="21134" y="15747"/>
                </a:lnTo>
                <a:close/>
              </a:path>
              <a:path fill="darken" w="32375" h="21600">
                <a:moveTo>
                  <a:pt x="11240" y="5853"/>
                </a:moveTo>
                <a:lnTo>
                  <a:pt x="12414" y="5853"/>
                </a:lnTo>
                <a:lnTo>
                  <a:pt x="12414" y="15747"/>
                </a:lnTo>
                <a:lnTo>
                  <a:pt x="11240" y="15747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6781680" y="2590920"/>
            <a:ext cx="2357640" cy="4572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Comic Sans MS"/>
              </a:rPr>
              <a:t>µ = tan </a:t>
            </a:r>
            <a:r>
              <a:rPr b="1" lang="en-US" sz="2000" spc="-1" strike="noStrike">
                <a:solidFill>
                  <a:srgbClr val="990033"/>
                </a:solidFill>
                <a:latin typeface="Symbol"/>
                <a:ea typeface="Symbol"/>
              </a:rPr>
              <a:t>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9" name=""/>
          <p:cNvGrpSpPr/>
          <p:nvPr/>
        </p:nvGrpSpPr>
        <p:grpSpPr>
          <a:xfrm>
            <a:off x="2666880" y="2590920"/>
            <a:ext cx="838440" cy="457200"/>
            <a:chOff x="2666880" y="2590920"/>
            <a:chExt cx="838440" cy="457200"/>
          </a:xfrm>
        </p:grpSpPr>
        <p:sp>
          <p:nvSpPr>
            <p:cNvPr id="670" name=""/>
            <p:cNvSpPr/>
            <p:nvPr/>
          </p:nvSpPr>
          <p:spPr>
            <a:xfrm>
              <a:off x="2666880" y="2590920"/>
              <a:ext cx="8384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Comic Sans MS"/>
                </a:rPr>
                <a:t>A</a:t>
              </a:r>
              <a:r>
                <a:rPr b="1" lang="en-US" sz="2000" spc="-1" strike="noStrike">
                  <a:solidFill>
                    <a:srgbClr val="ff0000"/>
                  </a:solidFill>
                  <a:latin typeface="Comic Sans MS"/>
                </a:rPr>
                <a:t>0/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2730960" y="2590920"/>
              <a:ext cx="51624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2" name=""/>
          <p:cNvSpPr/>
          <p:nvPr/>
        </p:nvSpPr>
        <p:spPr>
          <a:xfrm>
            <a:off x="4172040" y="5159520"/>
            <a:ext cx="380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6781680" y="3200400"/>
            <a:ext cx="2357640" cy="2209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Comic Sans MS"/>
              </a:rPr>
              <a:t>µ dépend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Comic Sans MS"/>
              </a:rPr>
              <a:t>- des matériaux en contact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Comic Sans MS"/>
              </a:rPr>
              <a:t>- de la rugosité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Comic Sans MS"/>
              </a:rPr>
              <a:t>- de la lubrifi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 flipH="1">
            <a:off x="3241800" y="3797280"/>
            <a:ext cx="1978920" cy="1269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1293216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1293216"/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3757680" y="3368520"/>
            <a:ext cx="53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4016520" y="2462040"/>
            <a:ext cx="181764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Normale au conta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7" name=""/>
          <p:cNvGrpSpPr/>
          <p:nvPr/>
        </p:nvGrpSpPr>
        <p:grpSpPr>
          <a:xfrm>
            <a:off x="4232160" y="2708280"/>
            <a:ext cx="162000" cy="2362320"/>
            <a:chOff x="4232160" y="2708280"/>
            <a:chExt cx="162000" cy="2362320"/>
          </a:xfrm>
        </p:grpSpPr>
        <p:sp>
          <p:nvSpPr>
            <p:cNvPr id="678" name=""/>
            <p:cNvSpPr/>
            <p:nvPr/>
          </p:nvSpPr>
          <p:spPr>
            <a:xfrm flipV="1">
              <a:off x="4232160" y="2708280"/>
              <a:ext cx="0" cy="2357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241880" y="4870440"/>
              <a:ext cx="152280" cy="20016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0" name=""/>
          <p:cNvGrpSpPr/>
          <p:nvPr/>
        </p:nvGrpSpPr>
        <p:grpSpPr>
          <a:xfrm>
            <a:off x="6811920" y="4038480"/>
            <a:ext cx="838080" cy="457200"/>
            <a:chOff x="6811920" y="4038480"/>
            <a:chExt cx="838080" cy="457200"/>
          </a:xfrm>
        </p:grpSpPr>
        <p:grpSp>
          <p:nvGrpSpPr>
            <p:cNvPr id="681" name=""/>
            <p:cNvGrpSpPr/>
            <p:nvPr/>
          </p:nvGrpSpPr>
          <p:grpSpPr>
            <a:xfrm>
              <a:off x="6811920" y="4038480"/>
              <a:ext cx="838080" cy="457200"/>
              <a:chOff x="6811920" y="4038480"/>
              <a:chExt cx="838080" cy="457200"/>
            </a:xfrm>
          </p:grpSpPr>
          <p:sp>
            <p:nvSpPr>
              <p:cNvPr id="682" name=""/>
              <p:cNvSpPr/>
              <p:nvPr/>
            </p:nvSpPr>
            <p:spPr>
              <a:xfrm>
                <a:off x="6811920" y="4038480"/>
                <a:ext cx="83808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0800" bIns="1080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3333cc"/>
                    </a:solidFill>
                    <a:latin typeface="Comic Sans MS"/>
                  </a:rPr>
                  <a:t>P</a:t>
                </a:r>
                <a:r>
                  <a:rPr b="1" lang="en-US" sz="2000" spc="-1" strike="noStrike">
                    <a:solidFill>
                      <a:srgbClr val="3333cc"/>
                    </a:solidFill>
                    <a:latin typeface="Comic Sans MS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6876720" y="4038480"/>
                <a:ext cx="51552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84" name=""/>
            <p:cNvSpPr/>
            <p:nvPr/>
          </p:nvSpPr>
          <p:spPr>
            <a:xfrm>
              <a:off x="6811920" y="4038480"/>
              <a:ext cx="456840" cy="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5" name=""/>
          <p:cNvGrpSpPr/>
          <p:nvPr/>
        </p:nvGrpSpPr>
        <p:grpSpPr>
          <a:xfrm>
            <a:off x="1143000" y="5105520"/>
            <a:ext cx="5638680" cy="609480"/>
            <a:chOff x="1143000" y="5105520"/>
            <a:chExt cx="5638680" cy="609480"/>
          </a:xfrm>
        </p:grpSpPr>
        <p:sp>
          <p:nvSpPr>
            <p:cNvPr id="686" name=""/>
            <p:cNvSpPr/>
            <p:nvPr/>
          </p:nvSpPr>
          <p:spPr>
            <a:xfrm>
              <a:off x="1143000" y="5105520"/>
              <a:ext cx="5638680" cy="6094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1143000" y="5105520"/>
              <a:ext cx="56386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8" name=""/>
          <p:cNvSpPr/>
          <p:nvPr/>
        </p:nvSpPr>
        <p:spPr>
          <a:xfrm>
            <a:off x="2209680" y="3200400"/>
            <a:ext cx="3429000" cy="1905120"/>
          </a:xfrm>
          <a:prstGeom prst="rect">
            <a:avLst/>
          </a:prstGeom>
          <a:solidFill>
            <a:srgbClr val="b2b2b2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0" y="1420920"/>
            <a:ext cx="868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Comic Sans MS"/>
              </a:rPr>
              <a:t>Les trois remarques précédentes permettent de construire le dynamique des forces à </a:t>
            </a: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l’équilibre strict</a:t>
            </a:r>
            <a:r>
              <a:rPr b="1" lang="en-US" sz="2000" spc="-1" strike="noStrike">
                <a:solidFill>
                  <a:srgbClr val="990033"/>
                </a:solidFill>
                <a:latin typeface="Comic Sans MS"/>
              </a:rPr>
              <a:t>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5410080" y="41148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5638680" y="4114800"/>
            <a:ext cx="792360" cy="0"/>
          </a:xfrm>
          <a:prstGeom prst="line">
            <a:avLst/>
          </a:prstGeom>
          <a:ln w="5724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3921120" y="4114800"/>
            <a:ext cx="0" cy="231300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>
            <a:hlinkClick r:id="" action="ppaction://hlinkshowjump?jump=nextslide"/>
          </p:cNvPr>
          <p:cNvSpPr/>
          <p:nvPr/>
        </p:nvSpPr>
        <p:spPr>
          <a:xfrm>
            <a:off x="8682120" y="6551640"/>
            <a:ext cx="457200" cy="304920"/>
          </a:xfrm>
          <a:custGeom>
            <a:avLst/>
            <a:gdLst>
              <a:gd name="textAreaLeft" fmla="*/ 65160 w 457200"/>
              <a:gd name="textAreaRight" fmla="*/ 392040 w 457200"/>
              <a:gd name="textAreaTop" fmla="*/ 65160 h 304920"/>
              <a:gd name="textAreaBottom" fmla="*/ 23976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27762" y="4613"/>
                </a:lnTo>
                <a:lnTo>
                  <a:pt x="4613" y="4613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27762" y="16987"/>
                </a:lnTo>
                <a:lnTo>
                  <a:pt x="27762" y="4613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4613" y="16987"/>
                </a:lnTo>
                <a:lnTo>
                  <a:pt x="27762" y="16987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4613" y="4613"/>
                </a:lnTo>
                <a:lnTo>
                  <a:pt x="4613" y="16987"/>
                </a:lnTo>
                <a:close/>
              </a:path>
              <a:path fill="darken" w="32375" h="21600">
                <a:moveTo>
                  <a:pt x="11576" y="6188"/>
                </a:moveTo>
                <a:lnTo>
                  <a:pt x="20799" y="10800"/>
                </a:lnTo>
                <a:lnTo>
                  <a:pt x="11576" y="15412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>
            <a:hlinkClick r:id="" action="ppaction://hlinkshowjump?jump=previousslide"/>
          </p:cNvPr>
          <p:cNvSpPr/>
          <p:nvPr/>
        </p:nvSpPr>
        <p:spPr>
          <a:xfrm>
            <a:off x="633240" y="6551640"/>
            <a:ext cx="457200" cy="304920"/>
          </a:xfrm>
          <a:custGeom>
            <a:avLst/>
            <a:gdLst>
              <a:gd name="textAreaLeft" fmla="*/ 60120 w 457200"/>
              <a:gd name="textAreaRight" fmla="*/ 397080 w 457200"/>
              <a:gd name="textAreaTop" fmla="*/ 60120 h 304920"/>
              <a:gd name="textAreaBottom" fmla="*/ 24480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28100" y="4275"/>
                </a:lnTo>
                <a:lnTo>
                  <a:pt x="4275" y="4275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28100" y="17325"/>
                </a:lnTo>
                <a:lnTo>
                  <a:pt x="28100" y="4275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4275" y="17325"/>
                </a:lnTo>
                <a:lnTo>
                  <a:pt x="28100" y="17325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4275" y="4275"/>
                </a:lnTo>
                <a:lnTo>
                  <a:pt x="4275" y="17325"/>
                </a:lnTo>
                <a:close/>
              </a:path>
              <a:path fill="darken" w="32375" h="21600">
                <a:moveTo>
                  <a:pt x="11324" y="10800"/>
                </a:moveTo>
                <a:lnTo>
                  <a:pt x="21051" y="5936"/>
                </a:lnTo>
                <a:lnTo>
                  <a:pt x="21051" y="15664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>
            <a:hlinkClick r:id="" action="ppaction://hlinkshowjump?jump=firstslide"/>
          </p:cNvPr>
          <p:cNvSpPr/>
          <p:nvPr/>
        </p:nvSpPr>
        <p:spPr>
          <a:xfrm>
            <a:off x="0" y="6551640"/>
            <a:ext cx="457200" cy="304920"/>
          </a:xfrm>
          <a:custGeom>
            <a:avLst/>
            <a:gdLst>
              <a:gd name="textAreaLeft" fmla="*/ 58680 w 457200"/>
              <a:gd name="textAreaRight" fmla="*/ 398520 w 457200"/>
              <a:gd name="textAreaTop" fmla="*/ 58680 h 304920"/>
              <a:gd name="textAreaBottom" fmla="*/ 24624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28212" y="4163"/>
                </a:lnTo>
                <a:lnTo>
                  <a:pt x="4163" y="4163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28212" y="17437"/>
                </a:lnTo>
                <a:lnTo>
                  <a:pt x="28212" y="4163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4163" y="17437"/>
                </a:lnTo>
                <a:lnTo>
                  <a:pt x="28212" y="17437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4163" y="4163"/>
                </a:lnTo>
                <a:lnTo>
                  <a:pt x="4163" y="17437"/>
                </a:lnTo>
                <a:close/>
              </a:path>
              <a:path fill="darken" w="32375" h="21600">
                <a:moveTo>
                  <a:pt x="13717" y="10800"/>
                </a:moveTo>
                <a:lnTo>
                  <a:pt x="21134" y="5853"/>
                </a:lnTo>
                <a:lnTo>
                  <a:pt x="21134" y="15747"/>
                </a:lnTo>
                <a:close/>
              </a:path>
              <a:path fill="darken" w="32375" h="21600">
                <a:moveTo>
                  <a:pt x="11240" y="5853"/>
                </a:moveTo>
                <a:lnTo>
                  <a:pt x="12414" y="5853"/>
                </a:lnTo>
                <a:lnTo>
                  <a:pt x="12414" y="15747"/>
                </a:lnTo>
                <a:lnTo>
                  <a:pt x="11240" y="15747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6" name=""/>
          <p:cNvGrpSpPr/>
          <p:nvPr/>
        </p:nvGrpSpPr>
        <p:grpSpPr>
          <a:xfrm>
            <a:off x="3242160" y="2708280"/>
            <a:ext cx="1978920" cy="2908440"/>
            <a:chOff x="3242160" y="2708280"/>
            <a:chExt cx="1978920" cy="2908440"/>
          </a:xfrm>
        </p:grpSpPr>
        <p:sp>
          <p:nvSpPr>
            <p:cNvPr id="697" name=""/>
            <p:cNvSpPr/>
            <p:nvPr/>
          </p:nvSpPr>
          <p:spPr>
            <a:xfrm>
              <a:off x="3921120" y="40384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3768840" y="411480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 flipH="1" flipV="1">
              <a:off x="3492720" y="2805840"/>
              <a:ext cx="730080" cy="22464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172040" y="5159520"/>
              <a:ext cx="3808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Comic Sans MS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 flipH="1">
              <a:off x="3241800" y="3797280"/>
              <a:ext cx="1978920" cy="1269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29321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293216"/>
                </a:path>
              </a:pathLst>
            </a:custGeom>
            <a:noFill/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3757680" y="3368520"/>
              <a:ext cx="534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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3" name=""/>
            <p:cNvGrpSpPr/>
            <p:nvPr/>
          </p:nvGrpSpPr>
          <p:grpSpPr>
            <a:xfrm>
              <a:off x="4232160" y="2708280"/>
              <a:ext cx="162000" cy="2362320"/>
              <a:chOff x="4232160" y="2708280"/>
              <a:chExt cx="162000" cy="2362320"/>
            </a:xfrm>
          </p:grpSpPr>
          <p:sp>
            <p:nvSpPr>
              <p:cNvPr id="704" name=""/>
              <p:cNvSpPr/>
              <p:nvPr/>
            </p:nvSpPr>
            <p:spPr>
              <a:xfrm flipV="1">
                <a:off x="4232160" y="2708280"/>
                <a:ext cx="0" cy="2357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4241880" y="4870440"/>
                <a:ext cx="152280" cy="200160"/>
              </a:xfrm>
              <a:prstGeom prst="rect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06" name=""/>
          <p:cNvSpPr/>
          <p:nvPr/>
        </p:nvSpPr>
        <p:spPr>
          <a:xfrm>
            <a:off x="3921120" y="4114800"/>
            <a:ext cx="0" cy="231300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4073400" y="4267080"/>
            <a:ext cx="0" cy="231300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4226040" y="4267080"/>
            <a:ext cx="0" cy="231300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4394160" y="4267080"/>
            <a:ext cx="0" cy="231300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4552920" y="4267080"/>
            <a:ext cx="0" cy="231300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4724280" y="4267080"/>
            <a:ext cx="0" cy="231300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4876920" y="4267080"/>
            <a:ext cx="0" cy="231300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5029200" y="4267080"/>
            <a:ext cx="0" cy="231300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5181480" y="4267080"/>
            <a:ext cx="0" cy="231300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5410080" y="4267080"/>
            <a:ext cx="0" cy="231300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5638680" y="4267080"/>
            <a:ext cx="0" cy="231300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5791320" y="4267080"/>
            <a:ext cx="0" cy="231300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6019920" y="4267080"/>
            <a:ext cx="0" cy="231300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6248520" y="4238640"/>
            <a:ext cx="0" cy="231300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6431040" y="4038480"/>
            <a:ext cx="0" cy="231300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6629400" y="3825720"/>
            <a:ext cx="0" cy="231300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6781680" y="3657600"/>
            <a:ext cx="0" cy="231300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7010280" y="3402000"/>
            <a:ext cx="0" cy="231300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7162920" y="3200400"/>
            <a:ext cx="0" cy="231300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7391520" y="3048120"/>
            <a:ext cx="0" cy="231300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3505320" y="2895480"/>
            <a:ext cx="720720" cy="22100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3657600" y="3048120"/>
            <a:ext cx="720720" cy="22096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3809880" y="3200400"/>
            <a:ext cx="720720" cy="22096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3962520" y="3352680"/>
            <a:ext cx="720720" cy="22100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4114800" y="3505320"/>
            <a:ext cx="720720" cy="22096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4267080" y="3657600"/>
            <a:ext cx="720720" cy="22096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4419720" y="3809880"/>
            <a:ext cx="720720" cy="22100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4572000" y="3962520"/>
            <a:ext cx="720720" cy="22096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4724280" y="4114800"/>
            <a:ext cx="720720" cy="22096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4876920" y="4267080"/>
            <a:ext cx="720720" cy="22100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5029200" y="4419720"/>
            <a:ext cx="720720" cy="22096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5181480" y="4572000"/>
            <a:ext cx="720720" cy="22096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5334120" y="4646520"/>
            <a:ext cx="720720" cy="22100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5445000" y="4572000"/>
            <a:ext cx="720720" cy="22096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5597640" y="4572000"/>
            <a:ext cx="720720" cy="22096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5710320" y="4419720"/>
            <a:ext cx="720720" cy="22096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5791320" y="4267080"/>
            <a:ext cx="720720" cy="22100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5908680" y="4218120"/>
            <a:ext cx="720720" cy="22096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6019920" y="4114800"/>
            <a:ext cx="720720" cy="22096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6165720" y="4038480"/>
            <a:ext cx="720720" cy="22100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6289560" y="3962520"/>
            <a:ext cx="720720" cy="22096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6431040" y="3825720"/>
            <a:ext cx="720720" cy="22100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6629400" y="3760920"/>
            <a:ext cx="720720" cy="22096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6740640" y="3657600"/>
            <a:ext cx="720720" cy="22096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6886440" y="3505320"/>
            <a:ext cx="720720" cy="22096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7010280" y="3368520"/>
            <a:ext cx="720720" cy="22100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7151760" y="3303720"/>
            <a:ext cx="720720" cy="22096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7162920" y="3063960"/>
            <a:ext cx="838080" cy="2514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7391520" y="3048120"/>
            <a:ext cx="838080" cy="2514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5638680" y="4114800"/>
            <a:ext cx="792360" cy="0"/>
          </a:xfrm>
          <a:prstGeom prst="line">
            <a:avLst/>
          </a:prstGeom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5791320" y="4267080"/>
            <a:ext cx="792000" cy="0"/>
          </a:xfrm>
          <a:prstGeom prst="line">
            <a:avLst/>
          </a:prstGeom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5989680" y="4419720"/>
            <a:ext cx="792000" cy="0"/>
          </a:xfrm>
          <a:prstGeom prst="line">
            <a:avLst/>
          </a:prstGeom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6165720" y="4572000"/>
            <a:ext cx="792360" cy="0"/>
          </a:xfrm>
          <a:prstGeom prst="line">
            <a:avLst/>
          </a:prstGeom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6359400" y="4724280"/>
            <a:ext cx="792360" cy="0"/>
          </a:xfrm>
          <a:prstGeom prst="line">
            <a:avLst/>
          </a:prstGeom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6512040" y="4870440"/>
            <a:ext cx="792000" cy="0"/>
          </a:xfrm>
          <a:prstGeom prst="line">
            <a:avLst/>
          </a:prstGeom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6669000" y="4952880"/>
            <a:ext cx="792360" cy="0"/>
          </a:xfrm>
          <a:prstGeom prst="line">
            <a:avLst/>
          </a:prstGeom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6858000" y="5105520"/>
            <a:ext cx="792000" cy="0"/>
          </a:xfrm>
          <a:prstGeom prst="line">
            <a:avLst/>
          </a:prstGeom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7010280" y="5257800"/>
            <a:ext cx="792360" cy="0"/>
          </a:xfrm>
          <a:prstGeom prst="line">
            <a:avLst/>
          </a:prstGeom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7350120" y="5361120"/>
            <a:ext cx="879480" cy="0"/>
          </a:xfrm>
          <a:prstGeom prst="line">
            <a:avLst/>
          </a:prstGeom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7391520" y="5361120"/>
            <a:ext cx="792000" cy="0"/>
          </a:xfrm>
          <a:prstGeom prst="line">
            <a:avLst/>
          </a:prstGeom>
          <a:ln w="5724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 flipH="1" flipV="1">
            <a:off x="7391160" y="3063600"/>
            <a:ext cx="750600" cy="22813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7" name=""/>
          <p:cNvGrpSpPr/>
          <p:nvPr/>
        </p:nvGrpSpPr>
        <p:grpSpPr>
          <a:xfrm>
            <a:off x="7731000" y="3505320"/>
            <a:ext cx="838440" cy="457200"/>
            <a:chOff x="7731000" y="3505320"/>
            <a:chExt cx="838440" cy="457200"/>
          </a:xfrm>
        </p:grpSpPr>
        <p:sp>
          <p:nvSpPr>
            <p:cNvPr id="768" name=""/>
            <p:cNvSpPr/>
            <p:nvPr/>
          </p:nvSpPr>
          <p:spPr>
            <a:xfrm>
              <a:off x="7731000" y="3505320"/>
              <a:ext cx="8384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Comic Sans MS"/>
                </a:rPr>
                <a:t>A</a:t>
              </a:r>
              <a:r>
                <a:rPr b="1" lang="en-US" sz="2000" spc="-1" strike="noStrike">
                  <a:solidFill>
                    <a:srgbClr val="ff0000"/>
                  </a:solidFill>
                  <a:latin typeface="Comic Sans MS"/>
                </a:rPr>
                <a:t>0/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7795080" y="3505320"/>
              <a:ext cx="51624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0" name=""/>
          <p:cNvGrpSpPr/>
          <p:nvPr/>
        </p:nvGrpSpPr>
        <p:grpSpPr>
          <a:xfrm>
            <a:off x="7561440" y="5513400"/>
            <a:ext cx="580680" cy="457200"/>
            <a:chOff x="7561440" y="5513400"/>
            <a:chExt cx="580680" cy="457200"/>
          </a:xfrm>
        </p:grpSpPr>
        <p:grpSp>
          <p:nvGrpSpPr>
            <p:cNvPr id="771" name=""/>
            <p:cNvGrpSpPr/>
            <p:nvPr/>
          </p:nvGrpSpPr>
          <p:grpSpPr>
            <a:xfrm>
              <a:off x="7561440" y="5513400"/>
              <a:ext cx="580680" cy="457200"/>
              <a:chOff x="7561440" y="5513400"/>
              <a:chExt cx="580680" cy="457200"/>
            </a:xfrm>
          </p:grpSpPr>
          <p:sp>
            <p:nvSpPr>
              <p:cNvPr id="772" name=""/>
              <p:cNvSpPr/>
              <p:nvPr/>
            </p:nvSpPr>
            <p:spPr>
              <a:xfrm>
                <a:off x="7561440" y="5513400"/>
                <a:ext cx="58068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0800" bIns="1080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6600"/>
                    </a:solidFill>
                    <a:latin typeface="Comic Sans MS"/>
                  </a:rPr>
                  <a:t>B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7606440" y="5513400"/>
                <a:ext cx="35712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4" name=""/>
            <p:cNvSpPr/>
            <p:nvPr/>
          </p:nvSpPr>
          <p:spPr>
            <a:xfrm>
              <a:off x="7561440" y="5513400"/>
              <a:ext cx="316440" cy="0"/>
            </a:xfrm>
            <a:prstGeom prst="line">
              <a:avLst/>
            </a:prstGeom>
            <a:ln w="19080">
              <a:solidFill>
                <a:srgbClr val="00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"/>
          <p:cNvSpPr/>
          <p:nvPr/>
        </p:nvSpPr>
        <p:spPr>
          <a:xfrm>
            <a:off x="0" y="1420920"/>
            <a:ext cx="7670880" cy="8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Comic Sans MS"/>
              </a:rPr>
              <a:t>Regardons à nouveau la démonstration en faisant apparaître le </a:t>
            </a: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cône de frottement</a:t>
            </a:r>
            <a:r>
              <a:rPr b="1" lang="en-US" sz="2000" spc="-1" strike="noStrike">
                <a:solidFill>
                  <a:srgbClr val="990033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6" name=""/>
          <p:cNvGrpSpPr/>
          <p:nvPr/>
        </p:nvGrpSpPr>
        <p:grpSpPr>
          <a:xfrm>
            <a:off x="1143000" y="5105520"/>
            <a:ext cx="5638680" cy="609480"/>
            <a:chOff x="1143000" y="5105520"/>
            <a:chExt cx="5638680" cy="609480"/>
          </a:xfrm>
        </p:grpSpPr>
        <p:sp>
          <p:nvSpPr>
            <p:cNvPr id="777" name=""/>
            <p:cNvSpPr/>
            <p:nvPr/>
          </p:nvSpPr>
          <p:spPr>
            <a:xfrm>
              <a:off x="1143000" y="5105520"/>
              <a:ext cx="5638680" cy="6094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1143000" y="5105520"/>
              <a:ext cx="56386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9" name=""/>
          <p:cNvSpPr/>
          <p:nvPr/>
        </p:nvSpPr>
        <p:spPr>
          <a:xfrm>
            <a:off x="2209680" y="3200400"/>
            <a:ext cx="3429000" cy="1905120"/>
          </a:xfrm>
          <a:prstGeom prst="rect">
            <a:avLst/>
          </a:prstGeom>
          <a:solidFill>
            <a:srgbClr val="b2b2b2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3921120" y="4038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3768840" y="41148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3921120" y="4952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5410080" y="41148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 flipV="1">
            <a:off x="3921120" y="2743200"/>
            <a:ext cx="0" cy="23623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5" name=""/>
          <p:cNvGrpSpPr/>
          <p:nvPr/>
        </p:nvGrpSpPr>
        <p:grpSpPr>
          <a:xfrm>
            <a:off x="2753640" y="2255760"/>
            <a:ext cx="2355480" cy="2849760"/>
            <a:chOff x="2753640" y="2255760"/>
            <a:chExt cx="2355480" cy="2849760"/>
          </a:xfrm>
        </p:grpSpPr>
        <p:sp>
          <p:nvSpPr>
            <p:cNvPr id="786" name=""/>
            <p:cNvSpPr/>
            <p:nvPr/>
          </p:nvSpPr>
          <p:spPr>
            <a:xfrm>
              <a:off x="3094200" y="2590920"/>
              <a:ext cx="838080" cy="25146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 flipH="1">
              <a:off x="3931920" y="2590920"/>
              <a:ext cx="837720" cy="25146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3094200" y="2408400"/>
              <a:ext cx="1676160" cy="33480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397320" y="3200400"/>
              <a:ext cx="5346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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 flipH="1">
              <a:off x="2753280" y="3657600"/>
              <a:ext cx="2355480" cy="137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39431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394311"/>
                </a:path>
              </a:pathLst>
            </a:custGeom>
            <a:noFill/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 flipV="1">
              <a:off x="3932280" y="2255760"/>
              <a:ext cx="0" cy="28497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2" name=""/>
          <p:cNvSpPr/>
          <p:nvPr/>
        </p:nvSpPr>
        <p:spPr>
          <a:xfrm>
            <a:off x="3921120" y="4114800"/>
            <a:ext cx="0" cy="231300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3" name=""/>
          <p:cNvGrpSpPr/>
          <p:nvPr/>
        </p:nvGrpSpPr>
        <p:grpSpPr>
          <a:xfrm>
            <a:off x="1143000" y="5105520"/>
            <a:ext cx="5638680" cy="609480"/>
            <a:chOff x="1143000" y="5105520"/>
            <a:chExt cx="5638680" cy="609480"/>
          </a:xfrm>
        </p:grpSpPr>
        <p:sp>
          <p:nvSpPr>
            <p:cNvPr id="794" name=""/>
            <p:cNvSpPr/>
            <p:nvPr/>
          </p:nvSpPr>
          <p:spPr>
            <a:xfrm>
              <a:off x="1143000" y="5105520"/>
              <a:ext cx="5638680" cy="6094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1143000" y="5105520"/>
              <a:ext cx="56386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6" name=""/>
          <p:cNvSpPr/>
          <p:nvPr/>
        </p:nvSpPr>
        <p:spPr>
          <a:xfrm>
            <a:off x="2209680" y="3200400"/>
            <a:ext cx="3429000" cy="1905120"/>
          </a:xfrm>
          <a:prstGeom prst="rect">
            <a:avLst/>
          </a:prstGeom>
          <a:solidFill>
            <a:srgbClr val="b2b2b2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3921120" y="4038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3768840" y="41148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5410080" y="41148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5638680" y="4114800"/>
            <a:ext cx="287280" cy="0"/>
          </a:xfrm>
          <a:prstGeom prst="line">
            <a:avLst/>
          </a:prstGeom>
          <a:ln w="5724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 flipH="1" flipV="1">
            <a:off x="3870360" y="2743920"/>
            <a:ext cx="82800" cy="23608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3921120" y="4114800"/>
            <a:ext cx="0" cy="231300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0" y="1420920"/>
            <a:ext cx="7670880" cy="8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Comic Sans MS"/>
              </a:rPr>
              <a:t>Regardons à nouveau la démonstration en faisant apparaître le </a:t>
            </a: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cône de frottement</a:t>
            </a:r>
            <a:r>
              <a:rPr b="1" lang="en-US" sz="2000" spc="-1" strike="noStrike">
                <a:solidFill>
                  <a:srgbClr val="990033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4" name=""/>
          <p:cNvGrpSpPr/>
          <p:nvPr/>
        </p:nvGrpSpPr>
        <p:grpSpPr>
          <a:xfrm>
            <a:off x="2801520" y="2255760"/>
            <a:ext cx="2357280" cy="2849760"/>
            <a:chOff x="2801520" y="2255760"/>
            <a:chExt cx="2357280" cy="2849760"/>
          </a:xfrm>
        </p:grpSpPr>
        <p:sp>
          <p:nvSpPr>
            <p:cNvPr id="805" name=""/>
            <p:cNvSpPr/>
            <p:nvPr/>
          </p:nvSpPr>
          <p:spPr>
            <a:xfrm>
              <a:off x="3141720" y="2590920"/>
              <a:ext cx="838440" cy="25146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>
              <a:off x="3980160" y="2590920"/>
              <a:ext cx="838080" cy="25146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3141720" y="2408400"/>
              <a:ext cx="1676520" cy="33480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3445200" y="3200400"/>
              <a:ext cx="534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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 flipH="1">
              <a:off x="2801520" y="3657600"/>
              <a:ext cx="2357280" cy="137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39431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394311"/>
                </a:path>
              </a:pathLst>
            </a:custGeom>
            <a:noFill/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 flipV="1">
              <a:off x="3980160" y="2255760"/>
              <a:ext cx="0" cy="28497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"/>
          <p:cNvSpPr/>
          <p:nvPr/>
        </p:nvSpPr>
        <p:spPr>
          <a:xfrm>
            <a:off x="0" y="1420920"/>
            <a:ext cx="7670880" cy="8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Comic Sans MS"/>
              </a:rPr>
              <a:t>Regardons à nouveau la démonstration en faisant apparaître le </a:t>
            </a: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cône de frottement</a:t>
            </a:r>
            <a:r>
              <a:rPr b="1" lang="en-US" sz="2000" spc="-1" strike="noStrike">
                <a:solidFill>
                  <a:srgbClr val="990033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2" name=""/>
          <p:cNvGrpSpPr/>
          <p:nvPr/>
        </p:nvGrpSpPr>
        <p:grpSpPr>
          <a:xfrm>
            <a:off x="1143000" y="5105520"/>
            <a:ext cx="5638680" cy="609480"/>
            <a:chOff x="1143000" y="5105520"/>
            <a:chExt cx="5638680" cy="609480"/>
          </a:xfrm>
        </p:grpSpPr>
        <p:sp>
          <p:nvSpPr>
            <p:cNvPr id="813" name=""/>
            <p:cNvSpPr/>
            <p:nvPr/>
          </p:nvSpPr>
          <p:spPr>
            <a:xfrm>
              <a:off x="1143000" y="5105520"/>
              <a:ext cx="5638680" cy="6094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1143000" y="5105520"/>
              <a:ext cx="56386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5" name=""/>
          <p:cNvSpPr/>
          <p:nvPr/>
        </p:nvSpPr>
        <p:spPr>
          <a:xfrm>
            <a:off x="2209680" y="3200400"/>
            <a:ext cx="3429000" cy="1905120"/>
          </a:xfrm>
          <a:prstGeom prst="rect">
            <a:avLst/>
          </a:prstGeom>
          <a:solidFill>
            <a:srgbClr val="b2b2b2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3921120" y="4038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3768840" y="41148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5410080" y="41148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5638680" y="4114800"/>
            <a:ext cx="360360" cy="0"/>
          </a:xfrm>
          <a:prstGeom prst="line">
            <a:avLst/>
          </a:prstGeom>
          <a:ln w="5724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 flipH="1" flipV="1">
            <a:off x="3773880" y="2749680"/>
            <a:ext cx="246960" cy="2349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3921120" y="4114800"/>
            <a:ext cx="0" cy="231300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2" name=""/>
          <p:cNvGrpSpPr/>
          <p:nvPr/>
        </p:nvGrpSpPr>
        <p:grpSpPr>
          <a:xfrm>
            <a:off x="2847240" y="2255760"/>
            <a:ext cx="2355480" cy="2849760"/>
            <a:chOff x="2847240" y="2255760"/>
            <a:chExt cx="2355480" cy="2849760"/>
          </a:xfrm>
        </p:grpSpPr>
        <p:sp>
          <p:nvSpPr>
            <p:cNvPr id="823" name=""/>
            <p:cNvSpPr/>
            <p:nvPr/>
          </p:nvSpPr>
          <p:spPr>
            <a:xfrm>
              <a:off x="3187800" y="2590920"/>
              <a:ext cx="838080" cy="25146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 flipH="1">
              <a:off x="4025520" y="2590920"/>
              <a:ext cx="837720" cy="25146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187800" y="2408400"/>
              <a:ext cx="1676160" cy="33480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3490920" y="3200400"/>
              <a:ext cx="5346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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 flipH="1">
              <a:off x="2846880" y="3657600"/>
              <a:ext cx="2355480" cy="137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39431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394311"/>
                </a:path>
              </a:pathLst>
            </a:custGeom>
            <a:noFill/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 flipV="1">
              <a:off x="4025880" y="2255760"/>
              <a:ext cx="0" cy="28497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"/>
          <p:cNvSpPr/>
          <p:nvPr/>
        </p:nvSpPr>
        <p:spPr>
          <a:xfrm>
            <a:off x="0" y="1420920"/>
            <a:ext cx="7670880" cy="8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Comic Sans MS"/>
              </a:rPr>
              <a:t>Regardons à nouveau la démonstration en faisant apparaître le </a:t>
            </a: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cône de frottement</a:t>
            </a:r>
            <a:r>
              <a:rPr b="1" lang="en-US" sz="2000" spc="-1" strike="noStrike">
                <a:solidFill>
                  <a:srgbClr val="990033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0" name=""/>
          <p:cNvGrpSpPr/>
          <p:nvPr/>
        </p:nvGrpSpPr>
        <p:grpSpPr>
          <a:xfrm>
            <a:off x="1143000" y="5105520"/>
            <a:ext cx="5638680" cy="609480"/>
            <a:chOff x="1143000" y="5105520"/>
            <a:chExt cx="5638680" cy="609480"/>
          </a:xfrm>
        </p:grpSpPr>
        <p:sp>
          <p:nvSpPr>
            <p:cNvPr id="831" name=""/>
            <p:cNvSpPr/>
            <p:nvPr/>
          </p:nvSpPr>
          <p:spPr>
            <a:xfrm>
              <a:off x="1143000" y="5105520"/>
              <a:ext cx="5638680" cy="6094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1143000" y="5105520"/>
              <a:ext cx="56386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3" name=""/>
          <p:cNvSpPr/>
          <p:nvPr/>
        </p:nvSpPr>
        <p:spPr>
          <a:xfrm>
            <a:off x="2209680" y="3200400"/>
            <a:ext cx="3429000" cy="1905120"/>
          </a:xfrm>
          <a:prstGeom prst="rect">
            <a:avLst/>
          </a:prstGeom>
          <a:solidFill>
            <a:srgbClr val="b2b2b2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3921120" y="4038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3768840" y="41148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5410080" y="41148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5638680" y="4114800"/>
            <a:ext cx="432000" cy="0"/>
          </a:xfrm>
          <a:prstGeom prst="line">
            <a:avLst/>
          </a:prstGeom>
          <a:ln w="5724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 flipH="1" flipV="1">
            <a:off x="3726360" y="2754720"/>
            <a:ext cx="329040" cy="2339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3921120" y="4114800"/>
            <a:ext cx="0" cy="231300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2882160" y="2255760"/>
            <a:ext cx="2355480" cy="2849760"/>
            <a:chOff x="2882160" y="2255760"/>
            <a:chExt cx="2355480" cy="2849760"/>
          </a:xfrm>
        </p:grpSpPr>
        <p:sp>
          <p:nvSpPr>
            <p:cNvPr id="841" name=""/>
            <p:cNvSpPr/>
            <p:nvPr/>
          </p:nvSpPr>
          <p:spPr>
            <a:xfrm>
              <a:off x="3222720" y="2590920"/>
              <a:ext cx="838080" cy="25146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 flipH="1">
              <a:off x="4060440" y="2590920"/>
              <a:ext cx="837720" cy="25146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222720" y="2408400"/>
              <a:ext cx="1676160" cy="33480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3525840" y="3200400"/>
              <a:ext cx="5346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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 flipH="1">
              <a:off x="2881800" y="3657600"/>
              <a:ext cx="2355480" cy="137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39431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394311"/>
                </a:path>
              </a:pathLst>
            </a:custGeom>
            <a:noFill/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 flipV="1">
              <a:off x="4060800" y="2255760"/>
              <a:ext cx="0" cy="28497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"/>
          <p:cNvSpPr/>
          <p:nvPr/>
        </p:nvSpPr>
        <p:spPr>
          <a:xfrm>
            <a:off x="0" y="1420920"/>
            <a:ext cx="7670880" cy="8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Comic Sans MS"/>
              </a:rPr>
              <a:t>Regardons à nouveau la démonstration en faisant apparaître le </a:t>
            </a: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cône de frottement</a:t>
            </a:r>
            <a:r>
              <a:rPr b="1" lang="en-US" sz="2000" spc="-1" strike="noStrike">
                <a:solidFill>
                  <a:srgbClr val="990033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8" name=""/>
          <p:cNvGrpSpPr/>
          <p:nvPr/>
        </p:nvGrpSpPr>
        <p:grpSpPr>
          <a:xfrm>
            <a:off x="1143000" y="5105520"/>
            <a:ext cx="5638680" cy="609480"/>
            <a:chOff x="1143000" y="5105520"/>
            <a:chExt cx="5638680" cy="609480"/>
          </a:xfrm>
        </p:grpSpPr>
        <p:sp>
          <p:nvSpPr>
            <p:cNvPr id="849" name=""/>
            <p:cNvSpPr/>
            <p:nvPr/>
          </p:nvSpPr>
          <p:spPr>
            <a:xfrm>
              <a:off x="1143000" y="5105520"/>
              <a:ext cx="5638680" cy="6094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143000" y="5105520"/>
              <a:ext cx="56386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1" name=""/>
          <p:cNvSpPr/>
          <p:nvPr/>
        </p:nvSpPr>
        <p:spPr>
          <a:xfrm>
            <a:off x="2209680" y="3200400"/>
            <a:ext cx="3429000" cy="1905120"/>
          </a:xfrm>
          <a:prstGeom prst="rect">
            <a:avLst/>
          </a:prstGeom>
          <a:solidFill>
            <a:srgbClr val="b2b2b2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3921120" y="4038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3768840" y="41148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5410080" y="41148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5638680" y="4114800"/>
            <a:ext cx="503280" cy="0"/>
          </a:xfrm>
          <a:prstGeom prst="line">
            <a:avLst/>
          </a:prstGeom>
          <a:ln w="5724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 flipH="1" flipV="1">
            <a:off x="3679560" y="2761200"/>
            <a:ext cx="410400" cy="23263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3921120" y="4114800"/>
            <a:ext cx="0" cy="231300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8" name=""/>
          <p:cNvGrpSpPr/>
          <p:nvPr/>
        </p:nvGrpSpPr>
        <p:grpSpPr>
          <a:xfrm>
            <a:off x="2917080" y="2257200"/>
            <a:ext cx="2355480" cy="2849400"/>
            <a:chOff x="2917080" y="2257200"/>
            <a:chExt cx="2355480" cy="2849400"/>
          </a:xfrm>
        </p:grpSpPr>
        <p:sp>
          <p:nvSpPr>
            <p:cNvPr id="859" name=""/>
            <p:cNvSpPr/>
            <p:nvPr/>
          </p:nvSpPr>
          <p:spPr>
            <a:xfrm>
              <a:off x="3257640" y="2592360"/>
              <a:ext cx="838080" cy="25142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 flipH="1">
              <a:off x="4095360" y="2592360"/>
              <a:ext cx="837720" cy="25142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3257640" y="2409840"/>
              <a:ext cx="1676160" cy="33444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3560760" y="3201840"/>
              <a:ext cx="53460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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 flipH="1">
              <a:off x="2916720" y="3659040"/>
              <a:ext cx="2355480" cy="1370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39431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394311"/>
                </a:path>
              </a:pathLst>
            </a:custGeom>
            <a:noFill/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flipV="1">
              <a:off x="4095720" y="2257200"/>
              <a:ext cx="0" cy="28494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"/>
          <p:cNvSpPr/>
          <p:nvPr/>
        </p:nvSpPr>
        <p:spPr>
          <a:xfrm>
            <a:off x="0" y="1420920"/>
            <a:ext cx="7670880" cy="8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Comic Sans MS"/>
              </a:rPr>
              <a:t>Regardons à nouveau la démonstration en faisant apparaître le </a:t>
            </a: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cône de frottement</a:t>
            </a:r>
            <a:r>
              <a:rPr b="1" lang="en-US" sz="2000" spc="-1" strike="noStrike">
                <a:solidFill>
                  <a:srgbClr val="990033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6" name=""/>
          <p:cNvGrpSpPr/>
          <p:nvPr/>
        </p:nvGrpSpPr>
        <p:grpSpPr>
          <a:xfrm>
            <a:off x="1143000" y="5105520"/>
            <a:ext cx="5638680" cy="609480"/>
            <a:chOff x="1143000" y="5105520"/>
            <a:chExt cx="5638680" cy="609480"/>
          </a:xfrm>
        </p:grpSpPr>
        <p:sp>
          <p:nvSpPr>
            <p:cNvPr id="867" name=""/>
            <p:cNvSpPr/>
            <p:nvPr/>
          </p:nvSpPr>
          <p:spPr>
            <a:xfrm>
              <a:off x="1143000" y="5105520"/>
              <a:ext cx="5638680" cy="6094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1143000" y="5105520"/>
              <a:ext cx="56386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9" name=""/>
          <p:cNvSpPr/>
          <p:nvPr/>
        </p:nvSpPr>
        <p:spPr>
          <a:xfrm>
            <a:off x="2209680" y="3200400"/>
            <a:ext cx="3429000" cy="1905120"/>
          </a:xfrm>
          <a:prstGeom prst="rect">
            <a:avLst/>
          </a:prstGeom>
          <a:solidFill>
            <a:srgbClr val="b2b2b2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3921120" y="4038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3768840" y="41148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5410080" y="41148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5638680" y="4114800"/>
            <a:ext cx="576360" cy="0"/>
          </a:xfrm>
          <a:prstGeom prst="line">
            <a:avLst/>
          </a:prstGeom>
          <a:ln w="5724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 flipH="1" flipV="1">
            <a:off x="3631320" y="2769120"/>
            <a:ext cx="491040" cy="23104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3921120" y="4114800"/>
            <a:ext cx="0" cy="231300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6" name=""/>
          <p:cNvGrpSpPr/>
          <p:nvPr/>
        </p:nvGrpSpPr>
        <p:grpSpPr>
          <a:xfrm>
            <a:off x="2952000" y="2255760"/>
            <a:ext cx="2355480" cy="2849760"/>
            <a:chOff x="2952000" y="2255760"/>
            <a:chExt cx="2355480" cy="2849760"/>
          </a:xfrm>
        </p:grpSpPr>
        <p:sp>
          <p:nvSpPr>
            <p:cNvPr id="877" name=""/>
            <p:cNvSpPr/>
            <p:nvPr/>
          </p:nvSpPr>
          <p:spPr>
            <a:xfrm>
              <a:off x="3292560" y="2590920"/>
              <a:ext cx="838080" cy="25146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 flipH="1">
              <a:off x="4130280" y="2590920"/>
              <a:ext cx="837720" cy="25146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3292560" y="2408400"/>
              <a:ext cx="1676160" cy="33480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3595680" y="3200400"/>
              <a:ext cx="5346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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 flipH="1">
              <a:off x="2951640" y="3657600"/>
              <a:ext cx="2355480" cy="137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39431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394311"/>
                </a:path>
              </a:pathLst>
            </a:custGeom>
            <a:noFill/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 flipV="1">
              <a:off x="4130640" y="2255760"/>
              <a:ext cx="0" cy="28497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2209680" y="3200400"/>
            <a:ext cx="3429000" cy="1905120"/>
          </a:xfrm>
          <a:prstGeom prst="rect">
            <a:avLst/>
          </a:prstGeom>
          <a:solidFill>
            <a:srgbClr val="b2b2b2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14209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Comic Sans MS"/>
              </a:rPr>
              <a:t>Une action mécanique surfacique du plan 0 sur le so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2244600" y="4495680"/>
            <a:ext cx="3353040" cy="609840"/>
            <a:chOff x="2244600" y="4495680"/>
            <a:chExt cx="3353040" cy="609840"/>
          </a:xfrm>
        </p:grpSpPr>
        <p:sp>
          <p:nvSpPr>
            <p:cNvPr id="131" name=""/>
            <p:cNvSpPr/>
            <p:nvPr/>
          </p:nvSpPr>
          <p:spPr>
            <a:xfrm flipV="1">
              <a:off x="2244600" y="4495680"/>
              <a:ext cx="0" cy="6098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V="1">
              <a:off x="2397240" y="4495680"/>
              <a:ext cx="0" cy="6098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flipV="1">
              <a:off x="2549520" y="4495680"/>
              <a:ext cx="0" cy="6098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V="1">
              <a:off x="2701800" y="4495680"/>
              <a:ext cx="0" cy="6098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V="1">
              <a:off x="2854440" y="4495680"/>
              <a:ext cx="0" cy="6098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flipV="1">
              <a:off x="3006720" y="4495680"/>
              <a:ext cx="0" cy="6098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flipV="1">
              <a:off x="3159000" y="4495680"/>
              <a:ext cx="0" cy="6098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3311640" y="4495680"/>
              <a:ext cx="0" cy="6098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 flipV="1">
              <a:off x="3463920" y="4495680"/>
              <a:ext cx="0" cy="6098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flipV="1">
              <a:off x="3616200" y="4495680"/>
              <a:ext cx="0" cy="6098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flipV="1">
              <a:off x="3768840" y="4495680"/>
              <a:ext cx="0" cy="6098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 flipV="1">
              <a:off x="3921120" y="4495680"/>
              <a:ext cx="0" cy="6098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V="1">
              <a:off x="4073400" y="4495680"/>
              <a:ext cx="0" cy="6098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V="1">
              <a:off x="4226040" y="4495680"/>
              <a:ext cx="0" cy="6098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flipV="1">
              <a:off x="4378320" y="4495680"/>
              <a:ext cx="0" cy="6098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flipV="1">
              <a:off x="4530600" y="4495680"/>
              <a:ext cx="0" cy="6098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V="1">
              <a:off x="4683240" y="4495680"/>
              <a:ext cx="0" cy="6098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V="1">
              <a:off x="4835520" y="4495680"/>
              <a:ext cx="0" cy="6098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flipV="1">
              <a:off x="4987800" y="4495680"/>
              <a:ext cx="0" cy="6098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flipV="1">
              <a:off x="5140440" y="4495680"/>
              <a:ext cx="0" cy="6098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flipV="1">
              <a:off x="5292720" y="4495680"/>
              <a:ext cx="0" cy="6098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V="1">
              <a:off x="5445000" y="4495680"/>
              <a:ext cx="0" cy="6098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flipV="1">
              <a:off x="5597640" y="4495680"/>
              <a:ext cx="0" cy="6098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1447920" y="1878120"/>
            <a:ext cx="5943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Comic Sans MS"/>
              </a:rPr>
              <a:t>que l’on modélisera par une force au point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"/>
          <p:cNvSpPr/>
          <p:nvPr/>
        </p:nvSpPr>
        <p:spPr>
          <a:xfrm>
            <a:off x="0" y="1420920"/>
            <a:ext cx="7670880" cy="8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Comic Sans MS"/>
              </a:rPr>
              <a:t>Regardons à nouveau la démonstration en faisant apparaître le </a:t>
            </a: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cône de frottement</a:t>
            </a:r>
            <a:r>
              <a:rPr b="1" lang="en-US" sz="2000" spc="-1" strike="noStrike">
                <a:solidFill>
                  <a:srgbClr val="990033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4" name=""/>
          <p:cNvGrpSpPr/>
          <p:nvPr/>
        </p:nvGrpSpPr>
        <p:grpSpPr>
          <a:xfrm>
            <a:off x="1143000" y="5105520"/>
            <a:ext cx="5638680" cy="609480"/>
            <a:chOff x="1143000" y="5105520"/>
            <a:chExt cx="5638680" cy="609480"/>
          </a:xfrm>
        </p:grpSpPr>
        <p:sp>
          <p:nvSpPr>
            <p:cNvPr id="885" name=""/>
            <p:cNvSpPr/>
            <p:nvPr/>
          </p:nvSpPr>
          <p:spPr>
            <a:xfrm>
              <a:off x="1143000" y="5105520"/>
              <a:ext cx="5638680" cy="6094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1143000" y="5105520"/>
              <a:ext cx="56386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7" name=""/>
          <p:cNvSpPr/>
          <p:nvPr/>
        </p:nvSpPr>
        <p:spPr>
          <a:xfrm>
            <a:off x="2209680" y="3200400"/>
            <a:ext cx="3429000" cy="1905120"/>
          </a:xfrm>
          <a:prstGeom prst="rect">
            <a:avLst/>
          </a:prstGeom>
          <a:solidFill>
            <a:srgbClr val="b2b2b2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3921120" y="4038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3768840" y="41148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5410080" y="41148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5638680" y="4114800"/>
            <a:ext cx="648000" cy="0"/>
          </a:xfrm>
          <a:prstGeom prst="line">
            <a:avLst/>
          </a:prstGeom>
          <a:ln w="5724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 flipH="1" flipV="1">
            <a:off x="3584520" y="2782800"/>
            <a:ext cx="571680" cy="22924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3921120" y="4114800"/>
            <a:ext cx="0" cy="231300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4" name=""/>
          <p:cNvGrpSpPr/>
          <p:nvPr/>
        </p:nvGrpSpPr>
        <p:grpSpPr>
          <a:xfrm>
            <a:off x="2976120" y="2255760"/>
            <a:ext cx="2357280" cy="2849760"/>
            <a:chOff x="2976120" y="2255760"/>
            <a:chExt cx="2357280" cy="2849760"/>
          </a:xfrm>
        </p:grpSpPr>
        <p:sp>
          <p:nvSpPr>
            <p:cNvPr id="895" name=""/>
            <p:cNvSpPr/>
            <p:nvPr/>
          </p:nvSpPr>
          <p:spPr>
            <a:xfrm>
              <a:off x="3316320" y="2590920"/>
              <a:ext cx="838440" cy="25146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 flipH="1">
              <a:off x="4154760" y="2590920"/>
              <a:ext cx="838080" cy="25146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3316320" y="2408400"/>
              <a:ext cx="1676520" cy="33480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3619800" y="3200400"/>
              <a:ext cx="534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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 flipH="1">
              <a:off x="2976120" y="3657600"/>
              <a:ext cx="2357280" cy="137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39431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394311"/>
                </a:path>
              </a:pathLst>
            </a:custGeom>
            <a:noFill/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 flipV="1">
              <a:off x="4154760" y="2255760"/>
              <a:ext cx="0" cy="28497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"/>
          <p:cNvSpPr/>
          <p:nvPr/>
        </p:nvSpPr>
        <p:spPr>
          <a:xfrm>
            <a:off x="0" y="1420920"/>
            <a:ext cx="7670880" cy="8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Comic Sans MS"/>
              </a:rPr>
              <a:t>Regardons à nouveau la démonstration en faisant apparaître le </a:t>
            </a: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cône de frottement</a:t>
            </a:r>
            <a:r>
              <a:rPr b="1" lang="en-US" sz="2000" spc="-1" strike="noStrike">
                <a:solidFill>
                  <a:srgbClr val="990033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2" name=""/>
          <p:cNvGrpSpPr/>
          <p:nvPr/>
        </p:nvGrpSpPr>
        <p:grpSpPr>
          <a:xfrm>
            <a:off x="1143000" y="5105520"/>
            <a:ext cx="5638680" cy="609480"/>
            <a:chOff x="1143000" y="5105520"/>
            <a:chExt cx="5638680" cy="609480"/>
          </a:xfrm>
        </p:grpSpPr>
        <p:sp>
          <p:nvSpPr>
            <p:cNvPr id="903" name=""/>
            <p:cNvSpPr/>
            <p:nvPr/>
          </p:nvSpPr>
          <p:spPr>
            <a:xfrm>
              <a:off x="1143000" y="5105520"/>
              <a:ext cx="5638680" cy="6094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1143000" y="5105520"/>
              <a:ext cx="56386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5" name=""/>
          <p:cNvSpPr/>
          <p:nvPr/>
        </p:nvSpPr>
        <p:spPr>
          <a:xfrm>
            <a:off x="2209680" y="3200400"/>
            <a:ext cx="3429000" cy="1905120"/>
          </a:xfrm>
          <a:prstGeom prst="rect">
            <a:avLst/>
          </a:prstGeom>
          <a:solidFill>
            <a:srgbClr val="b2b2b2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3921120" y="4038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3768840" y="41148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5410080" y="41148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5638680" y="4114800"/>
            <a:ext cx="719280" cy="0"/>
          </a:xfrm>
          <a:prstGeom prst="line">
            <a:avLst/>
          </a:prstGeom>
          <a:ln w="5724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 flipH="1" flipV="1">
            <a:off x="3543120" y="2801520"/>
            <a:ext cx="650880" cy="22708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3921120" y="4114800"/>
            <a:ext cx="0" cy="231300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2" name=""/>
          <p:cNvGrpSpPr/>
          <p:nvPr/>
        </p:nvGrpSpPr>
        <p:grpSpPr>
          <a:xfrm>
            <a:off x="3023640" y="2255760"/>
            <a:ext cx="2357280" cy="2849760"/>
            <a:chOff x="3023640" y="2255760"/>
            <a:chExt cx="2357280" cy="2849760"/>
          </a:xfrm>
        </p:grpSpPr>
        <p:sp>
          <p:nvSpPr>
            <p:cNvPr id="913" name=""/>
            <p:cNvSpPr/>
            <p:nvPr/>
          </p:nvSpPr>
          <p:spPr>
            <a:xfrm>
              <a:off x="3363840" y="2590920"/>
              <a:ext cx="838440" cy="25146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 flipH="1">
              <a:off x="4202280" y="2590920"/>
              <a:ext cx="838080" cy="25146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3363840" y="2408400"/>
              <a:ext cx="1676520" cy="33480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3667320" y="3200400"/>
              <a:ext cx="534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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 flipH="1">
              <a:off x="3023640" y="3657600"/>
              <a:ext cx="2357280" cy="137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39431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394311"/>
                </a:path>
              </a:pathLst>
            </a:custGeom>
            <a:noFill/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 flipV="1">
              <a:off x="4202280" y="2255760"/>
              <a:ext cx="0" cy="28497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"/>
          <p:cNvSpPr/>
          <p:nvPr/>
        </p:nvSpPr>
        <p:spPr>
          <a:xfrm>
            <a:off x="0" y="1420920"/>
            <a:ext cx="7670880" cy="8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Comic Sans MS"/>
              </a:rPr>
              <a:t>Regardons à nouveau la démonstration en faisant apparaître le </a:t>
            </a: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cône de frottement</a:t>
            </a:r>
            <a:r>
              <a:rPr b="1" lang="en-US" sz="2000" spc="-1" strike="noStrike">
                <a:solidFill>
                  <a:srgbClr val="990033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0" name=""/>
          <p:cNvGrpSpPr/>
          <p:nvPr/>
        </p:nvGrpSpPr>
        <p:grpSpPr>
          <a:xfrm>
            <a:off x="1143000" y="5105520"/>
            <a:ext cx="5638680" cy="609480"/>
            <a:chOff x="1143000" y="5105520"/>
            <a:chExt cx="5638680" cy="609480"/>
          </a:xfrm>
        </p:grpSpPr>
        <p:sp>
          <p:nvSpPr>
            <p:cNvPr id="921" name=""/>
            <p:cNvSpPr/>
            <p:nvPr/>
          </p:nvSpPr>
          <p:spPr>
            <a:xfrm>
              <a:off x="1143000" y="5105520"/>
              <a:ext cx="5638680" cy="6094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1143000" y="5105520"/>
              <a:ext cx="56386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3" name=""/>
          <p:cNvSpPr/>
          <p:nvPr/>
        </p:nvSpPr>
        <p:spPr>
          <a:xfrm>
            <a:off x="2209680" y="3200400"/>
            <a:ext cx="3429000" cy="1905120"/>
          </a:xfrm>
          <a:prstGeom prst="rect">
            <a:avLst/>
          </a:prstGeom>
          <a:solidFill>
            <a:srgbClr val="b2b2b2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921120" y="4038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768840" y="41148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5410080" y="41148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5638680" y="4114800"/>
            <a:ext cx="792360" cy="0"/>
          </a:xfrm>
          <a:prstGeom prst="line">
            <a:avLst/>
          </a:prstGeom>
          <a:ln w="5724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 flipH="1" flipV="1">
            <a:off x="3486240" y="2812320"/>
            <a:ext cx="730080" cy="22464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921120" y="4114800"/>
            <a:ext cx="0" cy="231300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0" name=""/>
          <p:cNvGrpSpPr/>
          <p:nvPr/>
        </p:nvGrpSpPr>
        <p:grpSpPr>
          <a:xfrm>
            <a:off x="3058560" y="2255760"/>
            <a:ext cx="2357280" cy="2849760"/>
            <a:chOff x="3058560" y="2255760"/>
            <a:chExt cx="2357280" cy="2849760"/>
          </a:xfrm>
        </p:grpSpPr>
        <p:sp>
          <p:nvSpPr>
            <p:cNvPr id="931" name=""/>
            <p:cNvSpPr/>
            <p:nvPr/>
          </p:nvSpPr>
          <p:spPr>
            <a:xfrm>
              <a:off x="3398760" y="2590920"/>
              <a:ext cx="838440" cy="25146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 flipH="1">
              <a:off x="4237200" y="2590920"/>
              <a:ext cx="838080" cy="25146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3398760" y="2408400"/>
              <a:ext cx="1676520" cy="33480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3702240" y="3200400"/>
              <a:ext cx="534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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 flipH="1">
              <a:off x="3058560" y="3657600"/>
              <a:ext cx="2357280" cy="137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39431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394311"/>
                </a:path>
              </a:pathLst>
            </a:custGeom>
            <a:noFill/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 flipV="1">
              <a:off x="4237200" y="2255760"/>
              <a:ext cx="0" cy="28497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"/>
          <p:cNvSpPr/>
          <p:nvPr/>
        </p:nvSpPr>
        <p:spPr>
          <a:xfrm>
            <a:off x="0" y="1420920"/>
            <a:ext cx="7670880" cy="8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Comic Sans MS"/>
              </a:rPr>
              <a:t>Regardons à nouveau la démonstration en faisant apparaître le </a:t>
            </a: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cône de frottement</a:t>
            </a:r>
            <a:r>
              <a:rPr b="1" lang="en-US" sz="2000" spc="-1" strike="noStrike">
                <a:solidFill>
                  <a:srgbClr val="990033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8" name=""/>
          <p:cNvGrpSpPr/>
          <p:nvPr/>
        </p:nvGrpSpPr>
        <p:grpSpPr>
          <a:xfrm>
            <a:off x="1143000" y="5105520"/>
            <a:ext cx="5638680" cy="609480"/>
            <a:chOff x="1143000" y="5105520"/>
            <a:chExt cx="5638680" cy="609480"/>
          </a:xfrm>
        </p:grpSpPr>
        <p:sp>
          <p:nvSpPr>
            <p:cNvPr id="939" name=""/>
            <p:cNvSpPr/>
            <p:nvPr/>
          </p:nvSpPr>
          <p:spPr>
            <a:xfrm>
              <a:off x="1143000" y="5105520"/>
              <a:ext cx="5638680" cy="6094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1143000" y="5105520"/>
              <a:ext cx="56386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1" name=""/>
          <p:cNvSpPr/>
          <p:nvPr/>
        </p:nvSpPr>
        <p:spPr>
          <a:xfrm>
            <a:off x="2362320" y="3200400"/>
            <a:ext cx="3429000" cy="1905120"/>
          </a:xfrm>
          <a:prstGeom prst="rect">
            <a:avLst/>
          </a:prstGeom>
          <a:solidFill>
            <a:srgbClr val="b2b2b2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4073400" y="4038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3921120" y="4114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5562720" y="41148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5791320" y="4114800"/>
            <a:ext cx="792000" cy="0"/>
          </a:xfrm>
          <a:prstGeom prst="line">
            <a:avLst/>
          </a:prstGeom>
          <a:ln w="5724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 flipH="1" flipV="1">
            <a:off x="3645000" y="2812320"/>
            <a:ext cx="730080" cy="22464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4073400" y="4114800"/>
            <a:ext cx="0" cy="231300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8" name=""/>
          <p:cNvGrpSpPr/>
          <p:nvPr/>
        </p:nvGrpSpPr>
        <p:grpSpPr>
          <a:xfrm>
            <a:off x="3210840" y="2232000"/>
            <a:ext cx="2355480" cy="2849760"/>
            <a:chOff x="3210840" y="2232000"/>
            <a:chExt cx="2355480" cy="2849760"/>
          </a:xfrm>
        </p:grpSpPr>
        <p:sp>
          <p:nvSpPr>
            <p:cNvPr id="949" name=""/>
            <p:cNvSpPr/>
            <p:nvPr/>
          </p:nvSpPr>
          <p:spPr>
            <a:xfrm>
              <a:off x="3551400" y="2567160"/>
              <a:ext cx="838080" cy="25146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 flipH="1">
              <a:off x="4389120" y="2567160"/>
              <a:ext cx="837720" cy="25146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3551400" y="2384640"/>
              <a:ext cx="1676160" cy="33480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3854520" y="3176640"/>
              <a:ext cx="5346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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 flipH="1">
              <a:off x="3210480" y="3633840"/>
              <a:ext cx="2355480" cy="137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39431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394311"/>
                </a:path>
              </a:pathLst>
            </a:custGeom>
            <a:noFill/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 flipV="1">
              <a:off x="4389480" y="2232000"/>
              <a:ext cx="0" cy="28497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"/>
          <p:cNvSpPr/>
          <p:nvPr/>
        </p:nvSpPr>
        <p:spPr>
          <a:xfrm>
            <a:off x="0" y="1420920"/>
            <a:ext cx="7670880" cy="8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Comic Sans MS"/>
              </a:rPr>
              <a:t>Regardons à nouveau la démonstration en faisant apparaître le </a:t>
            </a: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cône de frottement</a:t>
            </a:r>
            <a:r>
              <a:rPr b="1" lang="en-US" sz="2000" spc="-1" strike="noStrike">
                <a:solidFill>
                  <a:srgbClr val="990033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6" name=""/>
          <p:cNvGrpSpPr/>
          <p:nvPr/>
        </p:nvGrpSpPr>
        <p:grpSpPr>
          <a:xfrm>
            <a:off x="1143000" y="5105520"/>
            <a:ext cx="5638680" cy="609480"/>
            <a:chOff x="1143000" y="5105520"/>
            <a:chExt cx="5638680" cy="609480"/>
          </a:xfrm>
        </p:grpSpPr>
        <p:sp>
          <p:nvSpPr>
            <p:cNvPr id="957" name=""/>
            <p:cNvSpPr/>
            <p:nvPr/>
          </p:nvSpPr>
          <p:spPr>
            <a:xfrm>
              <a:off x="1143000" y="5105520"/>
              <a:ext cx="5638680" cy="6094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1143000" y="5105520"/>
              <a:ext cx="56386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9" name=""/>
          <p:cNvSpPr/>
          <p:nvPr/>
        </p:nvSpPr>
        <p:spPr>
          <a:xfrm>
            <a:off x="2514600" y="3200400"/>
            <a:ext cx="3429000" cy="1905120"/>
          </a:xfrm>
          <a:prstGeom prst="rect">
            <a:avLst/>
          </a:prstGeom>
          <a:solidFill>
            <a:srgbClr val="b2b2b2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4226040" y="4038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4073400" y="4114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5715000" y="41148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5943600" y="4114800"/>
            <a:ext cx="792000" cy="0"/>
          </a:xfrm>
          <a:prstGeom prst="line">
            <a:avLst/>
          </a:prstGeom>
          <a:ln w="5724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 flipH="1" flipV="1">
            <a:off x="3797280" y="2801160"/>
            <a:ext cx="730080" cy="22464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4226040" y="4114800"/>
            <a:ext cx="0" cy="231300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6" name=""/>
          <p:cNvGrpSpPr/>
          <p:nvPr/>
        </p:nvGrpSpPr>
        <p:grpSpPr>
          <a:xfrm>
            <a:off x="3363480" y="2219040"/>
            <a:ext cx="2357280" cy="2849400"/>
            <a:chOff x="3363480" y="2219040"/>
            <a:chExt cx="2357280" cy="2849400"/>
          </a:xfrm>
        </p:grpSpPr>
        <p:sp>
          <p:nvSpPr>
            <p:cNvPr id="967" name=""/>
            <p:cNvSpPr/>
            <p:nvPr/>
          </p:nvSpPr>
          <p:spPr>
            <a:xfrm>
              <a:off x="3703680" y="2554200"/>
              <a:ext cx="838440" cy="25142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 flipH="1">
              <a:off x="4542120" y="2554200"/>
              <a:ext cx="838080" cy="25142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3703680" y="2371680"/>
              <a:ext cx="1676520" cy="33444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4007160" y="3163680"/>
              <a:ext cx="534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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 flipH="1">
              <a:off x="3363480" y="3620880"/>
              <a:ext cx="2357280" cy="1370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39431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394311"/>
                </a:path>
              </a:pathLst>
            </a:custGeom>
            <a:noFill/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 flipV="1">
              <a:off x="4542120" y="2219040"/>
              <a:ext cx="0" cy="28494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"/>
          <p:cNvSpPr/>
          <p:nvPr/>
        </p:nvSpPr>
        <p:spPr>
          <a:xfrm>
            <a:off x="0" y="1420920"/>
            <a:ext cx="7670880" cy="8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Comic Sans MS"/>
              </a:rPr>
              <a:t>Regardons à nouveau la démonstration en faisant apparaître le </a:t>
            </a: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cône de frottement</a:t>
            </a:r>
            <a:r>
              <a:rPr b="1" lang="en-US" sz="2000" spc="-1" strike="noStrike">
                <a:solidFill>
                  <a:srgbClr val="990033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4" name=""/>
          <p:cNvGrpSpPr/>
          <p:nvPr/>
        </p:nvGrpSpPr>
        <p:grpSpPr>
          <a:xfrm>
            <a:off x="1143000" y="5105520"/>
            <a:ext cx="5638680" cy="609480"/>
            <a:chOff x="1143000" y="5105520"/>
            <a:chExt cx="5638680" cy="609480"/>
          </a:xfrm>
        </p:grpSpPr>
        <p:sp>
          <p:nvSpPr>
            <p:cNvPr id="975" name=""/>
            <p:cNvSpPr/>
            <p:nvPr/>
          </p:nvSpPr>
          <p:spPr>
            <a:xfrm>
              <a:off x="1143000" y="5105520"/>
              <a:ext cx="5638680" cy="6094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1143000" y="5105520"/>
              <a:ext cx="56386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7" name=""/>
          <p:cNvSpPr/>
          <p:nvPr/>
        </p:nvSpPr>
        <p:spPr>
          <a:xfrm>
            <a:off x="2666880" y="3200400"/>
            <a:ext cx="3429000" cy="1905120"/>
          </a:xfrm>
          <a:prstGeom prst="rect">
            <a:avLst/>
          </a:prstGeom>
          <a:solidFill>
            <a:srgbClr val="b2b2b2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4378320" y="4038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4226040" y="41148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5867280" y="41148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095880" y="4114800"/>
            <a:ext cx="792360" cy="0"/>
          </a:xfrm>
          <a:prstGeom prst="line">
            <a:avLst/>
          </a:prstGeom>
          <a:ln w="5724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 flipH="1" flipV="1">
            <a:off x="3944880" y="2801160"/>
            <a:ext cx="730080" cy="22464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4378320" y="4114800"/>
            <a:ext cx="0" cy="231300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4" name=""/>
          <p:cNvGrpSpPr/>
          <p:nvPr/>
        </p:nvGrpSpPr>
        <p:grpSpPr>
          <a:xfrm>
            <a:off x="3517200" y="2219040"/>
            <a:ext cx="2355480" cy="2849400"/>
            <a:chOff x="3517200" y="2219040"/>
            <a:chExt cx="2355480" cy="2849400"/>
          </a:xfrm>
        </p:grpSpPr>
        <p:sp>
          <p:nvSpPr>
            <p:cNvPr id="985" name=""/>
            <p:cNvSpPr/>
            <p:nvPr/>
          </p:nvSpPr>
          <p:spPr>
            <a:xfrm>
              <a:off x="3857760" y="2554200"/>
              <a:ext cx="838080" cy="25142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 flipH="1">
              <a:off x="4695480" y="2554200"/>
              <a:ext cx="837720" cy="25142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3857760" y="2371680"/>
              <a:ext cx="1676160" cy="33444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4160880" y="3163680"/>
              <a:ext cx="53460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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 flipH="1">
              <a:off x="3516840" y="3620880"/>
              <a:ext cx="2355480" cy="1370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39431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394311"/>
                </a:path>
              </a:pathLst>
            </a:custGeom>
            <a:noFill/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 flipV="1">
              <a:off x="4695840" y="2219040"/>
              <a:ext cx="0" cy="28494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"/>
          <p:cNvSpPr/>
          <p:nvPr/>
        </p:nvSpPr>
        <p:spPr>
          <a:xfrm>
            <a:off x="0" y="1420920"/>
            <a:ext cx="7670880" cy="8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Comic Sans MS"/>
              </a:rPr>
              <a:t>Regardons à nouveau la démonstration en faisant apparaître le </a:t>
            </a: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cône de frottement</a:t>
            </a:r>
            <a:r>
              <a:rPr b="1" lang="en-US" sz="2000" spc="-1" strike="noStrike">
                <a:solidFill>
                  <a:srgbClr val="990033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2" name=""/>
          <p:cNvGrpSpPr/>
          <p:nvPr/>
        </p:nvGrpSpPr>
        <p:grpSpPr>
          <a:xfrm>
            <a:off x="1143000" y="5105520"/>
            <a:ext cx="5638680" cy="609480"/>
            <a:chOff x="1143000" y="5105520"/>
            <a:chExt cx="5638680" cy="609480"/>
          </a:xfrm>
        </p:grpSpPr>
        <p:sp>
          <p:nvSpPr>
            <p:cNvPr id="993" name=""/>
            <p:cNvSpPr/>
            <p:nvPr/>
          </p:nvSpPr>
          <p:spPr>
            <a:xfrm>
              <a:off x="1143000" y="5105520"/>
              <a:ext cx="5638680" cy="6094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1143000" y="5105520"/>
              <a:ext cx="56386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5" name=""/>
          <p:cNvSpPr/>
          <p:nvPr/>
        </p:nvSpPr>
        <p:spPr>
          <a:xfrm>
            <a:off x="2819520" y="3200400"/>
            <a:ext cx="3429000" cy="1905120"/>
          </a:xfrm>
          <a:prstGeom prst="rect">
            <a:avLst/>
          </a:prstGeom>
          <a:solidFill>
            <a:srgbClr val="b2b2b2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4530600" y="4038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4378320" y="4114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6019920" y="41148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6248520" y="4114800"/>
            <a:ext cx="792000" cy="0"/>
          </a:xfrm>
          <a:prstGeom prst="line">
            <a:avLst/>
          </a:prstGeom>
          <a:ln w="5724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 flipH="1" flipV="1">
            <a:off x="4102200" y="2813760"/>
            <a:ext cx="730080" cy="22464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4530600" y="4114800"/>
            <a:ext cx="0" cy="231300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2" name=""/>
          <p:cNvGrpSpPr/>
          <p:nvPr/>
        </p:nvGrpSpPr>
        <p:grpSpPr>
          <a:xfrm>
            <a:off x="3669840" y="2219040"/>
            <a:ext cx="2357280" cy="2849400"/>
            <a:chOff x="3669840" y="2219040"/>
            <a:chExt cx="2357280" cy="2849400"/>
          </a:xfrm>
        </p:grpSpPr>
        <p:sp>
          <p:nvSpPr>
            <p:cNvPr id="1003" name=""/>
            <p:cNvSpPr/>
            <p:nvPr/>
          </p:nvSpPr>
          <p:spPr>
            <a:xfrm>
              <a:off x="4010040" y="2554200"/>
              <a:ext cx="838440" cy="25142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 flipH="1">
              <a:off x="4848480" y="2554200"/>
              <a:ext cx="838080" cy="25142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4010040" y="2371680"/>
              <a:ext cx="1676520" cy="33444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4313520" y="3163680"/>
              <a:ext cx="534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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 flipH="1">
              <a:off x="3669840" y="3620880"/>
              <a:ext cx="2357280" cy="1370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39431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394311"/>
                </a:path>
              </a:pathLst>
            </a:custGeom>
            <a:noFill/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 flipV="1">
              <a:off x="4848480" y="2219040"/>
              <a:ext cx="0" cy="28494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"/>
          <p:cNvSpPr/>
          <p:nvPr/>
        </p:nvSpPr>
        <p:spPr>
          <a:xfrm>
            <a:off x="0" y="1420920"/>
            <a:ext cx="7670880" cy="8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Comic Sans MS"/>
              </a:rPr>
              <a:t>Regardons à nouveau la démonstration en faisant apparaître le </a:t>
            </a: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cône de frottement</a:t>
            </a:r>
            <a:r>
              <a:rPr b="1" lang="en-US" sz="2000" spc="-1" strike="noStrike">
                <a:solidFill>
                  <a:srgbClr val="990033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0" name=""/>
          <p:cNvGrpSpPr/>
          <p:nvPr/>
        </p:nvGrpSpPr>
        <p:grpSpPr>
          <a:xfrm>
            <a:off x="1143000" y="5105520"/>
            <a:ext cx="5638680" cy="609480"/>
            <a:chOff x="1143000" y="5105520"/>
            <a:chExt cx="5638680" cy="609480"/>
          </a:xfrm>
        </p:grpSpPr>
        <p:sp>
          <p:nvSpPr>
            <p:cNvPr id="1011" name=""/>
            <p:cNvSpPr/>
            <p:nvPr/>
          </p:nvSpPr>
          <p:spPr>
            <a:xfrm>
              <a:off x="1143000" y="5105520"/>
              <a:ext cx="5638680" cy="6094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1143000" y="5105520"/>
              <a:ext cx="56386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3" name=""/>
          <p:cNvSpPr/>
          <p:nvPr/>
        </p:nvSpPr>
        <p:spPr>
          <a:xfrm>
            <a:off x="2971800" y="3200400"/>
            <a:ext cx="3429000" cy="1905120"/>
          </a:xfrm>
          <a:prstGeom prst="rect">
            <a:avLst/>
          </a:prstGeom>
          <a:solidFill>
            <a:srgbClr val="b2b2b2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4683240" y="4038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4530600" y="4114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6172200" y="41148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6400800" y="4114800"/>
            <a:ext cx="792000" cy="0"/>
          </a:xfrm>
          <a:prstGeom prst="line">
            <a:avLst/>
          </a:prstGeom>
          <a:ln w="5724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 flipH="1" flipV="1">
            <a:off x="4257720" y="2817000"/>
            <a:ext cx="730080" cy="22464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4683240" y="4114800"/>
            <a:ext cx="0" cy="231300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0" name=""/>
          <p:cNvGrpSpPr/>
          <p:nvPr/>
        </p:nvGrpSpPr>
        <p:grpSpPr>
          <a:xfrm>
            <a:off x="3822120" y="2232000"/>
            <a:ext cx="2357280" cy="2849760"/>
            <a:chOff x="3822120" y="2232000"/>
            <a:chExt cx="2357280" cy="2849760"/>
          </a:xfrm>
        </p:grpSpPr>
        <p:sp>
          <p:nvSpPr>
            <p:cNvPr id="1021" name=""/>
            <p:cNvSpPr/>
            <p:nvPr/>
          </p:nvSpPr>
          <p:spPr>
            <a:xfrm>
              <a:off x="4162320" y="2567160"/>
              <a:ext cx="838440" cy="25146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 flipH="1">
              <a:off x="5000760" y="2567160"/>
              <a:ext cx="838080" cy="25146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4162320" y="2384640"/>
              <a:ext cx="1676520" cy="33480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4465800" y="3176640"/>
              <a:ext cx="534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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 flipH="1">
              <a:off x="3822120" y="3633840"/>
              <a:ext cx="2357280" cy="137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39431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394311"/>
                </a:path>
              </a:pathLst>
            </a:custGeom>
            <a:noFill/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 flipV="1">
              <a:off x="5000760" y="2232000"/>
              <a:ext cx="0" cy="28497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"/>
          <p:cNvSpPr/>
          <p:nvPr/>
        </p:nvSpPr>
        <p:spPr>
          <a:xfrm>
            <a:off x="0" y="1420920"/>
            <a:ext cx="7670880" cy="8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Comic Sans MS"/>
              </a:rPr>
              <a:t>Regardons à nouveau la démonstration en faisant apparaître le </a:t>
            </a: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cône de frottement</a:t>
            </a:r>
            <a:r>
              <a:rPr b="1" lang="en-US" sz="2000" spc="-1" strike="noStrike">
                <a:solidFill>
                  <a:srgbClr val="990033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8" name=""/>
          <p:cNvGrpSpPr/>
          <p:nvPr/>
        </p:nvGrpSpPr>
        <p:grpSpPr>
          <a:xfrm>
            <a:off x="1143000" y="5105520"/>
            <a:ext cx="5638680" cy="609480"/>
            <a:chOff x="1143000" y="5105520"/>
            <a:chExt cx="5638680" cy="609480"/>
          </a:xfrm>
        </p:grpSpPr>
        <p:sp>
          <p:nvSpPr>
            <p:cNvPr id="1029" name=""/>
            <p:cNvSpPr/>
            <p:nvPr/>
          </p:nvSpPr>
          <p:spPr>
            <a:xfrm>
              <a:off x="1143000" y="5105520"/>
              <a:ext cx="5638680" cy="6094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1143000" y="5105520"/>
              <a:ext cx="56386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1" name=""/>
          <p:cNvSpPr/>
          <p:nvPr/>
        </p:nvSpPr>
        <p:spPr>
          <a:xfrm>
            <a:off x="3124080" y="3200400"/>
            <a:ext cx="3429000" cy="1905120"/>
          </a:xfrm>
          <a:prstGeom prst="rect">
            <a:avLst/>
          </a:prstGeom>
          <a:solidFill>
            <a:srgbClr val="b2b2b2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4835520" y="4038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4683240" y="41148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6324480" y="41148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6553080" y="4114800"/>
            <a:ext cx="792360" cy="0"/>
          </a:xfrm>
          <a:prstGeom prst="line">
            <a:avLst/>
          </a:prstGeom>
          <a:ln w="5724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 flipH="1" flipV="1">
            <a:off x="4407120" y="2812320"/>
            <a:ext cx="730080" cy="22464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4835520" y="4114800"/>
            <a:ext cx="0" cy="231300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8" name=""/>
          <p:cNvGrpSpPr/>
          <p:nvPr/>
        </p:nvGrpSpPr>
        <p:grpSpPr>
          <a:xfrm>
            <a:off x="3976200" y="2232000"/>
            <a:ext cx="2357280" cy="2849760"/>
            <a:chOff x="3976200" y="2232000"/>
            <a:chExt cx="2357280" cy="2849760"/>
          </a:xfrm>
        </p:grpSpPr>
        <p:sp>
          <p:nvSpPr>
            <p:cNvPr id="1039" name=""/>
            <p:cNvSpPr/>
            <p:nvPr/>
          </p:nvSpPr>
          <p:spPr>
            <a:xfrm>
              <a:off x="4316400" y="2567160"/>
              <a:ext cx="838440" cy="25146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 flipH="1">
              <a:off x="5154840" y="2567160"/>
              <a:ext cx="838080" cy="25146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4316400" y="2384640"/>
              <a:ext cx="1676520" cy="33480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4619880" y="3176640"/>
              <a:ext cx="534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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 flipH="1">
              <a:off x="3976200" y="3633840"/>
              <a:ext cx="2357280" cy="137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39431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394311"/>
                </a:path>
              </a:pathLst>
            </a:custGeom>
            <a:noFill/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 flipV="1">
              <a:off x="5154840" y="2232000"/>
              <a:ext cx="0" cy="28497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"/>
          <p:cNvSpPr/>
          <p:nvPr/>
        </p:nvSpPr>
        <p:spPr>
          <a:xfrm>
            <a:off x="0" y="1420920"/>
            <a:ext cx="7670880" cy="8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Comic Sans MS"/>
              </a:rPr>
              <a:t>Regardons à nouveau la démonstration en faisant apparaître le </a:t>
            </a: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cône de frottement</a:t>
            </a:r>
            <a:r>
              <a:rPr b="1" lang="en-US" sz="2000" spc="-1" strike="noStrike">
                <a:solidFill>
                  <a:srgbClr val="990033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6" name=""/>
          <p:cNvGrpSpPr/>
          <p:nvPr/>
        </p:nvGrpSpPr>
        <p:grpSpPr>
          <a:xfrm>
            <a:off x="1143000" y="5105520"/>
            <a:ext cx="5638680" cy="609480"/>
            <a:chOff x="1143000" y="5105520"/>
            <a:chExt cx="5638680" cy="609480"/>
          </a:xfrm>
        </p:grpSpPr>
        <p:sp>
          <p:nvSpPr>
            <p:cNvPr id="1047" name=""/>
            <p:cNvSpPr/>
            <p:nvPr/>
          </p:nvSpPr>
          <p:spPr>
            <a:xfrm>
              <a:off x="1143000" y="5105520"/>
              <a:ext cx="5638680" cy="6094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1143000" y="5105520"/>
              <a:ext cx="56386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9" name=""/>
          <p:cNvSpPr/>
          <p:nvPr/>
        </p:nvSpPr>
        <p:spPr>
          <a:xfrm>
            <a:off x="3276720" y="3200400"/>
            <a:ext cx="3429000" cy="1905120"/>
          </a:xfrm>
          <a:prstGeom prst="rect">
            <a:avLst/>
          </a:prstGeom>
          <a:solidFill>
            <a:srgbClr val="b2b2b2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4987800" y="4038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4835520" y="4114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6477120" y="41148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6705720" y="4114800"/>
            <a:ext cx="792000" cy="0"/>
          </a:xfrm>
          <a:prstGeom prst="line">
            <a:avLst/>
          </a:prstGeom>
          <a:ln w="5724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 flipH="1" flipV="1">
            <a:off x="4562640" y="2805840"/>
            <a:ext cx="730080" cy="22464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4987800" y="4114800"/>
            <a:ext cx="0" cy="231300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>
            <a:hlinkClick r:id="" action="ppaction://hlinkshowjump?jump=nextslide"/>
          </p:cNvPr>
          <p:cNvSpPr/>
          <p:nvPr/>
        </p:nvSpPr>
        <p:spPr>
          <a:xfrm>
            <a:off x="8682120" y="6551640"/>
            <a:ext cx="457200" cy="304920"/>
          </a:xfrm>
          <a:custGeom>
            <a:avLst/>
            <a:gdLst>
              <a:gd name="textAreaLeft" fmla="*/ 65160 w 457200"/>
              <a:gd name="textAreaRight" fmla="*/ 392040 w 457200"/>
              <a:gd name="textAreaTop" fmla="*/ 65160 h 304920"/>
              <a:gd name="textAreaBottom" fmla="*/ 23976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27762" y="4613"/>
                </a:lnTo>
                <a:lnTo>
                  <a:pt x="4613" y="4613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27762" y="16987"/>
                </a:lnTo>
                <a:lnTo>
                  <a:pt x="27762" y="4613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4613" y="16987"/>
                </a:lnTo>
                <a:lnTo>
                  <a:pt x="27762" y="16987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4613" y="4613"/>
                </a:lnTo>
                <a:lnTo>
                  <a:pt x="4613" y="16987"/>
                </a:lnTo>
                <a:close/>
              </a:path>
              <a:path fill="darken" w="32375" h="21600">
                <a:moveTo>
                  <a:pt x="11576" y="6188"/>
                </a:moveTo>
                <a:lnTo>
                  <a:pt x="20799" y="10800"/>
                </a:lnTo>
                <a:lnTo>
                  <a:pt x="11576" y="15412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>
            <a:hlinkClick r:id="rId3" action="ppaction://hlinksldjump"/>
          </p:cNvPr>
          <p:cNvSpPr/>
          <p:nvPr/>
        </p:nvSpPr>
        <p:spPr>
          <a:xfrm>
            <a:off x="633240" y="6551640"/>
            <a:ext cx="457200" cy="304920"/>
          </a:xfrm>
          <a:custGeom>
            <a:avLst/>
            <a:gdLst>
              <a:gd name="textAreaLeft" fmla="*/ 60120 w 457200"/>
              <a:gd name="textAreaRight" fmla="*/ 397080 w 457200"/>
              <a:gd name="textAreaTop" fmla="*/ 60120 h 304920"/>
              <a:gd name="textAreaBottom" fmla="*/ 24480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28100" y="4275"/>
                </a:lnTo>
                <a:lnTo>
                  <a:pt x="4275" y="4275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28100" y="17325"/>
                </a:lnTo>
                <a:lnTo>
                  <a:pt x="28100" y="4275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4275" y="17325"/>
                </a:lnTo>
                <a:lnTo>
                  <a:pt x="28100" y="17325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4275" y="4275"/>
                </a:lnTo>
                <a:lnTo>
                  <a:pt x="4275" y="17325"/>
                </a:lnTo>
                <a:close/>
              </a:path>
              <a:path fill="darken" w="32375" h="21600">
                <a:moveTo>
                  <a:pt x="11324" y="10800"/>
                </a:moveTo>
                <a:lnTo>
                  <a:pt x="21051" y="5936"/>
                </a:lnTo>
                <a:lnTo>
                  <a:pt x="21051" y="15664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>
            <a:hlinkClick r:id="" action="ppaction://hlinkshowjump?jump=firstslide"/>
          </p:cNvPr>
          <p:cNvSpPr/>
          <p:nvPr/>
        </p:nvSpPr>
        <p:spPr>
          <a:xfrm>
            <a:off x="0" y="6551640"/>
            <a:ext cx="457200" cy="304920"/>
          </a:xfrm>
          <a:custGeom>
            <a:avLst/>
            <a:gdLst>
              <a:gd name="textAreaLeft" fmla="*/ 58680 w 457200"/>
              <a:gd name="textAreaRight" fmla="*/ 398520 w 457200"/>
              <a:gd name="textAreaTop" fmla="*/ 58680 h 304920"/>
              <a:gd name="textAreaBottom" fmla="*/ 24624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28212" y="4163"/>
                </a:lnTo>
                <a:lnTo>
                  <a:pt x="4163" y="4163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28212" y="17437"/>
                </a:lnTo>
                <a:lnTo>
                  <a:pt x="28212" y="4163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4163" y="17437"/>
                </a:lnTo>
                <a:lnTo>
                  <a:pt x="28212" y="17437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4163" y="4163"/>
                </a:lnTo>
                <a:lnTo>
                  <a:pt x="4163" y="17437"/>
                </a:lnTo>
                <a:close/>
              </a:path>
              <a:path fill="darken" w="32375" h="21600">
                <a:moveTo>
                  <a:pt x="13717" y="10800"/>
                </a:moveTo>
                <a:lnTo>
                  <a:pt x="21134" y="5853"/>
                </a:lnTo>
                <a:lnTo>
                  <a:pt x="21134" y="15747"/>
                </a:lnTo>
                <a:close/>
              </a:path>
              <a:path fill="darken" w="32375" h="21600">
                <a:moveTo>
                  <a:pt x="11240" y="5853"/>
                </a:moveTo>
                <a:lnTo>
                  <a:pt x="12414" y="5853"/>
                </a:lnTo>
                <a:lnTo>
                  <a:pt x="12414" y="15747"/>
                </a:lnTo>
                <a:lnTo>
                  <a:pt x="11240" y="15747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9" name=""/>
          <p:cNvGrpSpPr/>
          <p:nvPr/>
        </p:nvGrpSpPr>
        <p:grpSpPr>
          <a:xfrm>
            <a:off x="4128480" y="2219040"/>
            <a:ext cx="2357280" cy="2849400"/>
            <a:chOff x="4128480" y="2219040"/>
            <a:chExt cx="2357280" cy="2849400"/>
          </a:xfrm>
        </p:grpSpPr>
        <p:sp>
          <p:nvSpPr>
            <p:cNvPr id="1060" name=""/>
            <p:cNvSpPr/>
            <p:nvPr/>
          </p:nvSpPr>
          <p:spPr>
            <a:xfrm>
              <a:off x="4468680" y="2554200"/>
              <a:ext cx="838440" cy="25142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 flipH="1">
              <a:off x="5307120" y="2554200"/>
              <a:ext cx="838080" cy="25142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4468680" y="2371680"/>
              <a:ext cx="1676520" cy="33444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4772160" y="3163680"/>
              <a:ext cx="534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Symbol"/>
                  <a:ea typeface="Symbol"/>
                </a:rPr>
                <a:t>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 flipH="1">
              <a:off x="4128480" y="3620880"/>
              <a:ext cx="2357280" cy="1370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39431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394311"/>
                </a:path>
              </a:pathLst>
            </a:custGeom>
            <a:noFill/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 flipV="1">
              <a:off x="5307120" y="2219040"/>
              <a:ext cx="0" cy="28494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209680" y="3200400"/>
            <a:ext cx="3429000" cy="1905120"/>
          </a:xfrm>
          <a:prstGeom prst="rect">
            <a:avLst/>
          </a:prstGeom>
          <a:solidFill>
            <a:srgbClr val="b2b2b2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14209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Comic Sans MS"/>
              </a:rPr>
              <a:t>Une action mécanique surfacique du plan 0 sur le so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244600" y="4495680"/>
            <a:ext cx="3353040" cy="609840"/>
            <a:chOff x="2244600" y="4495680"/>
            <a:chExt cx="3353040" cy="609840"/>
          </a:xfrm>
        </p:grpSpPr>
        <p:sp>
          <p:nvSpPr>
            <p:cNvPr id="158" name=""/>
            <p:cNvSpPr/>
            <p:nvPr/>
          </p:nvSpPr>
          <p:spPr>
            <a:xfrm flipV="1">
              <a:off x="2244600" y="4495680"/>
              <a:ext cx="0" cy="6098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>
              <a:off x="2397240" y="4495680"/>
              <a:ext cx="0" cy="6098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V="1">
              <a:off x="2549520" y="4495680"/>
              <a:ext cx="0" cy="6098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V="1">
              <a:off x="2701800" y="4495680"/>
              <a:ext cx="0" cy="6098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2854440" y="4495680"/>
              <a:ext cx="0" cy="6098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flipV="1">
              <a:off x="3006720" y="4495680"/>
              <a:ext cx="0" cy="6098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flipV="1">
              <a:off x="3159000" y="4495680"/>
              <a:ext cx="0" cy="6098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V="1">
              <a:off x="3311640" y="4495680"/>
              <a:ext cx="0" cy="6098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3463920" y="4495680"/>
              <a:ext cx="0" cy="6098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>
              <a:off x="3616200" y="4495680"/>
              <a:ext cx="0" cy="6098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V="1">
              <a:off x="3768840" y="4495680"/>
              <a:ext cx="0" cy="6098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3921120" y="4495680"/>
              <a:ext cx="0" cy="6098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V="1">
              <a:off x="4073400" y="4495680"/>
              <a:ext cx="0" cy="6098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V="1">
              <a:off x="4226040" y="4495680"/>
              <a:ext cx="0" cy="6098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V="1">
              <a:off x="4378320" y="4495680"/>
              <a:ext cx="0" cy="6098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4530600" y="4495680"/>
              <a:ext cx="0" cy="6098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V="1">
              <a:off x="4683240" y="4495680"/>
              <a:ext cx="0" cy="6098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V="1">
              <a:off x="4835520" y="4495680"/>
              <a:ext cx="0" cy="6098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V="1">
              <a:off x="4987800" y="4495680"/>
              <a:ext cx="0" cy="6098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V="1">
              <a:off x="5140440" y="4495680"/>
              <a:ext cx="0" cy="6098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flipV="1">
              <a:off x="5292720" y="4495680"/>
              <a:ext cx="0" cy="6098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V="1">
              <a:off x="5445000" y="4495680"/>
              <a:ext cx="0" cy="6098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5597640" y="4495680"/>
              <a:ext cx="0" cy="6098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1" name=""/>
          <p:cNvGrpSpPr/>
          <p:nvPr/>
        </p:nvGrpSpPr>
        <p:grpSpPr>
          <a:xfrm>
            <a:off x="2397240" y="4495320"/>
            <a:ext cx="3047760" cy="609480"/>
            <a:chOff x="2397240" y="4495320"/>
            <a:chExt cx="3047760" cy="609480"/>
          </a:xfrm>
        </p:grpSpPr>
        <p:sp>
          <p:nvSpPr>
            <p:cNvPr id="182" name=""/>
            <p:cNvSpPr/>
            <p:nvPr/>
          </p:nvSpPr>
          <p:spPr>
            <a:xfrm flipV="1">
              <a:off x="2397240" y="4495320"/>
              <a:ext cx="0" cy="609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V="1">
              <a:off x="2549520" y="4495320"/>
              <a:ext cx="0" cy="609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flipV="1">
              <a:off x="2701800" y="4495320"/>
              <a:ext cx="0" cy="609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V="1">
              <a:off x="2854440" y="4495320"/>
              <a:ext cx="0" cy="609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V="1">
              <a:off x="3006720" y="4495320"/>
              <a:ext cx="0" cy="609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V="1">
              <a:off x="3159000" y="4495320"/>
              <a:ext cx="0" cy="609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3311640" y="4495320"/>
              <a:ext cx="0" cy="609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3463920" y="4495320"/>
              <a:ext cx="0" cy="609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flipV="1">
              <a:off x="3616200" y="4495320"/>
              <a:ext cx="0" cy="609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768840" y="4495320"/>
              <a:ext cx="0" cy="609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V="1">
              <a:off x="3921120" y="4495320"/>
              <a:ext cx="0" cy="609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4073400" y="4495320"/>
              <a:ext cx="0" cy="609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flipV="1">
              <a:off x="4226040" y="4495320"/>
              <a:ext cx="0" cy="609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 flipV="1">
              <a:off x="4378320" y="4495320"/>
              <a:ext cx="0" cy="609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flipV="1">
              <a:off x="4530600" y="4495320"/>
              <a:ext cx="0" cy="609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flipV="1">
              <a:off x="4683240" y="4495320"/>
              <a:ext cx="0" cy="609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4835520" y="4495320"/>
              <a:ext cx="0" cy="609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4987800" y="4495320"/>
              <a:ext cx="0" cy="609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V="1">
              <a:off x="5140440" y="4495320"/>
              <a:ext cx="0" cy="609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V="1">
              <a:off x="5292720" y="4495320"/>
              <a:ext cx="0" cy="609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V="1">
              <a:off x="5445000" y="4495320"/>
              <a:ext cx="0" cy="609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2549520" y="4495320"/>
            <a:ext cx="2743200" cy="609480"/>
            <a:chOff x="2549520" y="4495320"/>
            <a:chExt cx="2743200" cy="609480"/>
          </a:xfrm>
        </p:grpSpPr>
        <p:sp>
          <p:nvSpPr>
            <p:cNvPr id="204" name=""/>
            <p:cNvSpPr/>
            <p:nvPr/>
          </p:nvSpPr>
          <p:spPr>
            <a:xfrm flipV="1">
              <a:off x="2549520" y="4495320"/>
              <a:ext cx="0" cy="609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V="1">
              <a:off x="2701800" y="4495320"/>
              <a:ext cx="0" cy="609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 flipV="1">
              <a:off x="2854440" y="4495320"/>
              <a:ext cx="0" cy="609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006720" y="4495320"/>
              <a:ext cx="0" cy="609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 flipV="1">
              <a:off x="3159000" y="4495320"/>
              <a:ext cx="0" cy="609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 flipV="1">
              <a:off x="3311640" y="4495320"/>
              <a:ext cx="0" cy="609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 flipV="1">
              <a:off x="3463920" y="4495320"/>
              <a:ext cx="0" cy="609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 flipV="1">
              <a:off x="3616200" y="4495320"/>
              <a:ext cx="0" cy="609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V="1">
              <a:off x="3768840" y="4495320"/>
              <a:ext cx="0" cy="609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 flipV="1">
              <a:off x="3921120" y="4495320"/>
              <a:ext cx="0" cy="609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flipV="1">
              <a:off x="4073400" y="4495320"/>
              <a:ext cx="0" cy="609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 flipV="1">
              <a:off x="4226040" y="4495320"/>
              <a:ext cx="0" cy="609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flipV="1">
              <a:off x="4378320" y="4495320"/>
              <a:ext cx="0" cy="609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 flipV="1">
              <a:off x="4530600" y="4495320"/>
              <a:ext cx="0" cy="609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 flipV="1">
              <a:off x="4683240" y="4495320"/>
              <a:ext cx="0" cy="609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flipV="1">
              <a:off x="4835520" y="4495320"/>
              <a:ext cx="0" cy="609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4987800" y="4495320"/>
              <a:ext cx="0" cy="609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5140440" y="4495320"/>
              <a:ext cx="0" cy="609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V="1">
              <a:off x="5292720" y="4495320"/>
              <a:ext cx="0" cy="609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701800" y="4495320"/>
            <a:ext cx="2438280" cy="609480"/>
            <a:chOff x="2701800" y="4495320"/>
            <a:chExt cx="2438280" cy="609480"/>
          </a:xfrm>
        </p:grpSpPr>
        <p:sp>
          <p:nvSpPr>
            <p:cNvPr id="224" name=""/>
            <p:cNvSpPr/>
            <p:nvPr/>
          </p:nvSpPr>
          <p:spPr>
            <a:xfrm flipV="1">
              <a:off x="2701800" y="4495320"/>
              <a:ext cx="0" cy="609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V="1">
              <a:off x="2854080" y="4495320"/>
              <a:ext cx="0" cy="609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 flipV="1">
              <a:off x="3006720" y="4495320"/>
              <a:ext cx="0" cy="609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flipV="1">
              <a:off x="3159000" y="4495320"/>
              <a:ext cx="0" cy="609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flipV="1">
              <a:off x="3311280" y="4495320"/>
              <a:ext cx="0" cy="609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 flipV="1">
              <a:off x="3463920" y="4495320"/>
              <a:ext cx="0" cy="609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flipV="1">
              <a:off x="3616200" y="4495320"/>
              <a:ext cx="0" cy="609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 flipV="1">
              <a:off x="3768480" y="4495320"/>
              <a:ext cx="0" cy="609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flipV="1">
              <a:off x="3921120" y="4495320"/>
              <a:ext cx="0" cy="609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V="1">
              <a:off x="4073400" y="4495320"/>
              <a:ext cx="0" cy="609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V="1">
              <a:off x="4225680" y="4495320"/>
              <a:ext cx="0" cy="609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V="1">
              <a:off x="4378320" y="4495320"/>
              <a:ext cx="0" cy="609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 flipV="1">
              <a:off x="4530600" y="4495320"/>
              <a:ext cx="0" cy="609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flipV="1">
              <a:off x="4682880" y="4495320"/>
              <a:ext cx="0" cy="609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flipV="1">
              <a:off x="4835520" y="4495320"/>
              <a:ext cx="0" cy="609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 flipV="1">
              <a:off x="4987800" y="4495320"/>
              <a:ext cx="0" cy="609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flipV="1">
              <a:off x="5140080" y="4495320"/>
              <a:ext cx="0" cy="609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2854440" y="4495320"/>
            <a:ext cx="2133360" cy="609480"/>
            <a:chOff x="2854440" y="4495320"/>
            <a:chExt cx="2133360" cy="609480"/>
          </a:xfrm>
        </p:grpSpPr>
        <p:sp>
          <p:nvSpPr>
            <p:cNvPr id="242" name=""/>
            <p:cNvSpPr/>
            <p:nvPr/>
          </p:nvSpPr>
          <p:spPr>
            <a:xfrm flipV="1">
              <a:off x="2854440" y="4495320"/>
              <a:ext cx="0" cy="609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flipV="1">
              <a:off x="3006720" y="4495320"/>
              <a:ext cx="0" cy="609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flipV="1">
              <a:off x="3159000" y="4495320"/>
              <a:ext cx="0" cy="609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 flipV="1">
              <a:off x="3311640" y="4495320"/>
              <a:ext cx="0" cy="609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 flipV="1">
              <a:off x="3463920" y="4495320"/>
              <a:ext cx="0" cy="609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 flipV="1">
              <a:off x="3616200" y="4495320"/>
              <a:ext cx="0" cy="609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V="1">
              <a:off x="3768840" y="4495320"/>
              <a:ext cx="0" cy="609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V="1">
              <a:off x="3921120" y="4495320"/>
              <a:ext cx="0" cy="609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V="1">
              <a:off x="4073400" y="4495320"/>
              <a:ext cx="0" cy="609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V="1">
              <a:off x="4226040" y="4495320"/>
              <a:ext cx="0" cy="609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V="1">
              <a:off x="4378320" y="4495320"/>
              <a:ext cx="0" cy="609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 flipV="1">
              <a:off x="4530600" y="4495320"/>
              <a:ext cx="0" cy="609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 flipV="1">
              <a:off x="4683240" y="4495320"/>
              <a:ext cx="0" cy="609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 flipV="1">
              <a:off x="4835520" y="4495320"/>
              <a:ext cx="0" cy="609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 flipV="1">
              <a:off x="4987800" y="4495320"/>
              <a:ext cx="0" cy="609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3006720" y="4495680"/>
            <a:ext cx="1828800" cy="609840"/>
            <a:chOff x="3006720" y="4495680"/>
            <a:chExt cx="1828800" cy="609840"/>
          </a:xfrm>
        </p:grpSpPr>
        <p:sp>
          <p:nvSpPr>
            <p:cNvPr id="258" name=""/>
            <p:cNvSpPr/>
            <p:nvPr/>
          </p:nvSpPr>
          <p:spPr>
            <a:xfrm flipV="1">
              <a:off x="3006720" y="4495680"/>
              <a:ext cx="0" cy="6098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>
              <a:off x="3159360" y="4495680"/>
              <a:ext cx="0" cy="6098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>
              <a:off x="3311640" y="4495680"/>
              <a:ext cx="0" cy="6098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>
              <a:off x="3463920" y="4495680"/>
              <a:ext cx="0" cy="6098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>
              <a:off x="3616560" y="4495680"/>
              <a:ext cx="0" cy="6098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>
              <a:off x="3768840" y="4495680"/>
              <a:ext cx="0" cy="6098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>
              <a:off x="3921120" y="4495680"/>
              <a:ext cx="0" cy="6098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>
              <a:off x="4073760" y="4495680"/>
              <a:ext cx="0" cy="6098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>
              <a:off x="4226040" y="4495680"/>
              <a:ext cx="0" cy="6098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>
              <a:off x="4378320" y="4495680"/>
              <a:ext cx="0" cy="6098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>
              <a:off x="4530960" y="4495680"/>
              <a:ext cx="0" cy="6098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>
              <a:off x="4683240" y="4495680"/>
              <a:ext cx="0" cy="6098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>
              <a:off x="4835520" y="4495680"/>
              <a:ext cx="0" cy="6098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1" name=""/>
          <p:cNvGrpSpPr/>
          <p:nvPr/>
        </p:nvGrpSpPr>
        <p:grpSpPr>
          <a:xfrm>
            <a:off x="3159000" y="4495320"/>
            <a:ext cx="1523880" cy="609480"/>
            <a:chOff x="3159000" y="4495320"/>
            <a:chExt cx="1523880" cy="609480"/>
          </a:xfrm>
        </p:grpSpPr>
        <p:sp>
          <p:nvSpPr>
            <p:cNvPr id="272" name=""/>
            <p:cNvSpPr/>
            <p:nvPr/>
          </p:nvSpPr>
          <p:spPr>
            <a:xfrm flipV="1">
              <a:off x="3159000" y="4495320"/>
              <a:ext cx="0" cy="609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311280" y="4495320"/>
              <a:ext cx="0" cy="609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3463920" y="4495320"/>
              <a:ext cx="0" cy="609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3616200" y="4495320"/>
              <a:ext cx="0" cy="609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3768480" y="4495320"/>
              <a:ext cx="0" cy="609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flipV="1">
              <a:off x="3921120" y="4495320"/>
              <a:ext cx="0" cy="609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flipV="1">
              <a:off x="4073400" y="4495320"/>
              <a:ext cx="0" cy="609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flipV="1">
              <a:off x="4225680" y="4495320"/>
              <a:ext cx="0" cy="609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>
              <a:off x="4378320" y="4495320"/>
              <a:ext cx="0" cy="609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flipV="1">
              <a:off x="4530600" y="4495320"/>
              <a:ext cx="0" cy="609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flipV="1">
              <a:off x="4682880" y="4495320"/>
              <a:ext cx="0" cy="609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3" name=""/>
          <p:cNvGrpSpPr/>
          <p:nvPr/>
        </p:nvGrpSpPr>
        <p:grpSpPr>
          <a:xfrm>
            <a:off x="3311640" y="4495320"/>
            <a:ext cx="1218960" cy="609480"/>
            <a:chOff x="3311640" y="4495320"/>
            <a:chExt cx="1218960" cy="609480"/>
          </a:xfrm>
        </p:grpSpPr>
        <p:sp>
          <p:nvSpPr>
            <p:cNvPr id="284" name=""/>
            <p:cNvSpPr/>
            <p:nvPr/>
          </p:nvSpPr>
          <p:spPr>
            <a:xfrm flipV="1">
              <a:off x="3311640" y="4495320"/>
              <a:ext cx="0" cy="609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>
              <a:off x="3463920" y="4495320"/>
              <a:ext cx="0" cy="609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>
              <a:off x="3616200" y="4495320"/>
              <a:ext cx="0" cy="609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>
              <a:off x="3768840" y="4495320"/>
              <a:ext cx="0" cy="609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>
              <a:off x="3921120" y="4495320"/>
              <a:ext cx="0" cy="609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>
              <a:off x="4073400" y="4495320"/>
              <a:ext cx="0" cy="609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4226040" y="4495320"/>
              <a:ext cx="0" cy="609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4378320" y="4495320"/>
              <a:ext cx="0" cy="609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 flipV="1">
              <a:off x="4530600" y="4495320"/>
              <a:ext cx="0" cy="609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3" name=""/>
          <p:cNvGrpSpPr/>
          <p:nvPr/>
        </p:nvGrpSpPr>
        <p:grpSpPr>
          <a:xfrm>
            <a:off x="3463920" y="4495680"/>
            <a:ext cx="914400" cy="609840"/>
            <a:chOff x="3463920" y="4495680"/>
            <a:chExt cx="914400" cy="609840"/>
          </a:xfrm>
        </p:grpSpPr>
        <p:sp>
          <p:nvSpPr>
            <p:cNvPr id="294" name=""/>
            <p:cNvSpPr/>
            <p:nvPr/>
          </p:nvSpPr>
          <p:spPr>
            <a:xfrm flipV="1">
              <a:off x="3463920" y="4495680"/>
              <a:ext cx="0" cy="6098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 flipV="1">
              <a:off x="3616200" y="4495680"/>
              <a:ext cx="0" cy="6098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 flipV="1">
              <a:off x="3768840" y="4495680"/>
              <a:ext cx="0" cy="6098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 flipV="1">
              <a:off x="3921120" y="4495680"/>
              <a:ext cx="0" cy="6098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 flipV="1">
              <a:off x="4073400" y="4495680"/>
              <a:ext cx="0" cy="6098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4226040" y="4495680"/>
              <a:ext cx="0" cy="6098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4378320" y="4495680"/>
              <a:ext cx="0" cy="6098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1" name=""/>
          <p:cNvGrpSpPr/>
          <p:nvPr/>
        </p:nvGrpSpPr>
        <p:grpSpPr>
          <a:xfrm>
            <a:off x="3616200" y="4495320"/>
            <a:ext cx="609840" cy="609480"/>
            <a:chOff x="3616200" y="4495320"/>
            <a:chExt cx="609840" cy="609480"/>
          </a:xfrm>
        </p:grpSpPr>
        <p:sp>
          <p:nvSpPr>
            <p:cNvPr id="302" name=""/>
            <p:cNvSpPr/>
            <p:nvPr/>
          </p:nvSpPr>
          <p:spPr>
            <a:xfrm flipV="1">
              <a:off x="3616200" y="4495320"/>
              <a:ext cx="0" cy="609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3768840" y="4495320"/>
              <a:ext cx="0" cy="609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V="1">
              <a:off x="3921120" y="4495320"/>
              <a:ext cx="0" cy="609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4073400" y="4495320"/>
              <a:ext cx="0" cy="609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4226040" y="4495320"/>
              <a:ext cx="0" cy="609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7" name=""/>
          <p:cNvGrpSpPr/>
          <p:nvPr/>
        </p:nvGrpSpPr>
        <p:grpSpPr>
          <a:xfrm>
            <a:off x="3768840" y="4495680"/>
            <a:ext cx="304560" cy="609840"/>
            <a:chOff x="3768840" y="4495680"/>
            <a:chExt cx="304560" cy="609840"/>
          </a:xfrm>
        </p:grpSpPr>
        <p:sp>
          <p:nvSpPr>
            <p:cNvPr id="308" name=""/>
            <p:cNvSpPr/>
            <p:nvPr/>
          </p:nvSpPr>
          <p:spPr>
            <a:xfrm flipV="1">
              <a:off x="3768840" y="4495680"/>
              <a:ext cx="0" cy="6098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 flipV="1">
              <a:off x="3921120" y="4495680"/>
              <a:ext cx="0" cy="6098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 flipV="1">
              <a:off x="4073400" y="4495680"/>
              <a:ext cx="0" cy="6098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1" name=""/>
          <p:cNvSpPr/>
          <p:nvPr/>
        </p:nvSpPr>
        <p:spPr>
          <a:xfrm flipV="1">
            <a:off x="3921120" y="4495680"/>
            <a:ext cx="0" cy="6098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V="1">
            <a:off x="3921120" y="2743200"/>
            <a:ext cx="0" cy="23623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540240" y="5105520"/>
            <a:ext cx="380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4" name=""/>
          <p:cNvGrpSpPr/>
          <p:nvPr/>
        </p:nvGrpSpPr>
        <p:grpSpPr>
          <a:xfrm>
            <a:off x="4073400" y="2590920"/>
            <a:ext cx="838440" cy="457200"/>
            <a:chOff x="4073400" y="2590920"/>
            <a:chExt cx="838440" cy="457200"/>
          </a:xfrm>
        </p:grpSpPr>
        <p:sp>
          <p:nvSpPr>
            <p:cNvPr id="315" name=""/>
            <p:cNvSpPr/>
            <p:nvPr/>
          </p:nvSpPr>
          <p:spPr>
            <a:xfrm>
              <a:off x="4073400" y="2590920"/>
              <a:ext cx="8384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Comic Sans MS"/>
                </a:rPr>
                <a:t>A</a:t>
              </a:r>
              <a:r>
                <a:rPr b="1" lang="en-US" sz="2000" spc="-1" strike="noStrike">
                  <a:solidFill>
                    <a:srgbClr val="ff0000"/>
                  </a:solidFill>
                  <a:latin typeface="Comic Sans MS"/>
                </a:rPr>
                <a:t>0/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4137480" y="2590920"/>
              <a:ext cx="51624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7" name=""/>
          <p:cNvSpPr/>
          <p:nvPr/>
        </p:nvSpPr>
        <p:spPr>
          <a:xfrm>
            <a:off x="0" y="2335320"/>
            <a:ext cx="36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Comic Sans MS"/>
              </a:rPr>
              <a:t>Et le poids du so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921120" y="4114800"/>
            <a:ext cx="0" cy="231300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911840" y="2335320"/>
            <a:ext cx="361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Comic Sans MS"/>
              </a:rPr>
              <a:t>appliqué au point 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540240" y="3809880"/>
            <a:ext cx="380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4073400" y="5791320"/>
            <a:ext cx="838440" cy="457200"/>
            <a:chOff x="4073400" y="5791320"/>
            <a:chExt cx="838440" cy="457200"/>
          </a:xfrm>
        </p:grpSpPr>
        <p:grpSp>
          <p:nvGrpSpPr>
            <p:cNvPr id="322" name=""/>
            <p:cNvGrpSpPr/>
            <p:nvPr/>
          </p:nvGrpSpPr>
          <p:grpSpPr>
            <a:xfrm>
              <a:off x="4073400" y="5791320"/>
              <a:ext cx="838440" cy="457200"/>
              <a:chOff x="4073400" y="5791320"/>
              <a:chExt cx="838440" cy="457200"/>
            </a:xfrm>
          </p:grpSpPr>
          <p:sp>
            <p:nvSpPr>
              <p:cNvPr id="323" name=""/>
              <p:cNvSpPr/>
              <p:nvPr/>
            </p:nvSpPr>
            <p:spPr>
              <a:xfrm>
                <a:off x="4073400" y="5791320"/>
                <a:ext cx="83844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0800" bIns="1080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3333cc"/>
                    </a:solidFill>
                    <a:latin typeface="Comic Sans MS"/>
                  </a:rPr>
                  <a:t>P</a:t>
                </a:r>
                <a:r>
                  <a:rPr b="1" lang="en-US" sz="2000" spc="-1" strike="noStrike">
                    <a:solidFill>
                      <a:srgbClr val="3333cc"/>
                    </a:solidFill>
                    <a:latin typeface="Comic Sans MS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4138560" y="5791320"/>
                <a:ext cx="51588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5" name=""/>
            <p:cNvSpPr/>
            <p:nvPr/>
          </p:nvSpPr>
          <p:spPr>
            <a:xfrm>
              <a:off x="4073400" y="5791320"/>
              <a:ext cx="457200" cy="0"/>
            </a:xfrm>
            <a:prstGeom prst="line">
              <a:avLst/>
            </a:prstGeom>
            <a:ln w="1908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6" name=""/>
          <p:cNvSpPr/>
          <p:nvPr/>
        </p:nvSpPr>
        <p:spPr>
          <a:xfrm>
            <a:off x="6172200" y="4038480"/>
            <a:ext cx="2819520" cy="7621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Comic Sans MS"/>
              </a:rPr>
              <a:t>Ces deux forces sont égales et opposé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>
            <a:hlinkClick r:id="" action="ppaction://hlinkshowjump?jump=nextslide"/>
          </p:cNvPr>
          <p:cNvSpPr/>
          <p:nvPr/>
        </p:nvSpPr>
        <p:spPr>
          <a:xfrm>
            <a:off x="8682120" y="6551640"/>
            <a:ext cx="457200" cy="304920"/>
          </a:xfrm>
          <a:custGeom>
            <a:avLst/>
            <a:gdLst>
              <a:gd name="textAreaLeft" fmla="*/ 65160 w 457200"/>
              <a:gd name="textAreaRight" fmla="*/ 392040 w 457200"/>
              <a:gd name="textAreaTop" fmla="*/ 65160 h 304920"/>
              <a:gd name="textAreaBottom" fmla="*/ 23976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27762" y="4613"/>
                </a:lnTo>
                <a:lnTo>
                  <a:pt x="4613" y="4613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27762" y="16987"/>
                </a:lnTo>
                <a:lnTo>
                  <a:pt x="27762" y="4613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4613" y="16987"/>
                </a:lnTo>
                <a:lnTo>
                  <a:pt x="27762" y="16987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4613" y="4613"/>
                </a:lnTo>
                <a:lnTo>
                  <a:pt x="4613" y="16987"/>
                </a:lnTo>
                <a:close/>
              </a:path>
              <a:path fill="darken" w="32375" h="21600">
                <a:moveTo>
                  <a:pt x="11576" y="6188"/>
                </a:moveTo>
                <a:lnTo>
                  <a:pt x="20799" y="10800"/>
                </a:lnTo>
                <a:lnTo>
                  <a:pt x="11576" y="15412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>
            <a:hlinkClick r:id="" action="ppaction://hlinkshowjump?jump=previousslide"/>
          </p:cNvPr>
          <p:cNvSpPr/>
          <p:nvPr/>
        </p:nvSpPr>
        <p:spPr>
          <a:xfrm>
            <a:off x="633240" y="6551640"/>
            <a:ext cx="457200" cy="304920"/>
          </a:xfrm>
          <a:custGeom>
            <a:avLst/>
            <a:gdLst>
              <a:gd name="textAreaLeft" fmla="*/ 60120 w 457200"/>
              <a:gd name="textAreaRight" fmla="*/ 397080 w 457200"/>
              <a:gd name="textAreaTop" fmla="*/ 60120 h 304920"/>
              <a:gd name="textAreaBottom" fmla="*/ 24480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28100" y="4275"/>
                </a:lnTo>
                <a:lnTo>
                  <a:pt x="4275" y="4275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28100" y="17325"/>
                </a:lnTo>
                <a:lnTo>
                  <a:pt x="28100" y="4275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4275" y="17325"/>
                </a:lnTo>
                <a:lnTo>
                  <a:pt x="28100" y="17325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4275" y="4275"/>
                </a:lnTo>
                <a:lnTo>
                  <a:pt x="4275" y="17325"/>
                </a:lnTo>
                <a:close/>
              </a:path>
              <a:path fill="darken" w="32375" h="21600">
                <a:moveTo>
                  <a:pt x="11324" y="10800"/>
                </a:moveTo>
                <a:lnTo>
                  <a:pt x="21051" y="5936"/>
                </a:lnTo>
                <a:lnTo>
                  <a:pt x="21051" y="15664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>
            <a:hlinkClick r:id="" action="ppaction://hlinkshowjump?jump=firstslide"/>
          </p:cNvPr>
          <p:cNvSpPr/>
          <p:nvPr/>
        </p:nvSpPr>
        <p:spPr>
          <a:xfrm>
            <a:off x="0" y="6551640"/>
            <a:ext cx="457200" cy="304920"/>
          </a:xfrm>
          <a:custGeom>
            <a:avLst/>
            <a:gdLst>
              <a:gd name="textAreaLeft" fmla="*/ 58680 w 457200"/>
              <a:gd name="textAreaRight" fmla="*/ 398520 w 457200"/>
              <a:gd name="textAreaTop" fmla="*/ 58680 h 304920"/>
              <a:gd name="textAreaBottom" fmla="*/ 24624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28212" y="4163"/>
                </a:lnTo>
                <a:lnTo>
                  <a:pt x="4163" y="4163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28212" y="17437"/>
                </a:lnTo>
                <a:lnTo>
                  <a:pt x="28212" y="4163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4163" y="17437"/>
                </a:lnTo>
                <a:lnTo>
                  <a:pt x="28212" y="17437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4163" y="4163"/>
                </a:lnTo>
                <a:lnTo>
                  <a:pt x="4163" y="17437"/>
                </a:lnTo>
                <a:close/>
              </a:path>
              <a:path fill="darken" w="32375" h="21600">
                <a:moveTo>
                  <a:pt x="13717" y="10800"/>
                </a:moveTo>
                <a:lnTo>
                  <a:pt x="21134" y="5853"/>
                </a:lnTo>
                <a:lnTo>
                  <a:pt x="21134" y="15747"/>
                </a:lnTo>
                <a:close/>
              </a:path>
              <a:path fill="darken" w="32375" h="21600">
                <a:moveTo>
                  <a:pt x="11240" y="5853"/>
                </a:moveTo>
                <a:lnTo>
                  <a:pt x="12414" y="5853"/>
                </a:lnTo>
                <a:lnTo>
                  <a:pt x="12414" y="15747"/>
                </a:lnTo>
                <a:lnTo>
                  <a:pt x="11240" y="15747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447920" y="1878120"/>
            <a:ext cx="5943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Comic Sans MS"/>
              </a:rPr>
              <a:t>que l’on modélisera par une force au point 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"/>
          <p:cNvSpPr/>
          <p:nvPr/>
        </p:nvSpPr>
        <p:spPr>
          <a:xfrm>
            <a:off x="0" y="1420920"/>
            <a:ext cx="868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Comic Sans MS"/>
              </a:rPr>
              <a:t>On peut remarquer que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0" y="1878120"/>
            <a:ext cx="868212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Comic Sans MS"/>
              </a:rPr>
              <a:t>La force en A est à l’intérieur du cône de frottement quand il y a </a:t>
            </a: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adhérence </a:t>
            </a:r>
            <a:r>
              <a:rPr b="1" lang="en-US" sz="2000" spc="-1" strike="noStrike">
                <a:solidFill>
                  <a:srgbClr val="990033"/>
                </a:solidFill>
                <a:latin typeface="Comic Sans MS"/>
              </a:rPr>
              <a:t>entre 0 et 1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8" name=""/>
          <p:cNvGrpSpPr/>
          <p:nvPr/>
        </p:nvGrpSpPr>
        <p:grpSpPr>
          <a:xfrm>
            <a:off x="1155600" y="2479320"/>
            <a:ext cx="5638680" cy="4172400"/>
            <a:chOff x="1155600" y="2479320"/>
            <a:chExt cx="5638680" cy="4172400"/>
          </a:xfrm>
        </p:grpSpPr>
        <p:grpSp>
          <p:nvGrpSpPr>
            <p:cNvPr id="1069" name=""/>
            <p:cNvGrpSpPr/>
            <p:nvPr/>
          </p:nvGrpSpPr>
          <p:grpSpPr>
            <a:xfrm>
              <a:off x="1155600" y="5329080"/>
              <a:ext cx="5638680" cy="609480"/>
              <a:chOff x="1155600" y="5329080"/>
              <a:chExt cx="5638680" cy="609480"/>
            </a:xfrm>
          </p:grpSpPr>
          <p:sp>
            <p:nvSpPr>
              <p:cNvPr id="1070" name=""/>
              <p:cNvSpPr/>
              <p:nvPr/>
            </p:nvSpPr>
            <p:spPr>
              <a:xfrm>
                <a:off x="1155600" y="5329080"/>
                <a:ext cx="5638680" cy="60948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1155600" y="5329080"/>
                <a:ext cx="563868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2" name=""/>
            <p:cNvSpPr/>
            <p:nvPr/>
          </p:nvSpPr>
          <p:spPr>
            <a:xfrm>
              <a:off x="2222640" y="3424320"/>
              <a:ext cx="3429000" cy="1904760"/>
            </a:xfrm>
            <a:prstGeom prst="rect">
              <a:avLst/>
            </a:prstGeom>
            <a:solidFill>
              <a:srgbClr val="b2b2b2">
                <a:alpha val="50000"/>
              </a:srgbClr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3933720" y="42624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3781440" y="433872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5423040" y="43387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5651640" y="4338720"/>
              <a:ext cx="360360" cy="0"/>
            </a:xfrm>
            <a:prstGeom prst="line">
              <a:avLst/>
            </a:prstGeom>
            <a:ln w="57240">
              <a:solidFill>
                <a:srgbClr val="00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 flipH="1" flipV="1">
              <a:off x="3786480" y="2973240"/>
              <a:ext cx="246960" cy="23490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3933720" y="4338720"/>
              <a:ext cx="0" cy="231300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79" name=""/>
            <p:cNvGrpSpPr/>
            <p:nvPr/>
          </p:nvGrpSpPr>
          <p:grpSpPr>
            <a:xfrm>
              <a:off x="2860200" y="2479320"/>
              <a:ext cx="2357280" cy="2849400"/>
              <a:chOff x="2860200" y="2479320"/>
              <a:chExt cx="2357280" cy="2849400"/>
            </a:xfrm>
          </p:grpSpPr>
          <p:sp>
            <p:nvSpPr>
              <p:cNvPr id="1080" name=""/>
              <p:cNvSpPr/>
              <p:nvPr/>
            </p:nvSpPr>
            <p:spPr>
              <a:xfrm>
                <a:off x="3200400" y="2814480"/>
                <a:ext cx="838440" cy="25142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 flipH="1">
                <a:off x="4038840" y="2814480"/>
                <a:ext cx="838080" cy="25142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3200400" y="2631960"/>
                <a:ext cx="1676520" cy="334440"/>
              </a:xfrm>
              <a:prstGeom prst="ellipse">
                <a:avLst/>
              </a:pr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3503880" y="3423960"/>
                <a:ext cx="534960" cy="45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Symbol"/>
                    <a:ea typeface="Symbol"/>
                  </a:rPr>
                  <a:t>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 flipH="1">
                <a:off x="2860200" y="3881160"/>
                <a:ext cx="2357280" cy="1370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3943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394311"/>
                  </a:path>
                </a:pathLst>
              </a:custGeom>
              <a:noFill/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 flipV="1">
                <a:off x="4038840" y="2479320"/>
                <a:ext cx="0" cy="284940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86" name="">
            <a:hlinkClick r:id="" action="ppaction://hlinkshowjump?jump=nextslide"/>
          </p:cNvPr>
          <p:cNvSpPr/>
          <p:nvPr/>
        </p:nvSpPr>
        <p:spPr>
          <a:xfrm>
            <a:off x="8682120" y="6551640"/>
            <a:ext cx="457200" cy="304920"/>
          </a:xfrm>
          <a:custGeom>
            <a:avLst/>
            <a:gdLst>
              <a:gd name="textAreaLeft" fmla="*/ 65160 w 457200"/>
              <a:gd name="textAreaRight" fmla="*/ 392040 w 457200"/>
              <a:gd name="textAreaTop" fmla="*/ 65160 h 304920"/>
              <a:gd name="textAreaBottom" fmla="*/ 23976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27762" y="4613"/>
                </a:lnTo>
                <a:lnTo>
                  <a:pt x="4613" y="4613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27762" y="16987"/>
                </a:lnTo>
                <a:lnTo>
                  <a:pt x="27762" y="4613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4613" y="16987"/>
                </a:lnTo>
                <a:lnTo>
                  <a:pt x="27762" y="16987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4613" y="4613"/>
                </a:lnTo>
                <a:lnTo>
                  <a:pt x="4613" y="16987"/>
                </a:lnTo>
                <a:close/>
              </a:path>
              <a:path fill="darken" w="32375" h="21600">
                <a:moveTo>
                  <a:pt x="11576" y="6188"/>
                </a:moveTo>
                <a:lnTo>
                  <a:pt x="20799" y="10800"/>
                </a:lnTo>
                <a:lnTo>
                  <a:pt x="11576" y="15412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>
            <a:hlinkClick r:id="" action="ppaction://hlinkshowjump?jump=previousslide"/>
          </p:cNvPr>
          <p:cNvSpPr/>
          <p:nvPr/>
        </p:nvSpPr>
        <p:spPr>
          <a:xfrm>
            <a:off x="633240" y="6551640"/>
            <a:ext cx="457200" cy="304920"/>
          </a:xfrm>
          <a:custGeom>
            <a:avLst/>
            <a:gdLst>
              <a:gd name="textAreaLeft" fmla="*/ 60120 w 457200"/>
              <a:gd name="textAreaRight" fmla="*/ 397080 w 457200"/>
              <a:gd name="textAreaTop" fmla="*/ 60120 h 304920"/>
              <a:gd name="textAreaBottom" fmla="*/ 24480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28100" y="4275"/>
                </a:lnTo>
                <a:lnTo>
                  <a:pt x="4275" y="4275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28100" y="17325"/>
                </a:lnTo>
                <a:lnTo>
                  <a:pt x="28100" y="4275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4275" y="17325"/>
                </a:lnTo>
                <a:lnTo>
                  <a:pt x="28100" y="17325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4275" y="4275"/>
                </a:lnTo>
                <a:lnTo>
                  <a:pt x="4275" y="17325"/>
                </a:lnTo>
                <a:close/>
              </a:path>
              <a:path fill="darken" w="32375" h="21600">
                <a:moveTo>
                  <a:pt x="11324" y="10800"/>
                </a:moveTo>
                <a:lnTo>
                  <a:pt x="21051" y="5936"/>
                </a:lnTo>
                <a:lnTo>
                  <a:pt x="21051" y="15664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>
            <a:hlinkClick r:id="" action="ppaction://hlinkshowjump?jump=firstslide"/>
          </p:cNvPr>
          <p:cNvSpPr/>
          <p:nvPr/>
        </p:nvSpPr>
        <p:spPr>
          <a:xfrm>
            <a:off x="0" y="6551640"/>
            <a:ext cx="457200" cy="304920"/>
          </a:xfrm>
          <a:custGeom>
            <a:avLst/>
            <a:gdLst>
              <a:gd name="textAreaLeft" fmla="*/ 58680 w 457200"/>
              <a:gd name="textAreaRight" fmla="*/ 398520 w 457200"/>
              <a:gd name="textAreaTop" fmla="*/ 58680 h 304920"/>
              <a:gd name="textAreaBottom" fmla="*/ 24624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28212" y="4163"/>
                </a:lnTo>
                <a:lnTo>
                  <a:pt x="4163" y="4163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28212" y="17437"/>
                </a:lnTo>
                <a:lnTo>
                  <a:pt x="28212" y="4163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4163" y="17437"/>
                </a:lnTo>
                <a:lnTo>
                  <a:pt x="28212" y="17437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4163" y="4163"/>
                </a:lnTo>
                <a:lnTo>
                  <a:pt x="4163" y="17437"/>
                </a:lnTo>
                <a:close/>
              </a:path>
              <a:path fill="darken" w="32375" h="21600">
                <a:moveTo>
                  <a:pt x="13717" y="10800"/>
                </a:moveTo>
                <a:lnTo>
                  <a:pt x="21134" y="5853"/>
                </a:lnTo>
                <a:lnTo>
                  <a:pt x="21134" y="15747"/>
                </a:lnTo>
                <a:close/>
              </a:path>
              <a:path fill="darken" w="32375" h="21600">
                <a:moveTo>
                  <a:pt x="11240" y="5853"/>
                </a:moveTo>
                <a:lnTo>
                  <a:pt x="12414" y="5853"/>
                </a:lnTo>
                <a:lnTo>
                  <a:pt x="12414" y="15747"/>
                </a:lnTo>
                <a:lnTo>
                  <a:pt x="11240" y="15747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"/>
          <p:cNvSpPr/>
          <p:nvPr/>
        </p:nvSpPr>
        <p:spPr>
          <a:xfrm>
            <a:off x="0" y="1420920"/>
            <a:ext cx="868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Comic Sans MS"/>
              </a:rPr>
              <a:t>On peut remarquer que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0" y="1878120"/>
            <a:ext cx="868212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Comic Sans MS"/>
              </a:rPr>
              <a:t>La force en A est sur le cône de frottement à </a:t>
            </a: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l’équilibre strict </a:t>
            </a:r>
            <a:r>
              <a:rPr b="1" lang="en-US" sz="2000" spc="-1" strike="noStrike">
                <a:solidFill>
                  <a:srgbClr val="990033"/>
                </a:solidFill>
                <a:latin typeface="Comic Sans MS"/>
              </a:rPr>
              <a:t>entre 0 et 1 (</a:t>
            </a: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limite du glissement</a:t>
            </a:r>
            <a:r>
              <a:rPr b="1" lang="en-US" sz="2000" spc="-1" strike="noStrike">
                <a:solidFill>
                  <a:srgbClr val="990033"/>
                </a:solidFill>
                <a:latin typeface="Comic Sans MS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1" name=""/>
          <p:cNvGrpSpPr/>
          <p:nvPr/>
        </p:nvGrpSpPr>
        <p:grpSpPr>
          <a:xfrm>
            <a:off x="1131840" y="2525400"/>
            <a:ext cx="5638680" cy="4172400"/>
            <a:chOff x="1131840" y="2525400"/>
            <a:chExt cx="5638680" cy="4172400"/>
          </a:xfrm>
        </p:grpSpPr>
        <p:grpSp>
          <p:nvGrpSpPr>
            <p:cNvPr id="1092" name=""/>
            <p:cNvGrpSpPr/>
            <p:nvPr/>
          </p:nvGrpSpPr>
          <p:grpSpPr>
            <a:xfrm>
              <a:off x="1131840" y="5375160"/>
              <a:ext cx="5638680" cy="609480"/>
              <a:chOff x="1131840" y="5375160"/>
              <a:chExt cx="5638680" cy="609480"/>
            </a:xfrm>
          </p:grpSpPr>
          <p:sp>
            <p:nvSpPr>
              <p:cNvPr id="1093" name=""/>
              <p:cNvSpPr/>
              <p:nvPr/>
            </p:nvSpPr>
            <p:spPr>
              <a:xfrm>
                <a:off x="1131840" y="5375160"/>
                <a:ext cx="5638680" cy="60948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>
                <a:off x="1131840" y="5375160"/>
                <a:ext cx="563868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95" name=""/>
            <p:cNvSpPr/>
            <p:nvPr/>
          </p:nvSpPr>
          <p:spPr>
            <a:xfrm>
              <a:off x="2198520" y="3470400"/>
              <a:ext cx="3429000" cy="1904760"/>
            </a:xfrm>
            <a:prstGeom prst="rect">
              <a:avLst/>
            </a:prstGeom>
            <a:solidFill>
              <a:srgbClr val="b2b2b2">
                <a:alpha val="50000"/>
              </a:srgbClr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3909960" y="43084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3757680" y="438480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5398920" y="438480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5627520" y="4384800"/>
              <a:ext cx="792360" cy="0"/>
            </a:xfrm>
            <a:prstGeom prst="line">
              <a:avLst/>
            </a:prstGeom>
            <a:ln w="57240">
              <a:solidFill>
                <a:srgbClr val="00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 flipH="1" flipV="1">
              <a:off x="3475080" y="3081960"/>
              <a:ext cx="730080" cy="224604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3909960" y="4384800"/>
              <a:ext cx="0" cy="231300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02" name=""/>
            <p:cNvGrpSpPr/>
            <p:nvPr/>
          </p:nvGrpSpPr>
          <p:grpSpPr>
            <a:xfrm>
              <a:off x="3047400" y="2525400"/>
              <a:ext cx="2357280" cy="2849400"/>
              <a:chOff x="3047400" y="2525400"/>
              <a:chExt cx="2357280" cy="2849400"/>
            </a:xfrm>
          </p:grpSpPr>
          <p:sp>
            <p:nvSpPr>
              <p:cNvPr id="1103" name=""/>
              <p:cNvSpPr/>
              <p:nvPr/>
            </p:nvSpPr>
            <p:spPr>
              <a:xfrm>
                <a:off x="3387600" y="2860560"/>
                <a:ext cx="838440" cy="25142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 flipH="1">
                <a:off x="4226040" y="2860560"/>
                <a:ext cx="838080" cy="25142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3387600" y="2678040"/>
                <a:ext cx="1676520" cy="334440"/>
              </a:xfrm>
              <a:prstGeom prst="ellipse">
                <a:avLst/>
              </a:pr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>
                <a:off x="3691080" y="3470040"/>
                <a:ext cx="534960" cy="45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Symbol"/>
                    <a:ea typeface="Symbol"/>
                  </a:rPr>
                  <a:t>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 flipH="1">
                <a:off x="3047400" y="3927240"/>
                <a:ext cx="2357280" cy="1370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3943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394311"/>
                  </a:path>
                </a:pathLst>
              </a:custGeom>
              <a:noFill/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 flipV="1">
                <a:off x="4226040" y="2525400"/>
                <a:ext cx="0" cy="284940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09" name="">
            <a:hlinkClick r:id="" action="ppaction://hlinkshowjump?jump=nextslide"/>
          </p:cNvPr>
          <p:cNvSpPr/>
          <p:nvPr/>
        </p:nvSpPr>
        <p:spPr>
          <a:xfrm>
            <a:off x="8682120" y="6551640"/>
            <a:ext cx="457200" cy="304920"/>
          </a:xfrm>
          <a:custGeom>
            <a:avLst/>
            <a:gdLst>
              <a:gd name="textAreaLeft" fmla="*/ 65160 w 457200"/>
              <a:gd name="textAreaRight" fmla="*/ 392040 w 457200"/>
              <a:gd name="textAreaTop" fmla="*/ 65160 h 304920"/>
              <a:gd name="textAreaBottom" fmla="*/ 23976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27762" y="4613"/>
                </a:lnTo>
                <a:lnTo>
                  <a:pt x="4613" y="4613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27762" y="16987"/>
                </a:lnTo>
                <a:lnTo>
                  <a:pt x="27762" y="4613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4613" y="16987"/>
                </a:lnTo>
                <a:lnTo>
                  <a:pt x="27762" y="16987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4613" y="4613"/>
                </a:lnTo>
                <a:lnTo>
                  <a:pt x="4613" y="16987"/>
                </a:lnTo>
                <a:close/>
              </a:path>
              <a:path fill="darken" w="32375" h="21600">
                <a:moveTo>
                  <a:pt x="11576" y="6188"/>
                </a:moveTo>
                <a:lnTo>
                  <a:pt x="20799" y="10800"/>
                </a:lnTo>
                <a:lnTo>
                  <a:pt x="11576" y="15412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>
            <a:hlinkClick r:id="" action="ppaction://hlinkshowjump?jump=previousslide"/>
          </p:cNvPr>
          <p:cNvSpPr/>
          <p:nvPr/>
        </p:nvSpPr>
        <p:spPr>
          <a:xfrm>
            <a:off x="633240" y="6551640"/>
            <a:ext cx="457200" cy="304920"/>
          </a:xfrm>
          <a:custGeom>
            <a:avLst/>
            <a:gdLst>
              <a:gd name="textAreaLeft" fmla="*/ 60120 w 457200"/>
              <a:gd name="textAreaRight" fmla="*/ 397080 w 457200"/>
              <a:gd name="textAreaTop" fmla="*/ 60120 h 304920"/>
              <a:gd name="textAreaBottom" fmla="*/ 24480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28100" y="4275"/>
                </a:lnTo>
                <a:lnTo>
                  <a:pt x="4275" y="4275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28100" y="17325"/>
                </a:lnTo>
                <a:lnTo>
                  <a:pt x="28100" y="4275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4275" y="17325"/>
                </a:lnTo>
                <a:lnTo>
                  <a:pt x="28100" y="17325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4275" y="4275"/>
                </a:lnTo>
                <a:lnTo>
                  <a:pt x="4275" y="17325"/>
                </a:lnTo>
                <a:close/>
              </a:path>
              <a:path fill="darken" w="32375" h="21600">
                <a:moveTo>
                  <a:pt x="11324" y="10800"/>
                </a:moveTo>
                <a:lnTo>
                  <a:pt x="21051" y="5936"/>
                </a:lnTo>
                <a:lnTo>
                  <a:pt x="21051" y="15664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>
            <a:hlinkClick r:id="" action="ppaction://hlinkshowjump?jump=firstslide"/>
          </p:cNvPr>
          <p:cNvSpPr/>
          <p:nvPr/>
        </p:nvSpPr>
        <p:spPr>
          <a:xfrm>
            <a:off x="0" y="6551640"/>
            <a:ext cx="457200" cy="304920"/>
          </a:xfrm>
          <a:custGeom>
            <a:avLst/>
            <a:gdLst>
              <a:gd name="textAreaLeft" fmla="*/ 58680 w 457200"/>
              <a:gd name="textAreaRight" fmla="*/ 398520 w 457200"/>
              <a:gd name="textAreaTop" fmla="*/ 58680 h 304920"/>
              <a:gd name="textAreaBottom" fmla="*/ 24624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28212" y="4163"/>
                </a:lnTo>
                <a:lnTo>
                  <a:pt x="4163" y="4163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28212" y="17437"/>
                </a:lnTo>
                <a:lnTo>
                  <a:pt x="28212" y="4163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4163" y="17437"/>
                </a:lnTo>
                <a:lnTo>
                  <a:pt x="28212" y="17437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4163" y="4163"/>
                </a:lnTo>
                <a:lnTo>
                  <a:pt x="4163" y="17437"/>
                </a:lnTo>
                <a:close/>
              </a:path>
              <a:path fill="darken" w="32375" h="21600">
                <a:moveTo>
                  <a:pt x="13717" y="10800"/>
                </a:moveTo>
                <a:lnTo>
                  <a:pt x="21134" y="5853"/>
                </a:lnTo>
                <a:lnTo>
                  <a:pt x="21134" y="15747"/>
                </a:lnTo>
                <a:close/>
              </a:path>
              <a:path fill="darken" w="32375" h="21600">
                <a:moveTo>
                  <a:pt x="11240" y="5853"/>
                </a:moveTo>
                <a:lnTo>
                  <a:pt x="12414" y="5853"/>
                </a:lnTo>
                <a:lnTo>
                  <a:pt x="12414" y="15747"/>
                </a:lnTo>
                <a:lnTo>
                  <a:pt x="11240" y="15747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"/>
          <p:cNvSpPr/>
          <p:nvPr/>
        </p:nvSpPr>
        <p:spPr>
          <a:xfrm>
            <a:off x="0" y="1420920"/>
            <a:ext cx="868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Comic Sans MS"/>
              </a:rPr>
              <a:t>On peut remarquer que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0" y="1878120"/>
            <a:ext cx="868212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Comic Sans MS"/>
              </a:rPr>
              <a:t>La force en A est sur le cône de frottement quand il y a </a:t>
            </a: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glissement</a:t>
            </a:r>
            <a:r>
              <a:rPr b="1" lang="en-US" sz="2000" spc="-1" strike="noStrike">
                <a:solidFill>
                  <a:srgbClr val="990033"/>
                </a:solidFill>
                <a:latin typeface="Comic Sans MS"/>
              </a:rPr>
              <a:t> entre 0 et 1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4" name=""/>
          <p:cNvGrpSpPr/>
          <p:nvPr/>
        </p:nvGrpSpPr>
        <p:grpSpPr>
          <a:xfrm>
            <a:off x="1143000" y="2232000"/>
            <a:ext cx="6202440" cy="4195800"/>
            <a:chOff x="1143000" y="2232000"/>
            <a:chExt cx="6202440" cy="4195800"/>
          </a:xfrm>
        </p:grpSpPr>
        <p:grpSp>
          <p:nvGrpSpPr>
            <p:cNvPr id="1115" name=""/>
            <p:cNvGrpSpPr/>
            <p:nvPr/>
          </p:nvGrpSpPr>
          <p:grpSpPr>
            <a:xfrm>
              <a:off x="1143000" y="5105520"/>
              <a:ext cx="5638680" cy="609480"/>
              <a:chOff x="1143000" y="5105520"/>
              <a:chExt cx="5638680" cy="609480"/>
            </a:xfrm>
          </p:grpSpPr>
          <p:sp>
            <p:nvSpPr>
              <p:cNvPr id="1116" name=""/>
              <p:cNvSpPr/>
              <p:nvPr/>
            </p:nvSpPr>
            <p:spPr>
              <a:xfrm>
                <a:off x="1143000" y="5105520"/>
                <a:ext cx="5638680" cy="60948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>
                <a:off x="1143000" y="5105520"/>
                <a:ext cx="563868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18" name=""/>
            <p:cNvSpPr/>
            <p:nvPr/>
          </p:nvSpPr>
          <p:spPr>
            <a:xfrm>
              <a:off x="3124080" y="3200400"/>
              <a:ext cx="3429000" cy="1905120"/>
            </a:xfrm>
            <a:prstGeom prst="rect">
              <a:avLst/>
            </a:prstGeom>
            <a:solidFill>
              <a:srgbClr val="b2b2b2">
                <a:alpha val="50000"/>
              </a:srgbClr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4835520" y="40384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4683240" y="4114800"/>
              <a:ext cx="304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6324480" y="411480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6553080" y="4114800"/>
              <a:ext cx="792360" cy="0"/>
            </a:xfrm>
            <a:prstGeom prst="line">
              <a:avLst/>
            </a:prstGeom>
            <a:ln w="57240">
              <a:solidFill>
                <a:srgbClr val="00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 flipH="1" flipV="1">
              <a:off x="4407120" y="2812320"/>
              <a:ext cx="730080" cy="22464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4835520" y="4114800"/>
              <a:ext cx="0" cy="2313000"/>
            </a:xfrm>
            <a:prstGeom prst="line">
              <a:avLst/>
            </a:prstGeom>
            <a:ln w="572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25" name=""/>
            <p:cNvGrpSpPr/>
            <p:nvPr/>
          </p:nvGrpSpPr>
          <p:grpSpPr>
            <a:xfrm>
              <a:off x="3976200" y="2232000"/>
              <a:ext cx="2357280" cy="2849760"/>
              <a:chOff x="3976200" y="2232000"/>
              <a:chExt cx="2357280" cy="2849760"/>
            </a:xfrm>
          </p:grpSpPr>
          <p:sp>
            <p:nvSpPr>
              <p:cNvPr id="1126" name=""/>
              <p:cNvSpPr/>
              <p:nvPr/>
            </p:nvSpPr>
            <p:spPr>
              <a:xfrm>
                <a:off x="4316400" y="2567160"/>
                <a:ext cx="838440" cy="25146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 flipH="1">
                <a:off x="5154840" y="2567160"/>
                <a:ext cx="838080" cy="25146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>
                <a:off x="4316400" y="2384640"/>
                <a:ext cx="1676520" cy="334800"/>
              </a:xfrm>
              <a:prstGeom prst="ellipse">
                <a:avLst/>
              </a:pr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>
                <a:off x="4619880" y="3176640"/>
                <a:ext cx="534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0000"/>
                    </a:solidFill>
                    <a:latin typeface="Symbol"/>
                    <a:ea typeface="Symbol"/>
                  </a:rPr>
                  <a:t>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 flipH="1">
                <a:off x="3976200" y="3633840"/>
                <a:ext cx="2357280" cy="1371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13943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1394311"/>
                  </a:path>
                </a:pathLst>
              </a:custGeom>
              <a:noFill/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 flipV="1">
                <a:off x="5154840" y="2232000"/>
                <a:ext cx="0" cy="284976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32" name="">
            <a:hlinkClick r:id="" action="ppaction://hlinkshowjump?jump=nextslide"/>
          </p:cNvPr>
          <p:cNvSpPr/>
          <p:nvPr/>
        </p:nvSpPr>
        <p:spPr>
          <a:xfrm>
            <a:off x="8682120" y="6551640"/>
            <a:ext cx="457200" cy="304920"/>
          </a:xfrm>
          <a:custGeom>
            <a:avLst/>
            <a:gdLst>
              <a:gd name="textAreaLeft" fmla="*/ 65160 w 457200"/>
              <a:gd name="textAreaRight" fmla="*/ 392040 w 457200"/>
              <a:gd name="textAreaTop" fmla="*/ 65160 h 304920"/>
              <a:gd name="textAreaBottom" fmla="*/ 23976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27762" y="4613"/>
                </a:lnTo>
                <a:lnTo>
                  <a:pt x="4613" y="4613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27762" y="16987"/>
                </a:lnTo>
                <a:lnTo>
                  <a:pt x="27762" y="4613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4613" y="16987"/>
                </a:lnTo>
                <a:lnTo>
                  <a:pt x="27762" y="16987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4613" y="4613"/>
                </a:lnTo>
                <a:lnTo>
                  <a:pt x="4613" y="16987"/>
                </a:lnTo>
                <a:close/>
              </a:path>
              <a:path fill="darken" w="32375" h="21600">
                <a:moveTo>
                  <a:pt x="11576" y="6188"/>
                </a:moveTo>
                <a:lnTo>
                  <a:pt x="20799" y="10800"/>
                </a:lnTo>
                <a:lnTo>
                  <a:pt x="11576" y="15412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>
            <a:hlinkClick r:id="" action="ppaction://hlinkshowjump?jump=previousslide"/>
          </p:cNvPr>
          <p:cNvSpPr/>
          <p:nvPr/>
        </p:nvSpPr>
        <p:spPr>
          <a:xfrm>
            <a:off x="633240" y="6551640"/>
            <a:ext cx="457200" cy="304920"/>
          </a:xfrm>
          <a:custGeom>
            <a:avLst/>
            <a:gdLst>
              <a:gd name="textAreaLeft" fmla="*/ 60120 w 457200"/>
              <a:gd name="textAreaRight" fmla="*/ 397080 w 457200"/>
              <a:gd name="textAreaTop" fmla="*/ 60120 h 304920"/>
              <a:gd name="textAreaBottom" fmla="*/ 24480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28100" y="4275"/>
                </a:lnTo>
                <a:lnTo>
                  <a:pt x="4275" y="4275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28100" y="17325"/>
                </a:lnTo>
                <a:lnTo>
                  <a:pt x="28100" y="4275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4275" y="17325"/>
                </a:lnTo>
                <a:lnTo>
                  <a:pt x="28100" y="17325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4275" y="4275"/>
                </a:lnTo>
                <a:lnTo>
                  <a:pt x="4275" y="17325"/>
                </a:lnTo>
                <a:close/>
              </a:path>
              <a:path fill="darken" w="32375" h="21600">
                <a:moveTo>
                  <a:pt x="11324" y="10800"/>
                </a:moveTo>
                <a:lnTo>
                  <a:pt x="21051" y="5936"/>
                </a:lnTo>
                <a:lnTo>
                  <a:pt x="21051" y="15664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>
            <a:hlinkClick r:id="" action="ppaction://hlinkshowjump?jump=firstslide"/>
          </p:cNvPr>
          <p:cNvSpPr/>
          <p:nvPr/>
        </p:nvSpPr>
        <p:spPr>
          <a:xfrm>
            <a:off x="0" y="6551640"/>
            <a:ext cx="457200" cy="304920"/>
          </a:xfrm>
          <a:custGeom>
            <a:avLst/>
            <a:gdLst>
              <a:gd name="textAreaLeft" fmla="*/ 58680 w 457200"/>
              <a:gd name="textAreaRight" fmla="*/ 398520 w 457200"/>
              <a:gd name="textAreaTop" fmla="*/ 58680 h 304920"/>
              <a:gd name="textAreaBottom" fmla="*/ 24624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28212" y="4163"/>
                </a:lnTo>
                <a:lnTo>
                  <a:pt x="4163" y="4163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28212" y="17437"/>
                </a:lnTo>
                <a:lnTo>
                  <a:pt x="28212" y="4163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4163" y="17437"/>
                </a:lnTo>
                <a:lnTo>
                  <a:pt x="28212" y="17437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4163" y="4163"/>
                </a:lnTo>
                <a:lnTo>
                  <a:pt x="4163" y="17437"/>
                </a:lnTo>
                <a:close/>
              </a:path>
              <a:path fill="darken" w="32375" h="21600">
                <a:moveTo>
                  <a:pt x="13717" y="10800"/>
                </a:moveTo>
                <a:lnTo>
                  <a:pt x="21134" y="5853"/>
                </a:lnTo>
                <a:lnTo>
                  <a:pt x="21134" y="15747"/>
                </a:lnTo>
                <a:close/>
              </a:path>
              <a:path fill="darken" w="32375" h="21600">
                <a:moveTo>
                  <a:pt x="11240" y="5853"/>
                </a:moveTo>
                <a:lnTo>
                  <a:pt x="12414" y="5853"/>
                </a:lnTo>
                <a:lnTo>
                  <a:pt x="12414" y="15747"/>
                </a:lnTo>
                <a:lnTo>
                  <a:pt x="11240" y="15747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5" name=""/>
          <p:cNvGrpSpPr/>
          <p:nvPr/>
        </p:nvGrpSpPr>
        <p:grpSpPr>
          <a:xfrm>
            <a:off x="3124080" y="4648320"/>
            <a:ext cx="2514600" cy="457200"/>
            <a:chOff x="3124080" y="4648320"/>
            <a:chExt cx="2514600" cy="457200"/>
          </a:xfrm>
        </p:grpSpPr>
        <p:sp>
          <p:nvSpPr>
            <p:cNvPr id="1136" name=""/>
            <p:cNvSpPr/>
            <p:nvPr/>
          </p:nvSpPr>
          <p:spPr>
            <a:xfrm>
              <a:off x="3200040" y="5105520"/>
              <a:ext cx="2438640" cy="0"/>
            </a:xfrm>
            <a:prstGeom prst="line">
              <a:avLst/>
            </a:prstGeom>
            <a:ln w="57240">
              <a:solidFill>
                <a:srgbClr val="99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3124080" y="4648320"/>
              <a:ext cx="22860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990033"/>
                  </a:solidFill>
                  <a:latin typeface="Comic Sans MS"/>
                </a:rPr>
                <a:t>Déplace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8" name=""/>
          <p:cNvGrpSpPr/>
          <p:nvPr/>
        </p:nvGrpSpPr>
        <p:grpSpPr>
          <a:xfrm>
            <a:off x="0" y="2362320"/>
            <a:ext cx="3352680" cy="3200400"/>
            <a:chOff x="0" y="2362320"/>
            <a:chExt cx="3352680" cy="3200400"/>
          </a:xfrm>
        </p:grpSpPr>
        <p:sp>
          <p:nvSpPr>
            <p:cNvPr id="1139" name=""/>
            <p:cNvSpPr/>
            <p:nvPr/>
          </p:nvSpPr>
          <p:spPr>
            <a:xfrm>
              <a:off x="0" y="2362320"/>
              <a:ext cx="3352680" cy="3200400"/>
            </a:xfrm>
            <a:prstGeom prst="irregularSeal2">
              <a:avLst/>
            </a:prstGeom>
            <a:solidFill>
              <a:srgbClr val="b2b2b2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 rot="19604400">
              <a:off x="767520" y="3198600"/>
              <a:ext cx="1600200" cy="157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0033"/>
                  </a:solidFill>
                  <a:latin typeface="Arial"/>
                </a:rPr>
                <a:t>Ce n’est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0033"/>
                  </a:solidFill>
                  <a:latin typeface="Arial"/>
                </a:rPr>
                <a:t>plus de la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990033"/>
                  </a:solidFill>
                  <a:latin typeface="Arial"/>
                </a:rPr>
                <a:t>statiqu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"/>
          <p:cNvSpPr/>
          <p:nvPr/>
        </p:nvSpPr>
        <p:spPr>
          <a:xfrm>
            <a:off x="2362320" y="1905120"/>
            <a:ext cx="4419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Comic Sans MS"/>
              </a:rPr>
              <a:t>FIN DU DIAPORA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2209680" y="4800600"/>
            <a:ext cx="4648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33"/>
                </a:solidFill>
                <a:latin typeface="Comic Sans MS"/>
              </a:rPr>
              <a:t>Merci de votre atten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>
            <a:hlinkClick r:id="" action="ppaction://hlinkshowjump?jump=previousslide"/>
          </p:cNvPr>
          <p:cNvSpPr/>
          <p:nvPr/>
        </p:nvSpPr>
        <p:spPr>
          <a:xfrm>
            <a:off x="633240" y="6548400"/>
            <a:ext cx="457200" cy="304920"/>
          </a:xfrm>
          <a:custGeom>
            <a:avLst/>
            <a:gdLst>
              <a:gd name="textAreaLeft" fmla="*/ 60120 w 457200"/>
              <a:gd name="textAreaRight" fmla="*/ 397080 w 457200"/>
              <a:gd name="textAreaTop" fmla="*/ 60120 h 304920"/>
              <a:gd name="textAreaBottom" fmla="*/ 24480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28100" y="4275"/>
                </a:lnTo>
                <a:lnTo>
                  <a:pt x="4275" y="4275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28100" y="17325"/>
                </a:lnTo>
                <a:lnTo>
                  <a:pt x="28100" y="4275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4275" y="17325"/>
                </a:lnTo>
                <a:lnTo>
                  <a:pt x="28100" y="17325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4275" y="4275"/>
                </a:lnTo>
                <a:lnTo>
                  <a:pt x="4275" y="17325"/>
                </a:lnTo>
                <a:close/>
              </a:path>
              <a:path fill="darken" w="32375" h="21600">
                <a:moveTo>
                  <a:pt x="11324" y="10800"/>
                </a:moveTo>
                <a:lnTo>
                  <a:pt x="21051" y="5936"/>
                </a:lnTo>
                <a:lnTo>
                  <a:pt x="21051" y="15664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>
            <a:hlinkClick r:id="" action="ppaction://hlinkshowjump?jump=firstslide"/>
          </p:cNvPr>
          <p:cNvSpPr/>
          <p:nvPr/>
        </p:nvSpPr>
        <p:spPr>
          <a:xfrm>
            <a:off x="0" y="6548400"/>
            <a:ext cx="457200" cy="304920"/>
          </a:xfrm>
          <a:custGeom>
            <a:avLst/>
            <a:gdLst>
              <a:gd name="textAreaLeft" fmla="*/ 58680 w 457200"/>
              <a:gd name="textAreaRight" fmla="*/ 398520 w 457200"/>
              <a:gd name="textAreaTop" fmla="*/ 58680 h 304920"/>
              <a:gd name="textAreaBottom" fmla="*/ 24624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28212" y="4163"/>
                </a:lnTo>
                <a:lnTo>
                  <a:pt x="4163" y="4163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28212" y="17437"/>
                </a:lnTo>
                <a:lnTo>
                  <a:pt x="28212" y="4163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4163" y="17437"/>
                </a:lnTo>
                <a:lnTo>
                  <a:pt x="28212" y="17437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4163" y="4163"/>
                </a:lnTo>
                <a:lnTo>
                  <a:pt x="4163" y="17437"/>
                </a:lnTo>
                <a:close/>
              </a:path>
              <a:path fill="darken" w="32375" h="21600">
                <a:moveTo>
                  <a:pt x="13717" y="10800"/>
                </a:moveTo>
                <a:lnTo>
                  <a:pt x="21134" y="5853"/>
                </a:lnTo>
                <a:lnTo>
                  <a:pt x="21134" y="15747"/>
                </a:lnTo>
                <a:close/>
              </a:path>
              <a:path fill="darken" w="32375" h="21600">
                <a:moveTo>
                  <a:pt x="11240" y="5853"/>
                </a:moveTo>
                <a:lnTo>
                  <a:pt x="12414" y="5853"/>
                </a:lnTo>
                <a:lnTo>
                  <a:pt x="12414" y="15747"/>
                </a:lnTo>
                <a:lnTo>
                  <a:pt x="11240" y="15747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5" name="" descr=""/>
          <p:cNvPicPr/>
          <p:nvPr/>
        </p:nvPicPr>
        <p:blipFill>
          <a:blip r:embed="rId2"/>
          <a:stretch/>
        </p:blipFill>
        <p:spPr>
          <a:xfrm>
            <a:off x="3276720" y="2819520"/>
            <a:ext cx="2361960" cy="171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2209680" y="3200400"/>
            <a:ext cx="3429000" cy="1905120"/>
          </a:xfrm>
          <a:prstGeom prst="rect">
            <a:avLst/>
          </a:prstGeom>
          <a:solidFill>
            <a:srgbClr val="b2b2b2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0" y="1420920"/>
            <a:ext cx="868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Comic Sans MS"/>
              </a:rPr>
              <a:t>Supposons que l’on cherche à déplacer le solide 1 en tirant en B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540240" y="5105520"/>
            <a:ext cx="380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540240" y="3809880"/>
            <a:ext cx="380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Comic Sans MS"/>
              </a:rPr>
              <a:t>G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7099200" y="3581280"/>
            <a:ext cx="581040" cy="457200"/>
            <a:chOff x="7099200" y="3581280"/>
            <a:chExt cx="581040" cy="457200"/>
          </a:xfrm>
        </p:grpSpPr>
        <p:grpSp>
          <p:nvGrpSpPr>
            <p:cNvPr id="336" name=""/>
            <p:cNvGrpSpPr/>
            <p:nvPr/>
          </p:nvGrpSpPr>
          <p:grpSpPr>
            <a:xfrm>
              <a:off x="7099200" y="3581280"/>
              <a:ext cx="581040" cy="457200"/>
              <a:chOff x="7099200" y="3581280"/>
              <a:chExt cx="581040" cy="457200"/>
            </a:xfrm>
          </p:grpSpPr>
          <p:sp>
            <p:nvSpPr>
              <p:cNvPr id="337" name=""/>
              <p:cNvSpPr/>
              <p:nvPr/>
            </p:nvSpPr>
            <p:spPr>
              <a:xfrm>
                <a:off x="7099200" y="3581280"/>
                <a:ext cx="58104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8000" rIns="18000" tIns="10800" bIns="10800" anchor="t">
                <a:noAutofit/>
              </a:bodyPr>
              <a:p>
                <a:pPr>
                  <a:lnSpc>
                    <a:spcPct val="100000"/>
                  </a:lnSpc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6600"/>
                    </a:solidFill>
                    <a:latin typeface="Comic Sans MS"/>
                  </a:rPr>
                  <a:t>B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7144200" y="3581280"/>
                <a:ext cx="357480" cy="0"/>
              </a:xfrm>
              <a:prstGeom prst="line">
                <a:avLst/>
              </a:prstGeom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9" name=""/>
            <p:cNvSpPr/>
            <p:nvPr/>
          </p:nvSpPr>
          <p:spPr>
            <a:xfrm>
              <a:off x="7099200" y="3581280"/>
              <a:ext cx="316800" cy="0"/>
            </a:xfrm>
            <a:prstGeom prst="line">
              <a:avLst/>
            </a:prstGeom>
            <a:ln w="19080">
              <a:solidFill>
                <a:srgbClr val="00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>
            <a:hlinkClick r:id="" action="ppaction://hlinkshowjump?jump=nextslide"/>
          </p:cNvPr>
          <p:cNvSpPr/>
          <p:nvPr/>
        </p:nvSpPr>
        <p:spPr>
          <a:xfrm>
            <a:off x="8682120" y="6551640"/>
            <a:ext cx="457200" cy="304920"/>
          </a:xfrm>
          <a:custGeom>
            <a:avLst/>
            <a:gdLst>
              <a:gd name="textAreaLeft" fmla="*/ 65160 w 457200"/>
              <a:gd name="textAreaRight" fmla="*/ 392040 w 457200"/>
              <a:gd name="textAreaTop" fmla="*/ 65160 h 304920"/>
              <a:gd name="textAreaBottom" fmla="*/ 23976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27762" y="4613"/>
                </a:lnTo>
                <a:lnTo>
                  <a:pt x="4613" y="4613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27762" y="16987"/>
                </a:lnTo>
                <a:lnTo>
                  <a:pt x="27762" y="4613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4613" y="16987"/>
                </a:lnTo>
                <a:lnTo>
                  <a:pt x="27762" y="16987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4613" y="4613"/>
                </a:lnTo>
                <a:lnTo>
                  <a:pt x="4613" y="16987"/>
                </a:lnTo>
                <a:close/>
              </a:path>
              <a:path fill="darken" w="32375" h="21600">
                <a:moveTo>
                  <a:pt x="11576" y="6188"/>
                </a:moveTo>
                <a:lnTo>
                  <a:pt x="20799" y="10800"/>
                </a:lnTo>
                <a:lnTo>
                  <a:pt x="11576" y="15412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>
            <a:hlinkClick r:id="" action="ppaction://hlinkshowjump?jump=previousslide"/>
          </p:cNvPr>
          <p:cNvSpPr/>
          <p:nvPr/>
        </p:nvSpPr>
        <p:spPr>
          <a:xfrm>
            <a:off x="633240" y="6551640"/>
            <a:ext cx="457200" cy="304920"/>
          </a:xfrm>
          <a:custGeom>
            <a:avLst/>
            <a:gdLst>
              <a:gd name="textAreaLeft" fmla="*/ 60120 w 457200"/>
              <a:gd name="textAreaRight" fmla="*/ 397080 w 457200"/>
              <a:gd name="textAreaTop" fmla="*/ 60120 h 304920"/>
              <a:gd name="textAreaBottom" fmla="*/ 24480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28100" y="4275"/>
                </a:lnTo>
                <a:lnTo>
                  <a:pt x="4275" y="4275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28100" y="17325"/>
                </a:lnTo>
                <a:lnTo>
                  <a:pt x="28100" y="4275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4275" y="17325"/>
                </a:lnTo>
                <a:lnTo>
                  <a:pt x="28100" y="17325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4275" y="4275"/>
                </a:lnTo>
                <a:lnTo>
                  <a:pt x="4275" y="17325"/>
                </a:lnTo>
                <a:close/>
              </a:path>
              <a:path fill="darken" w="32375" h="21600">
                <a:moveTo>
                  <a:pt x="11324" y="10800"/>
                </a:moveTo>
                <a:lnTo>
                  <a:pt x="21051" y="5936"/>
                </a:lnTo>
                <a:lnTo>
                  <a:pt x="21051" y="15664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>
            <a:hlinkClick r:id="" action="ppaction://hlinkshowjump?jump=firstslide"/>
          </p:cNvPr>
          <p:cNvSpPr/>
          <p:nvPr/>
        </p:nvSpPr>
        <p:spPr>
          <a:xfrm>
            <a:off x="0" y="6551640"/>
            <a:ext cx="457200" cy="304920"/>
          </a:xfrm>
          <a:custGeom>
            <a:avLst/>
            <a:gdLst>
              <a:gd name="textAreaLeft" fmla="*/ 58680 w 457200"/>
              <a:gd name="textAreaRight" fmla="*/ 398520 w 457200"/>
              <a:gd name="textAreaTop" fmla="*/ 58680 h 304920"/>
              <a:gd name="textAreaBottom" fmla="*/ 24624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28212" y="4163"/>
                </a:lnTo>
                <a:lnTo>
                  <a:pt x="4163" y="4163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28212" y="17437"/>
                </a:lnTo>
                <a:lnTo>
                  <a:pt x="28212" y="4163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4163" y="17437"/>
                </a:lnTo>
                <a:lnTo>
                  <a:pt x="28212" y="17437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4163" y="4163"/>
                </a:lnTo>
                <a:lnTo>
                  <a:pt x="4163" y="17437"/>
                </a:lnTo>
                <a:close/>
              </a:path>
              <a:path fill="darken" w="32375" h="21600">
                <a:moveTo>
                  <a:pt x="13717" y="10800"/>
                </a:moveTo>
                <a:lnTo>
                  <a:pt x="21134" y="5853"/>
                </a:lnTo>
                <a:lnTo>
                  <a:pt x="21134" y="15747"/>
                </a:lnTo>
                <a:close/>
              </a:path>
              <a:path fill="darken" w="32375" h="21600">
                <a:moveTo>
                  <a:pt x="11240" y="5853"/>
                </a:moveTo>
                <a:lnTo>
                  <a:pt x="12414" y="5853"/>
                </a:lnTo>
                <a:lnTo>
                  <a:pt x="12414" y="15747"/>
                </a:lnTo>
                <a:lnTo>
                  <a:pt x="11240" y="15747"/>
                </a:lnTo>
                <a:close/>
              </a:path>
            </a:pathLst>
          </a:cu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21120" y="4038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768840" y="41148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921120" y="4952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791320" y="3581280"/>
            <a:ext cx="380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Comic Sans MS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410080" y="41148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638680" y="4114800"/>
            <a:ext cx="1524240" cy="0"/>
          </a:xfrm>
          <a:prstGeom prst="line">
            <a:avLst/>
          </a:prstGeom>
          <a:ln w="5724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0" y="1878120"/>
            <a:ext cx="8991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Comic Sans MS"/>
              </a:rPr>
              <a:t>Quel effort fournir en B pour faire glisser le solide 1 sur le plan 0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0" name=""/>
          <p:cNvGrpSpPr/>
          <p:nvPr/>
        </p:nvGrpSpPr>
        <p:grpSpPr>
          <a:xfrm>
            <a:off x="1143000" y="5105520"/>
            <a:ext cx="5638680" cy="609480"/>
            <a:chOff x="1143000" y="5105520"/>
            <a:chExt cx="5638680" cy="609480"/>
          </a:xfrm>
        </p:grpSpPr>
        <p:sp>
          <p:nvSpPr>
            <p:cNvPr id="351" name=""/>
            <p:cNvSpPr/>
            <p:nvPr/>
          </p:nvSpPr>
          <p:spPr>
            <a:xfrm>
              <a:off x="1143000" y="5105520"/>
              <a:ext cx="5638680" cy="6094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1143000" y="5105520"/>
              <a:ext cx="56386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3" name=""/>
          <p:cNvSpPr/>
          <p:nvPr/>
        </p:nvSpPr>
        <p:spPr>
          <a:xfrm>
            <a:off x="2209680" y="3200400"/>
            <a:ext cx="3429000" cy="1905120"/>
          </a:xfrm>
          <a:prstGeom prst="rect">
            <a:avLst/>
          </a:prstGeom>
          <a:solidFill>
            <a:srgbClr val="b2b2b2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0" y="1420920"/>
            <a:ext cx="868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Comic Sans MS"/>
              </a:rPr>
              <a:t>Observons sur la figure ce qui se passe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921120" y="4038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768840" y="41148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921120" y="4952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410080" y="41148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flipV="1">
            <a:off x="3921120" y="2743200"/>
            <a:ext cx="0" cy="23623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3921120" y="4114800"/>
            <a:ext cx="0" cy="231300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1" name=""/>
          <p:cNvGrpSpPr/>
          <p:nvPr/>
        </p:nvGrpSpPr>
        <p:grpSpPr>
          <a:xfrm>
            <a:off x="1143000" y="5105520"/>
            <a:ext cx="5638680" cy="609480"/>
            <a:chOff x="1143000" y="5105520"/>
            <a:chExt cx="5638680" cy="609480"/>
          </a:xfrm>
        </p:grpSpPr>
        <p:sp>
          <p:nvSpPr>
            <p:cNvPr id="362" name=""/>
            <p:cNvSpPr/>
            <p:nvPr/>
          </p:nvSpPr>
          <p:spPr>
            <a:xfrm>
              <a:off x="1143000" y="5105520"/>
              <a:ext cx="5638680" cy="6094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143000" y="5105520"/>
              <a:ext cx="56386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4" name=""/>
          <p:cNvSpPr/>
          <p:nvPr/>
        </p:nvSpPr>
        <p:spPr>
          <a:xfrm>
            <a:off x="2209680" y="3200400"/>
            <a:ext cx="3429000" cy="1905120"/>
          </a:xfrm>
          <a:prstGeom prst="rect">
            <a:avLst/>
          </a:prstGeom>
          <a:solidFill>
            <a:srgbClr val="b2b2b2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0" y="1420920"/>
            <a:ext cx="868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Comic Sans MS"/>
              </a:rPr>
              <a:t>Observons sur la figure ce qui se passe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921120" y="4038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768840" y="41148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410080" y="41148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638680" y="4114800"/>
            <a:ext cx="287280" cy="0"/>
          </a:xfrm>
          <a:prstGeom prst="line">
            <a:avLst/>
          </a:prstGeom>
          <a:ln w="5724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flipH="1" flipV="1">
            <a:off x="3870360" y="2743920"/>
            <a:ext cx="82800" cy="23608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921120" y="4114800"/>
            <a:ext cx="0" cy="231300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2" name=""/>
          <p:cNvGrpSpPr/>
          <p:nvPr/>
        </p:nvGrpSpPr>
        <p:grpSpPr>
          <a:xfrm>
            <a:off x="1143000" y="5105520"/>
            <a:ext cx="5638680" cy="609480"/>
            <a:chOff x="1143000" y="5105520"/>
            <a:chExt cx="5638680" cy="609480"/>
          </a:xfrm>
        </p:grpSpPr>
        <p:sp>
          <p:nvSpPr>
            <p:cNvPr id="373" name=""/>
            <p:cNvSpPr/>
            <p:nvPr/>
          </p:nvSpPr>
          <p:spPr>
            <a:xfrm>
              <a:off x="1143000" y="5105520"/>
              <a:ext cx="5638680" cy="6094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143000" y="5105520"/>
              <a:ext cx="56386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5" name=""/>
          <p:cNvSpPr/>
          <p:nvPr/>
        </p:nvSpPr>
        <p:spPr>
          <a:xfrm>
            <a:off x="2209680" y="3200400"/>
            <a:ext cx="3429000" cy="1905120"/>
          </a:xfrm>
          <a:prstGeom prst="rect">
            <a:avLst/>
          </a:prstGeom>
          <a:solidFill>
            <a:srgbClr val="b2b2b2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0" y="1420920"/>
            <a:ext cx="868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Comic Sans MS"/>
              </a:rPr>
              <a:t>Observons sur la figure ce qui se passe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21120" y="4038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768840" y="41148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410080" y="41148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38680" y="4114800"/>
            <a:ext cx="360360" cy="0"/>
          </a:xfrm>
          <a:prstGeom prst="line">
            <a:avLst/>
          </a:prstGeom>
          <a:ln w="5724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 flipV="1">
            <a:off x="3773880" y="2749680"/>
            <a:ext cx="246960" cy="2349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921120" y="4114800"/>
            <a:ext cx="0" cy="231300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03T17:08:23Z</dcterms:created>
  <dc:creator>Philippe Jeannerod</dc:creator>
  <dc:description/>
  <dc:language>en-US</dc:language>
  <cp:lastModifiedBy>BTS Microtechniques</cp:lastModifiedBy>
  <dcterms:modified xsi:type="dcterms:W3CDTF">2003-03-31T18:34:27Z</dcterms:modified>
  <cp:revision>42</cp:revision>
  <dc:subject>Solide sur un plan horizontal</dc:subject>
  <dc:title>STATIQUE</dc:title>
</cp:coreProperties>
</file>