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02F-22C9-4DE6-B5C3-31A8456D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C73-47F5-4513-9AA9-C9D6ED15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A44-61C0-47D5-8345-8E15F8A1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65E8-5CA9-4899-BABB-3EEDAB76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A1B-B458-4EF5-BCD7-FCD18FCF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E196-984D-4447-8C88-B6077AF0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01F-839C-4A8A-A652-18D99D92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5ED-63E7-4C7F-B54F-4B1E8E62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482-4C0D-47B0-B3F4-A3C1454E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82A-D894-4D6C-8BBA-F1BE705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9E4-EC4C-4B04-9AAF-665802FA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842-FA2A-4858-910C-AB4752A1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5F2-CD1E-468B-87BE-18151E6ED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CHARGE EN APPUI SUR 3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1905120"/>
            <a:ext cx="5181480" cy="4572000"/>
            <a:chOff x="228600" y="1905120"/>
            <a:chExt cx="5181480" cy="4572000"/>
          </a:xfrm>
        </p:grpSpPr>
        <p:grpSp>
          <p:nvGrpSpPr>
            <p:cNvPr id="46" name=""/>
            <p:cNvGrpSpPr/>
            <p:nvPr/>
          </p:nvGrpSpPr>
          <p:grpSpPr>
            <a:xfrm>
              <a:off x="228600" y="1905120"/>
              <a:ext cx="5181480" cy="4572000"/>
              <a:chOff x="228600" y="1905120"/>
              <a:chExt cx="5181480" cy="4572000"/>
            </a:xfrm>
          </p:grpSpPr>
          <p:sp>
            <p:nvSpPr>
              <p:cNvPr id="47" name=""/>
              <p:cNvSpPr/>
              <p:nvPr/>
            </p:nvSpPr>
            <p:spPr>
              <a:xfrm>
                <a:off x="228600" y="1905120"/>
                <a:ext cx="5181480" cy="457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" name=""/>
              <p:cNvGrpSpPr/>
              <p:nvPr/>
            </p:nvGrpSpPr>
            <p:grpSpPr>
              <a:xfrm>
                <a:off x="724320" y="3876480"/>
                <a:ext cx="738720" cy="822240"/>
                <a:chOff x="724320" y="3876480"/>
                <a:chExt cx="738720" cy="822240"/>
              </a:xfrm>
            </p:grpSpPr>
            <p:sp>
              <p:nvSpPr>
                <p:cNvPr id="49" name=""/>
                <p:cNvSpPr/>
                <p:nvPr/>
              </p:nvSpPr>
              <p:spPr>
                <a:xfrm rot="1800000">
                  <a:off x="826920" y="4086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1800000">
                  <a:off x="960120" y="3970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4378320" y="4337640"/>
                <a:ext cx="822240" cy="738720"/>
                <a:chOff x="4378320" y="4337640"/>
                <a:chExt cx="822240" cy="738720"/>
              </a:xfrm>
            </p:grpSpPr>
            <p:sp>
              <p:nvSpPr>
                <p:cNvPr id="52" name=""/>
                <p:cNvSpPr/>
                <p:nvPr/>
              </p:nvSpPr>
              <p:spPr>
                <a:xfrm rot="18000000">
                  <a:off x="4626720" y="447804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18000000">
                  <a:off x="4395960" y="445932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2705760" y="5019480"/>
                <a:ext cx="738720" cy="822240"/>
                <a:chOff x="2705760" y="5019480"/>
                <a:chExt cx="738720" cy="822240"/>
              </a:xfrm>
            </p:grpSpPr>
            <p:sp>
              <p:nvSpPr>
                <p:cNvPr id="55" name=""/>
                <p:cNvSpPr/>
                <p:nvPr/>
              </p:nvSpPr>
              <p:spPr>
                <a:xfrm rot="1800000">
                  <a:off x="2808360" y="5229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1800000">
                  <a:off x="2941560" y="5113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" name=""/>
            <p:cNvSpPr/>
            <p:nvPr/>
          </p:nvSpPr>
          <p:spPr>
            <a:xfrm>
              <a:off x="228600" y="4191120"/>
              <a:ext cx="3962520" cy="228600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191120" y="4267080"/>
              <a:ext cx="1218960" cy="221004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59240" y="2316960"/>
            <a:ext cx="3967920" cy="3214440"/>
            <a:chOff x="759240" y="2316960"/>
            <a:chExt cx="3967920" cy="3214440"/>
          </a:xfrm>
        </p:grpSpPr>
        <p:sp>
          <p:nvSpPr>
            <p:cNvPr id="60" name=""/>
            <p:cNvSpPr/>
            <p:nvPr/>
          </p:nvSpPr>
          <p:spPr>
            <a:xfrm rot="1800000">
              <a:off x="9144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46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5184720" y="1903320"/>
            <a:ext cx="3962520" cy="4953240"/>
            <a:chOff x="5184720" y="1903320"/>
            <a:chExt cx="3962520" cy="4953240"/>
          </a:xfrm>
        </p:grpSpPr>
        <p:sp>
          <p:nvSpPr>
            <p:cNvPr id="404" name=""/>
            <p:cNvSpPr/>
            <p:nvPr/>
          </p:nvSpPr>
          <p:spPr>
            <a:xfrm>
              <a:off x="5261040" y="1903320"/>
              <a:ext cx="3733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1. Regrouper les forces deux à deux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5413320" y="2665440"/>
              <a:ext cx="3733920" cy="380880"/>
              <a:chOff x="5413320" y="2665440"/>
              <a:chExt cx="3733920" cy="380880"/>
            </a:xfrm>
          </p:grpSpPr>
          <p:sp>
            <p:nvSpPr>
              <p:cNvPr id="406" name=""/>
              <p:cNvSpPr/>
              <p:nvPr/>
            </p:nvSpPr>
            <p:spPr>
              <a:xfrm>
                <a:off x="5413320" y="2665440"/>
                <a:ext cx="37339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33"/>
                    </a:solidFill>
                    <a:latin typeface="Comic Sans MS"/>
                  </a:rPr>
                  <a:t>P + A</a:t>
                </a:r>
                <a:r>
                  <a:rPr b="1" lang="en-US" sz="1600" spc="-1" strike="noStrike">
                    <a:solidFill>
                      <a:srgbClr val="990033"/>
                    </a:solidFill>
                    <a:latin typeface="Comic Sans MS"/>
                  </a:rPr>
                  <a:t>0/1</a:t>
                </a:r>
                <a:r>
                  <a:rPr b="1" lang="en-US" sz="2000" spc="-1" strike="noStrike">
                    <a:solidFill>
                      <a:srgbClr val="990033"/>
                    </a:solidFill>
                    <a:latin typeface="Comic Sans MS"/>
                  </a:rPr>
                  <a:t> + B</a:t>
                </a:r>
                <a:r>
                  <a:rPr b="1" lang="en-US" sz="1600" spc="-1" strike="noStrike">
                    <a:solidFill>
                      <a:srgbClr val="990033"/>
                    </a:solidFill>
                    <a:latin typeface="Comic Sans MS"/>
                  </a:rPr>
                  <a:t>0/1</a:t>
                </a:r>
                <a:r>
                  <a:rPr b="1" lang="en-US" sz="2000" spc="-1" strike="noStrike">
                    <a:solidFill>
                      <a:srgbClr val="990033"/>
                    </a:solidFill>
                    <a:latin typeface="Comic Sans MS"/>
                  </a:rPr>
                  <a:t> + C</a:t>
                </a:r>
                <a:r>
                  <a:rPr b="1" lang="en-US" sz="1600" spc="-1" strike="noStrike">
                    <a:solidFill>
                      <a:srgbClr val="990033"/>
                    </a:solidFill>
                    <a:latin typeface="Comic Sans MS"/>
                  </a:rPr>
                  <a:t>0/1</a:t>
                </a:r>
                <a:r>
                  <a:rPr b="1" lang="en-US" sz="2000" spc="-1" strike="noStrike">
                    <a:solidFill>
                      <a:srgbClr val="990033"/>
                    </a:solidFill>
                    <a:latin typeface="Comic Sans MS"/>
                  </a:rPr>
                  <a:t> = 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413320" y="2665440"/>
                <a:ext cx="30492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023160" y="2665440"/>
                <a:ext cx="5331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7560" y="2665440"/>
                <a:ext cx="5331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775640" y="2665440"/>
                <a:ext cx="53352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613720" y="2665440"/>
                <a:ext cx="30492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rot="16200000">
              <a:off x="5908680" y="2626920"/>
              <a:ext cx="228600" cy="10666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6200000">
              <a:off x="7508520" y="2474280"/>
              <a:ext cx="228600" cy="1371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794200" y="3351240"/>
              <a:ext cx="533160" cy="380880"/>
              <a:chOff x="5794200" y="3351240"/>
              <a:chExt cx="533160" cy="380880"/>
            </a:xfrm>
          </p:grpSpPr>
          <p:sp>
            <p:nvSpPr>
              <p:cNvPr id="415" name=""/>
              <p:cNvSpPr/>
              <p:nvPr/>
            </p:nvSpPr>
            <p:spPr>
              <a:xfrm>
                <a:off x="5794200" y="3351240"/>
                <a:ext cx="5331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R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70160" y="3351240"/>
                <a:ext cx="304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7318440" y="3351240"/>
              <a:ext cx="609480" cy="380880"/>
              <a:chOff x="7318440" y="3351240"/>
              <a:chExt cx="609480" cy="380880"/>
            </a:xfrm>
          </p:grpSpPr>
          <p:sp>
            <p:nvSpPr>
              <p:cNvPr id="418" name=""/>
              <p:cNvSpPr/>
              <p:nvPr/>
            </p:nvSpPr>
            <p:spPr>
              <a:xfrm>
                <a:off x="7318440" y="3351240"/>
                <a:ext cx="6094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R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394760" y="3351240"/>
                <a:ext cx="304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641920" y="3351240"/>
              <a:ext cx="3352680" cy="380880"/>
              <a:chOff x="5641920" y="3351240"/>
              <a:chExt cx="3352680" cy="380880"/>
            </a:xfrm>
          </p:grpSpPr>
          <p:sp>
            <p:nvSpPr>
              <p:cNvPr id="421" name=""/>
              <p:cNvSpPr/>
              <p:nvPr/>
            </p:nvSpPr>
            <p:spPr>
              <a:xfrm>
                <a:off x="5641920" y="3351240"/>
                <a:ext cx="33526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a50021"/>
                    </a:solidFill>
                    <a:latin typeface="Comic Sans MS"/>
                  </a:rPr>
                  <a:t>         </a:t>
                </a:r>
                <a:r>
                  <a:rPr b="1" lang="fr-FR" sz="2000" spc="-1" strike="noStrike">
                    <a:solidFill>
                      <a:srgbClr val="a50021"/>
                    </a:solidFill>
                    <a:latin typeface="Comic Sans MS"/>
                  </a:rPr>
                  <a:t>+</a:t>
                </a:r>
                <a:r>
                  <a:rPr b="1" lang="fr-FR" sz="1600" spc="-1" strike="noStrike">
                    <a:solidFill>
                      <a:srgbClr val="ff0000"/>
                    </a:solidFill>
                    <a:latin typeface="Comic Sans MS"/>
                  </a:rPr>
                  <a:t>       </a:t>
                </a:r>
                <a:r>
                  <a:rPr b="1" lang="fr-FR" sz="2000" spc="-1" strike="noStrike">
                    <a:solidFill>
                      <a:srgbClr val="3333cc"/>
                    </a:solidFill>
                    <a:latin typeface="Comic Sans MS"/>
                  </a:rPr>
                  <a:t>   </a:t>
                </a:r>
                <a:r>
                  <a:rPr b="1" lang="fr-FR" sz="1600" spc="-1" strike="noStrike">
                    <a:solidFill>
                      <a:srgbClr val="ff0000"/>
                    </a:solidFill>
                    <a:latin typeface="Comic Sans MS"/>
                  </a:rPr>
                  <a:t>       </a:t>
                </a:r>
                <a:r>
                  <a:rPr b="1" lang="fr-FR" sz="2000" spc="-1" strike="noStrike">
                    <a:solidFill>
                      <a:srgbClr val="a50021"/>
                    </a:solidFill>
                    <a:latin typeface="Comic Sans MS"/>
                  </a:rPr>
                  <a:t>=</a:t>
                </a:r>
                <a:r>
                  <a:rPr b="1" lang="fr-FR" sz="1600" spc="-1" strike="noStrike">
                    <a:solidFill>
                      <a:srgbClr val="a50021"/>
                    </a:solidFill>
                    <a:latin typeface="Comic Sans MS"/>
                  </a:rPr>
                  <a:t> </a:t>
                </a:r>
                <a:r>
                  <a:rPr b="1" lang="fr-FR" sz="2000" spc="-1" strike="noStrike">
                    <a:solidFill>
                      <a:srgbClr val="a50021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13720" y="3351240"/>
                <a:ext cx="304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184720" y="3732120"/>
              <a:ext cx="3733920" cy="965160"/>
              <a:chOff x="5184720" y="3732120"/>
              <a:chExt cx="3733920" cy="965160"/>
            </a:xfrm>
          </p:grpSpPr>
          <p:sp>
            <p:nvSpPr>
              <p:cNvPr id="424" name=""/>
              <p:cNvSpPr/>
              <p:nvPr/>
            </p:nvSpPr>
            <p:spPr>
              <a:xfrm>
                <a:off x="5184720" y="3732120"/>
                <a:ext cx="373392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990033"/>
                    </a:solidFill>
                    <a:latin typeface="Comic Sans MS"/>
                  </a:rPr>
                  <a:t>2. La résultante     passe par le point </a:t>
                </a:r>
                <a:r>
                  <a:rPr b="1" lang="fr-FR" sz="2000" spc="-1" strike="noStrike">
                    <a:solidFill>
                      <a:srgbClr val="009999"/>
                    </a:solidFill>
                    <a:latin typeface="Comic Sans MS"/>
                  </a:rPr>
                  <a:t>M</a:t>
                </a:r>
                <a:r>
                  <a:rPr b="1" lang="fr-FR" sz="2000" spc="-1" strike="noStrike">
                    <a:solidFill>
                      <a:srgbClr val="990033"/>
                    </a:solidFill>
                    <a:latin typeface="Comic Sans MS"/>
                  </a:rPr>
                  <a:t> intersection entre      et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18440" y="3732120"/>
                <a:ext cx="53352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R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94760" y="3808080"/>
                <a:ext cx="304560" cy="18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023160" y="4341600"/>
                <a:ext cx="5331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P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099120" y="4417920"/>
                <a:ext cx="30492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7560" y="4341600"/>
                <a:ext cx="8380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Comic Sans MS"/>
                  </a:rPr>
                  <a:t>0/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089840" y="4417920"/>
                <a:ext cx="47952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5184720" y="4875120"/>
              <a:ext cx="3733920" cy="990360"/>
              <a:chOff x="5184720" y="4875120"/>
              <a:chExt cx="3733920" cy="990360"/>
            </a:xfrm>
          </p:grpSpPr>
          <p:sp>
            <p:nvSpPr>
              <p:cNvPr id="432" name=""/>
              <p:cNvSpPr/>
              <p:nvPr/>
            </p:nvSpPr>
            <p:spPr>
              <a:xfrm>
                <a:off x="5184720" y="4875120"/>
                <a:ext cx="373392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33"/>
                    </a:solidFill>
                    <a:latin typeface="Comic Sans MS"/>
                  </a:rPr>
                  <a:t>3. La résultante     passe par le point </a:t>
                </a:r>
                <a:r>
                  <a:rPr b="1" lang="en-US" sz="2000" spc="-1" strike="noStrike">
                    <a:solidFill>
                      <a:srgbClr val="009999"/>
                    </a:solidFill>
                    <a:latin typeface="Comic Sans MS"/>
                  </a:rPr>
                  <a:t>N</a:t>
                </a:r>
                <a:r>
                  <a:rPr b="1" lang="en-US" sz="2000" spc="-1" strike="noStrike">
                    <a:solidFill>
                      <a:srgbClr val="990033"/>
                    </a:solidFill>
                    <a:latin typeface="Comic Sans MS"/>
                  </a:rPr>
                  <a:t> intersection entre       et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18440" y="4875120"/>
                <a:ext cx="5335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R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394760" y="4951080"/>
                <a:ext cx="3045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946840" y="5484600"/>
                <a:ext cx="76212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B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0/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023160" y="5560920"/>
                <a:ext cx="53316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937560" y="5484600"/>
                <a:ext cx="838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C</a:t>
                </a: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</a:rPr>
                  <a:t>0/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13520" y="5560920"/>
                <a:ext cx="47952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5184720" y="6094440"/>
              <a:ext cx="3733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4. La </a:t>
              </a:r>
              <a:r>
                <a:rPr b="1" lang="fr-FR" sz="2000" spc="-1" strike="noStrike">
                  <a:solidFill>
                    <a:srgbClr val="009999"/>
                  </a:solidFill>
                  <a:latin typeface="Comic Sans MS"/>
                </a:rPr>
                <a:t>droite de Culmann</a:t>
              </a: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 passe par </a:t>
              </a:r>
              <a:r>
                <a:rPr b="1" lang="fr-FR" sz="2000" spc="-1" strike="noStrike">
                  <a:solidFill>
                    <a:srgbClr val="009999"/>
                  </a:solidFill>
                  <a:latin typeface="Comic Sans MS"/>
                </a:rPr>
                <a:t>M</a:t>
              </a: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 et </a:t>
              </a:r>
              <a:r>
                <a:rPr b="1" lang="fr-FR" sz="2000" spc="-1" strike="noStrike">
                  <a:solidFill>
                    <a:srgbClr val="0099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1905120"/>
            <a:ext cx="3962520" cy="495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5. Construire le dynam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1371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METHODE DE CUL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" y="1905120"/>
            <a:ext cx="4952880" cy="457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30640" y="2316960"/>
            <a:ext cx="3967920" cy="3214440"/>
            <a:chOff x="530640" y="2316960"/>
            <a:chExt cx="3967920" cy="3214440"/>
          </a:xfrm>
        </p:grpSpPr>
        <p:sp>
          <p:nvSpPr>
            <p:cNvPr id="449" name=""/>
            <p:cNvSpPr/>
            <p:nvPr/>
          </p:nvSpPr>
          <p:spPr>
            <a:xfrm rot="1800000">
              <a:off x="6858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0481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914040" y="38098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733920" y="43434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339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574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05120" y="3886200"/>
            <a:ext cx="533160" cy="1450080"/>
            <a:chOff x="1905120" y="3886200"/>
            <a:chExt cx="533160" cy="1450080"/>
          </a:xfrm>
        </p:grpSpPr>
        <p:sp>
          <p:nvSpPr>
            <p:cNvPr id="459" name=""/>
            <p:cNvSpPr/>
            <p:nvPr/>
          </p:nvSpPr>
          <p:spPr>
            <a:xfrm>
              <a:off x="24382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905120" y="4876560"/>
              <a:ext cx="380880" cy="459720"/>
              <a:chOff x="1905120" y="4876560"/>
              <a:chExt cx="38088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19051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814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3" name=""/>
          <p:cNvSpPr/>
          <p:nvPr/>
        </p:nvSpPr>
        <p:spPr>
          <a:xfrm flipV="1">
            <a:off x="914400" y="2133360"/>
            <a:ext cx="121932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2286000" y="327672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837720" y="2590560"/>
            <a:ext cx="358164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438280" y="3885840"/>
            <a:ext cx="0" cy="2438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600200" y="30481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95120" y="4952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400800" y="3200400"/>
            <a:ext cx="533520" cy="2209320"/>
            <a:chOff x="6400800" y="3200400"/>
            <a:chExt cx="533520" cy="2209320"/>
          </a:xfrm>
        </p:grpSpPr>
        <p:sp>
          <p:nvSpPr>
            <p:cNvPr id="470" name=""/>
            <p:cNvSpPr/>
            <p:nvPr/>
          </p:nvSpPr>
          <p:spPr>
            <a:xfrm>
              <a:off x="6934320" y="3200400"/>
              <a:ext cx="0" cy="220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400800" y="4712040"/>
              <a:ext cx="380880" cy="459720"/>
              <a:chOff x="6400800" y="4712040"/>
              <a:chExt cx="380880" cy="459720"/>
            </a:xfrm>
          </p:grpSpPr>
          <p:sp>
            <p:nvSpPr>
              <p:cNvPr id="472" name=""/>
              <p:cNvSpPr/>
              <p:nvPr/>
            </p:nvSpPr>
            <p:spPr>
              <a:xfrm>
                <a:off x="6400800" y="4712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477120" y="471204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>
            <a:off x="1752480" y="3200400"/>
            <a:ext cx="83844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335268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057400" y="35053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09680" y="3657600"/>
            <a:ext cx="83844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232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37339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66880" y="3732120"/>
            <a:ext cx="83844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24080" y="3732120"/>
            <a:ext cx="83844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27672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2900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3732120"/>
            <a:ext cx="83844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3392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620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038480" y="3732120"/>
            <a:ext cx="83844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91120" y="373212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343400" y="37339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19720" y="358128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581280"/>
            <a:ext cx="83808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838440" cy="31244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800600" y="35053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52880" y="3505320"/>
            <a:ext cx="83844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35053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257800" y="35053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10080" y="3505320"/>
            <a:ext cx="83844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62720" y="35053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15000" y="342900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91320" y="32767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3200400"/>
            <a:ext cx="762120" cy="28954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5880" y="3200400"/>
            <a:ext cx="762120" cy="281952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172200" y="3048120"/>
            <a:ext cx="762120" cy="27432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24480" y="3276720"/>
            <a:ext cx="685800" cy="236196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334120" y="2286000"/>
            <a:ext cx="3657600" cy="380880"/>
            <a:chOff x="5334120" y="2286000"/>
            <a:chExt cx="3657600" cy="380880"/>
          </a:xfrm>
        </p:grpSpPr>
        <p:sp>
          <p:nvSpPr>
            <p:cNvPr id="508" name=""/>
            <p:cNvSpPr/>
            <p:nvPr/>
          </p:nvSpPr>
          <p:spPr>
            <a:xfrm>
              <a:off x="5334120" y="2286000"/>
              <a:ext cx="365760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Tracer P à une éch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24480" y="2362320"/>
              <a:ext cx="3049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334120" y="5562720"/>
            <a:ext cx="3657600" cy="1066680"/>
            <a:chOff x="5334120" y="5562720"/>
            <a:chExt cx="3657600" cy="1066680"/>
          </a:xfrm>
        </p:grpSpPr>
        <p:sp>
          <p:nvSpPr>
            <p:cNvPr id="511" name=""/>
            <p:cNvSpPr/>
            <p:nvPr/>
          </p:nvSpPr>
          <p:spPr>
            <a:xfrm>
              <a:off x="5334120" y="5562720"/>
              <a:ext cx="3657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Tracer une parallèle à la droite de Culmann passant par l’extrémité de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696080" y="6248520"/>
              <a:ext cx="3049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81480" y="1905120"/>
            <a:ext cx="3962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5. Construire le dynam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52480" y="1371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METHODE DE CUL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1905120"/>
            <a:ext cx="4952880" cy="457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530640" y="2316960"/>
            <a:ext cx="3967920" cy="3214440"/>
            <a:chOff x="530640" y="2316960"/>
            <a:chExt cx="3967920" cy="3214440"/>
          </a:xfrm>
        </p:grpSpPr>
        <p:sp>
          <p:nvSpPr>
            <p:cNvPr id="522" name=""/>
            <p:cNvSpPr/>
            <p:nvPr/>
          </p:nvSpPr>
          <p:spPr>
            <a:xfrm rot="1800000">
              <a:off x="6858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860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30481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914040" y="38098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733920" y="43434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038480" y="44197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39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574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905120" y="3886200"/>
            <a:ext cx="533160" cy="1450080"/>
            <a:chOff x="1905120" y="3886200"/>
            <a:chExt cx="533160" cy="1450080"/>
          </a:xfrm>
        </p:grpSpPr>
        <p:sp>
          <p:nvSpPr>
            <p:cNvPr id="532" name=""/>
            <p:cNvSpPr/>
            <p:nvPr/>
          </p:nvSpPr>
          <p:spPr>
            <a:xfrm>
              <a:off x="24382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1905120" y="4876560"/>
              <a:ext cx="380880" cy="459720"/>
              <a:chOff x="1905120" y="4876560"/>
              <a:chExt cx="380880" cy="459720"/>
            </a:xfrm>
          </p:grpSpPr>
          <p:sp>
            <p:nvSpPr>
              <p:cNvPr id="534" name=""/>
              <p:cNvSpPr/>
              <p:nvPr/>
            </p:nvSpPr>
            <p:spPr>
              <a:xfrm>
                <a:off x="19051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814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6" name=""/>
          <p:cNvSpPr/>
          <p:nvPr/>
        </p:nvSpPr>
        <p:spPr>
          <a:xfrm flipV="1">
            <a:off x="914400" y="2133360"/>
            <a:ext cx="121932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286000" y="327672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837720" y="2590560"/>
            <a:ext cx="358164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2438280" y="3885840"/>
            <a:ext cx="0" cy="2438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600200" y="30481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95120" y="4952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934320" y="320040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086600" y="4724280"/>
            <a:ext cx="380880" cy="459720"/>
            <a:chOff x="7086600" y="4724280"/>
            <a:chExt cx="380880" cy="459720"/>
          </a:xfrm>
        </p:grpSpPr>
        <p:sp>
          <p:nvSpPr>
            <p:cNvPr id="544" name=""/>
            <p:cNvSpPr/>
            <p:nvPr/>
          </p:nvSpPr>
          <p:spPr>
            <a:xfrm>
              <a:off x="7086600" y="4724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162920" y="472428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6324480" y="3276720"/>
            <a:ext cx="685800" cy="236196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334120" y="5638680"/>
            <a:ext cx="3657600" cy="1066680"/>
            <a:chOff x="5334120" y="5638680"/>
            <a:chExt cx="3657600" cy="1066680"/>
          </a:xfrm>
        </p:grpSpPr>
        <p:sp>
          <p:nvSpPr>
            <p:cNvPr id="548" name=""/>
            <p:cNvSpPr/>
            <p:nvPr/>
          </p:nvSpPr>
          <p:spPr>
            <a:xfrm>
              <a:off x="5334120" y="5638680"/>
              <a:ext cx="36576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Tracer une parallèle à la direction de A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0/1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passant par l’origine de 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15200" y="6324480"/>
              <a:ext cx="3049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086600" y="6019560"/>
              <a:ext cx="45720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2438280" y="320040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590920" y="3123720"/>
            <a:ext cx="1828800" cy="3124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666880" y="320040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819520" y="320040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2971800" y="320040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124080" y="3123720"/>
            <a:ext cx="1828800" cy="3124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276720" y="3123720"/>
            <a:ext cx="1828800" cy="3124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52680" y="320040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05320" y="3123720"/>
            <a:ext cx="1828800" cy="3124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657600" y="3123720"/>
            <a:ext cx="1828800" cy="3124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809880" y="3123720"/>
            <a:ext cx="1828800" cy="3124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3962520" y="3123720"/>
            <a:ext cx="1828800" cy="31244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191120" y="3123720"/>
            <a:ext cx="1752480" cy="30481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419720" y="3124080"/>
            <a:ext cx="1676160" cy="2895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724280" y="3123720"/>
            <a:ext cx="1524240" cy="26672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5029200" y="3124080"/>
            <a:ext cx="1371600" cy="23623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334120" y="3123720"/>
            <a:ext cx="1218960" cy="2057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715000" y="3123720"/>
            <a:ext cx="990720" cy="17528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5943600" y="3123720"/>
            <a:ext cx="914400" cy="16002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6172200" y="3200400"/>
            <a:ext cx="762120" cy="1295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181480" y="2362320"/>
            <a:ext cx="3962520" cy="761760"/>
            <a:chOff x="5181480" y="2362320"/>
            <a:chExt cx="3962520" cy="761760"/>
          </a:xfrm>
        </p:grpSpPr>
        <p:sp>
          <p:nvSpPr>
            <p:cNvPr id="572" name=""/>
            <p:cNvSpPr/>
            <p:nvPr/>
          </p:nvSpPr>
          <p:spPr>
            <a:xfrm>
              <a:off x="5181480" y="2362320"/>
              <a:ext cx="396252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La somme vectoriell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P + A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0/1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= R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1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   donn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81480" y="2743200"/>
              <a:ext cx="3049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791320" y="2743200"/>
              <a:ext cx="53316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29400" y="2743200"/>
              <a:ext cx="38088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 flipV="1">
            <a:off x="6519960" y="3200040"/>
            <a:ext cx="414360" cy="72396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15280" y="3900600"/>
            <a:ext cx="419040" cy="15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6095880" y="4800600"/>
            <a:ext cx="533520" cy="380880"/>
            <a:chOff x="6095880" y="4800600"/>
            <a:chExt cx="533520" cy="380880"/>
          </a:xfrm>
        </p:grpSpPr>
        <p:sp>
          <p:nvSpPr>
            <p:cNvPr id="579" name=""/>
            <p:cNvSpPr/>
            <p:nvPr/>
          </p:nvSpPr>
          <p:spPr>
            <a:xfrm>
              <a:off x="6095880" y="480060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72200" y="4800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867280" y="3276720"/>
            <a:ext cx="761760" cy="380880"/>
            <a:chOff x="5867280" y="3276720"/>
            <a:chExt cx="761760" cy="380880"/>
          </a:xfrm>
        </p:grpSpPr>
        <p:sp>
          <p:nvSpPr>
            <p:cNvPr id="582" name=""/>
            <p:cNvSpPr/>
            <p:nvPr/>
          </p:nvSpPr>
          <p:spPr>
            <a:xfrm>
              <a:off x="5867280" y="3276720"/>
              <a:ext cx="761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mic Sans MS"/>
                </a:rPr>
                <a:t>A</a:t>
              </a:r>
              <a:r>
                <a:rPr b="1" lang="en-US" sz="1600" spc="-1" strike="noStrike">
                  <a:solidFill>
                    <a:srgbClr val="660066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43240" y="3276720"/>
              <a:ext cx="53352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81480" y="1905120"/>
            <a:ext cx="3962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6. Terminer le dynam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52480" y="1371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METHODE DE CUL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1905120"/>
            <a:ext cx="4952880" cy="457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30640" y="2316960"/>
            <a:ext cx="3967920" cy="3214440"/>
            <a:chOff x="530640" y="2316960"/>
            <a:chExt cx="3967920" cy="3214440"/>
          </a:xfrm>
        </p:grpSpPr>
        <p:sp>
          <p:nvSpPr>
            <p:cNvPr id="593" name=""/>
            <p:cNvSpPr/>
            <p:nvPr/>
          </p:nvSpPr>
          <p:spPr>
            <a:xfrm rot="1800000">
              <a:off x="6858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860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30481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066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914040" y="38098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733920" y="43434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038480" y="44197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7339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574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05120" y="3886200"/>
            <a:ext cx="533160" cy="1450080"/>
            <a:chOff x="1905120" y="3886200"/>
            <a:chExt cx="533160" cy="1450080"/>
          </a:xfrm>
        </p:grpSpPr>
        <p:sp>
          <p:nvSpPr>
            <p:cNvPr id="603" name=""/>
            <p:cNvSpPr/>
            <p:nvPr/>
          </p:nvSpPr>
          <p:spPr>
            <a:xfrm>
              <a:off x="24382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905120" y="4876560"/>
              <a:ext cx="380880" cy="459720"/>
              <a:chOff x="1905120" y="4876560"/>
              <a:chExt cx="380880" cy="459720"/>
            </a:xfrm>
          </p:grpSpPr>
          <p:sp>
            <p:nvSpPr>
              <p:cNvPr id="605" name=""/>
              <p:cNvSpPr/>
              <p:nvPr/>
            </p:nvSpPr>
            <p:spPr>
              <a:xfrm>
                <a:off x="19051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9814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7" name=""/>
          <p:cNvSpPr/>
          <p:nvPr/>
        </p:nvSpPr>
        <p:spPr>
          <a:xfrm flipV="1">
            <a:off x="914400" y="2133360"/>
            <a:ext cx="121932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2286000" y="327672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 flipV="1">
            <a:off x="837720" y="2590560"/>
            <a:ext cx="358164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438280" y="3885840"/>
            <a:ext cx="0" cy="2438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30481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895120" y="4952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934320" y="3200400"/>
            <a:ext cx="533160" cy="2209680"/>
            <a:chOff x="6934320" y="3200400"/>
            <a:chExt cx="533160" cy="2209680"/>
          </a:xfrm>
        </p:grpSpPr>
        <p:sp>
          <p:nvSpPr>
            <p:cNvPr id="614" name=""/>
            <p:cNvSpPr/>
            <p:nvPr/>
          </p:nvSpPr>
          <p:spPr>
            <a:xfrm>
              <a:off x="6934320" y="3200400"/>
              <a:ext cx="0" cy="2209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7086600" y="4724280"/>
              <a:ext cx="380880" cy="459720"/>
              <a:chOff x="7086600" y="4724280"/>
              <a:chExt cx="380880" cy="459720"/>
            </a:xfrm>
          </p:grpSpPr>
          <p:sp>
            <p:nvSpPr>
              <p:cNvPr id="616" name=""/>
              <p:cNvSpPr/>
              <p:nvPr/>
            </p:nvSpPr>
            <p:spPr>
              <a:xfrm>
                <a:off x="708660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62920" y="472428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"/>
          <p:cNvGrpSpPr/>
          <p:nvPr/>
        </p:nvGrpSpPr>
        <p:grpSpPr>
          <a:xfrm>
            <a:off x="5334120" y="2362320"/>
            <a:ext cx="3657600" cy="457200"/>
            <a:chOff x="5334120" y="2362320"/>
            <a:chExt cx="3657600" cy="457200"/>
          </a:xfrm>
        </p:grpSpPr>
        <p:sp>
          <p:nvSpPr>
            <p:cNvPr id="619" name=""/>
            <p:cNvSpPr/>
            <p:nvPr/>
          </p:nvSpPr>
          <p:spPr>
            <a:xfrm>
              <a:off x="5334120" y="2362320"/>
              <a:ext cx="365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On peut tracer R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2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= -R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153280" y="2362320"/>
              <a:ext cx="3049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91520" y="2362320"/>
              <a:ext cx="30456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5334120" y="5943600"/>
            <a:ext cx="3809880" cy="762120"/>
            <a:chOff x="5334120" y="5943600"/>
            <a:chExt cx="3809880" cy="762120"/>
          </a:xfrm>
        </p:grpSpPr>
        <p:sp>
          <p:nvSpPr>
            <p:cNvPr id="623" name=""/>
            <p:cNvSpPr/>
            <p:nvPr/>
          </p:nvSpPr>
          <p:spPr>
            <a:xfrm>
              <a:off x="5334120" y="5943600"/>
              <a:ext cx="3809880" cy="76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On peut tracer la somme vectorielle B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0/1 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+ C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0/1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= R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81680" y="6324480"/>
              <a:ext cx="50976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59720" y="6324480"/>
              <a:ext cx="49356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04280" y="6324480"/>
              <a:ext cx="35064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 flipV="1">
            <a:off x="6519960" y="3200040"/>
            <a:ext cx="414360" cy="72396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15280" y="3900600"/>
            <a:ext cx="419040" cy="15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324480" y="4799160"/>
            <a:ext cx="533520" cy="380880"/>
            <a:chOff x="6324480" y="4799160"/>
            <a:chExt cx="533520" cy="380880"/>
          </a:xfrm>
        </p:grpSpPr>
        <p:sp>
          <p:nvSpPr>
            <p:cNvPr id="630" name=""/>
            <p:cNvSpPr/>
            <p:nvPr/>
          </p:nvSpPr>
          <p:spPr>
            <a:xfrm>
              <a:off x="6324480" y="479916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400800" y="4799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867280" y="3276720"/>
            <a:ext cx="761760" cy="380880"/>
            <a:chOff x="5867280" y="3276720"/>
            <a:chExt cx="761760" cy="380880"/>
          </a:xfrm>
        </p:grpSpPr>
        <p:sp>
          <p:nvSpPr>
            <p:cNvPr id="633" name=""/>
            <p:cNvSpPr/>
            <p:nvPr/>
          </p:nvSpPr>
          <p:spPr>
            <a:xfrm>
              <a:off x="5867280" y="3276720"/>
              <a:ext cx="761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mic Sans MS"/>
                </a:rPr>
                <a:t>A</a:t>
              </a:r>
              <a:r>
                <a:rPr b="1" lang="en-US" sz="1600" spc="-1" strike="noStrike">
                  <a:solidFill>
                    <a:srgbClr val="660066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43240" y="3276720"/>
              <a:ext cx="53352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 flipV="1">
            <a:off x="6515280" y="3924000"/>
            <a:ext cx="414000" cy="14857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6248520" y="4343400"/>
            <a:ext cx="533160" cy="380880"/>
            <a:chOff x="6248520" y="4343400"/>
            <a:chExt cx="533160" cy="380880"/>
          </a:xfrm>
        </p:grpSpPr>
        <p:sp>
          <p:nvSpPr>
            <p:cNvPr id="637" name=""/>
            <p:cNvSpPr/>
            <p:nvPr/>
          </p:nvSpPr>
          <p:spPr>
            <a:xfrm>
              <a:off x="6248520" y="4343400"/>
              <a:ext cx="533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Comic Sans MS"/>
                </a:rPr>
                <a:t>R</a:t>
              </a:r>
              <a:r>
                <a:rPr b="1" lang="en-US" sz="1600" spc="-1" strike="noStrike">
                  <a:solidFill>
                    <a:srgbClr val="009999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324480" y="4343400"/>
              <a:ext cx="304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 flipH="1" flipV="1">
            <a:off x="5181120" y="4419360"/>
            <a:ext cx="1752840" cy="99036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5295960" y="3885840"/>
            <a:ext cx="121932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5943600" y="4876560"/>
            <a:ext cx="985680" cy="533160"/>
          </a:xfrm>
          <a:prstGeom prst="line">
            <a:avLst/>
          </a:prstGeom>
          <a:ln w="7632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943600" y="3924360"/>
            <a:ext cx="533520" cy="9525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5867280" y="5180040"/>
            <a:ext cx="762120" cy="380880"/>
            <a:chOff x="5867280" y="5180040"/>
            <a:chExt cx="762120" cy="380880"/>
          </a:xfrm>
        </p:grpSpPr>
        <p:sp>
          <p:nvSpPr>
            <p:cNvPr id="644" name=""/>
            <p:cNvSpPr/>
            <p:nvPr/>
          </p:nvSpPr>
          <p:spPr>
            <a:xfrm>
              <a:off x="5867280" y="518004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6600"/>
                  </a:solidFill>
                  <a:latin typeface="Comic Sans MS"/>
                </a:rPr>
                <a:t>C</a:t>
              </a:r>
              <a:r>
                <a:rPr b="1" lang="en-US" sz="1600" spc="-1" strike="noStrike">
                  <a:solidFill>
                    <a:srgbClr val="996600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943600" y="5180040"/>
              <a:ext cx="5335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5486400" y="4114800"/>
            <a:ext cx="762120" cy="380880"/>
            <a:chOff x="5486400" y="4114800"/>
            <a:chExt cx="762120" cy="380880"/>
          </a:xfrm>
        </p:grpSpPr>
        <p:sp>
          <p:nvSpPr>
            <p:cNvPr id="647" name=""/>
            <p:cNvSpPr/>
            <p:nvPr/>
          </p:nvSpPr>
          <p:spPr>
            <a:xfrm>
              <a:off x="5486400" y="4114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B</a:t>
              </a:r>
              <a:r>
                <a:rPr b="1" lang="en-US" sz="1600" spc="-1" strike="noStrike">
                  <a:solidFill>
                    <a:srgbClr val="cc3300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62720" y="4114800"/>
              <a:ext cx="5331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480" y="1905120"/>
            <a:ext cx="396252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6. Terminer le dynami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752480" y="1371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METHODE DE CUL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28600" y="1905120"/>
            <a:ext cx="4952880" cy="457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530640" y="2316960"/>
            <a:ext cx="3967920" cy="3214440"/>
            <a:chOff x="530640" y="2316960"/>
            <a:chExt cx="3967920" cy="3214440"/>
          </a:xfrm>
        </p:grpSpPr>
        <p:sp>
          <p:nvSpPr>
            <p:cNvPr id="658" name=""/>
            <p:cNvSpPr/>
            <p:nvPr/>
          </p:nvSpPr>
          <p:spPr>
            <a:xfrm rot="1800000">
              <a:off x="6858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860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0481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066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914040" y="38098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33920" y="43434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038480" y="44197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339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574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1905120" y="3886200"/>
            <a:ext cx="533160" cy="1450080"/>
            <a:chOff x="1905120" y="3886200"/>
            <a:chExt cx="533160" cy="1450080"/>
          </a:xfrm>
        </p:grpSpPr>
        <p:sp>
          <p:nvSpPr>
            <p:cNvPr id="668" name=""/>
            <p:cNvSpPr/>
            <p:nvPr/>
          </p:nvSpPr>
          <p:spPr>
            <a:xfrm>
              <a:off x="24382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1905120" y="4876560"/>
              <a:ext cx="380880" cy="459720"/>
              <a:chOff x="1905120" y="4876560"/>
              <a:chExt cx="380880" cy="459720"/>
            </a:xfrm>
          </p:grpSpPr>
          <p:sp>
            <p:nvSpPr>
              <p:cNvPr id="670" name=""/>
              <p:cNvSpPr/>
              <p:nvPr/>
            </p:nvSpPr>
            <p:spPr>
              <a:xfrm>
                <a:off x="19051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9814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 flipV="1">
            <a:off x="914400" y="2133360"/>
            <a:ext cx="121932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286000" y="327672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837720" y="2590560"/>
            <a:ext cx="358164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2438280" y="3885840"/>
            <a:ext cx="0" cy="2438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00200" y="30481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895120" y="4952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934320" y="3200400"/>
            <a:ext cx="533160" cy="2209680"/>
            <a:chOff x="6934320" y="3200400"/>
            <a:chExt cx="533160" cy="2209680"/>
          </a:xfrm>
        </p:grpSpPr>
        <p:sp>
          <p:nvSpPr>
            <p:cNvPr id="679" name=""/>
            <p:cNvSpPr/>
            <p:nvPr/>
          </p:nvSpPr>
          <p:spPr>
            <a:xfrm>
              <a:off x="6934320" y="3200400"/>
              <a:ext cx="0" cy="2209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7086600" y="4724280"/>
              <a:ext cx="380880" cy="459720"/>
              <a:chOff x="7086600" y="4724280"/>
              <a:chExt cx="380880" cy="459720"/>
            </a:xfrm>
          </p:grpSpPr>
          <p:sp>
            <p:nvSpPr>
              <p:cNvPr id="681" name=""/>
              <p:cNvSpPr/>
              <p:nvPr/>
            </p:nvSpPr>
            <p:spPr>
              <a:xfrm>
                <a:off x="708660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162920" y="472428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3" name=""/>
          <p:cNvSpPr/>
          <p:nvPr/>
        </p:nvSpPr>
        <p:spPr>
          <a:xfrm>
            <a:off x="5486400" y="23623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trouve en final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477120" y="3161880"/>
            <a:ext cx="452160" cy="762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867280" y="3276720"/>
            <a:ext cx="761760" cy="380880"/>
            <a:chOff x="5867280" y="3276720"/>
            <a:chExt cx="761760" cy="380880"/>
          </a:xfrm>
        </p:grpSpPr>
        <p:sp>
          <p:nvSpPr>
            <p:cNvPr id="686" name=""/>
            <p:cNvSpPr/>
            <p:nvPr/>
          </p:nvSpPr>
          <p:spPr>
            <a:xfrm>
              <a:off x="5867280" y="3276720"/>
              <a:ext cx="761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mic Sans MS"/>
                </a:rPr>
                <a:t>A</a:t>
              </a:r>
              <a:r>
                <a:rPr b="1" lang="en-US" sz="1600" spc="-1" strike="noStrike">
                  <a:solidFill>
                    <a:srgbClr val="660066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43240" y="3276720"/>
              <a:ext cx="53352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 flipH="1" flipV="1">
            <a:off x="5943600" y="4876560"/>
            <a:ext cx="985680" cy="533160"/>
          </a:xfrm>
          <a:prstGeom prst="line">
            <a:avLst/>
          </a:prstGeom>
          <a:ln w="7632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5943600" y="3924360"/>
            <a:ext cx="533520" cy="9525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867280" y="5180040"/>
            <a:ext cx="762120" cy="380880"/>
            <a:chOff x="5867280" y="5180040"/>
            <a:chExt cx="762120" cy="380880"/>
          </a:xfrm>
        </p:grpSpPr>
        <p:sp>
          <p:nvSpPr>
            <p:cNvPr id="691" name=""/>
            <p:cNvSpPr/>
            <p:nvPr/>
          </p:nvSpPr>
          <p:spPr>
            <a:xfrm>
              <a:off x="5867280" y="518004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6600"/>
                  </a:solidFill>
                  <a:latin typeface="Comic Sans MS"/>
                </a:rPr>
                <a:t>C</a:t>
              </a:r>
              <a:r>
                <a:rPr b="1" lang="en-US" sz="1600" spc="-1" strike="noStrike">
                  <a:solidFill>
                    <a:srgbClr val="996600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43600" y="5180040"/>
              <a:ext cx="5335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486400" y="4114800"/>
            <a:ext cx="762120" cy="380880"/>
            <a:chOff x="5486400" y="4114800"/>
            <a:chExt cx="762120" cy="380880"/>
          </a:xfrm>
        </p:grpSpPr>
        <p:sp>
          <p:nvSpPr>
            <p:cNvPr id="694" name=""/>
            <p:cNvSpPr/>
            <p:nvPr/>
          </p:nvSpPr>
          <p:spPr>
            <a:xfrm>
              <a:off x="5486400" y="41148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B</a:t>
              </a:r>
              <a:r>
                <a:rPr b="1" lang="en-US" sz="1600" spc="-1" strike="noStrike">
                  <a:solidFill>
                    <a:srgbClr val="cc3300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114800"/>
              <a:ext cx="53316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467480" y="2971800"/>
            <a:ext cx="1676520" cy="380880"/>
            <a:chOff x="7467480" y="2971800"/>
            <a:chExt cx="1676520" cy="380880"/>
          </a:xfrm>
        </p:grpSpPr>
        <p:sp>
          <p:nvSpPr>
            <p:cNvPr id="697" name=""/>
            <p:cNvSpPr/>
            <p:nvPr/>
          </p:nvSpPr>
          <p:spPr>
            <a:xfrm>
              <a:off x="7467480" y="2971800"/>
              <a:ext cx="1676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66"/>
                  </a:solidFill>
                  <a:latin typeface="Comic Sans MS"/>
                </a:rPr>
                <a:t>A</a:t>
              </a:r>
              <a:r>
                <a:rPr b="1" lang="en-US" sz="1600" spc="-1" strike="noStrike">
                  <a:solidFill>
                    <a:srgbClr val="660066"/>
                  </a:solidFill>
                  <a:latin typeface="Comic Sans MS"/>
                </a:rPr>
                <a:t>0/1  = 4 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543800" y="2971800"/>
              <a:ext cx="533520" cy="0"/>
            </a:xfrm>
            <a:prstGeom prst="line">
              <a:avLst/>
            </a:prstGeom>
            <a:ln w="936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53280" y="3048120"/>
              <a:ext cx="0" cy="228600"/>
            </a:xfrm>
            <a:prstGeom prst="line">
              <a:avLst/>
            </a:prstGeom>
            <a:ln w="63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67480" y="3048120"/>
              <a:ext cx="0" cy="228600"/>
            </a:xfrm>
            <a:prstGeom prst="line">
              <a:avLst/>
            </a:prstGeom>
            <a:ln w="63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467480" y="3581280"/>
            <a:ext cx="1676520" cy="380880"/>
            <a:chOff x="7467480" y="3581280"/>
            <a:chExt cx="1676520" cy="380880"/>
          </a:xfrm>
        </p:grpSpPr>
        <p:sp>
          <p:nvSpPr>
            <p:cNvPr id="702" name=""/>
            <p:cNvSpPr/>
            <p:nvPr/>
          </p:nvSpPr>
          <p:spPr>
            <a:xfrm>
              <a:off x="7467480" y="3581280"/>
              <a:ext cx="1676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Comic Sans MS"/>
                </a:rPr>
                <a:t>B</a:t>
              </a:r>
              <a:r>
                <a:rPr b="1" lang="en-US" sz="1600" spc="-1" strike="noStrike">
                  <a:solidFill>
                    <a:srgbClr val="cc3300"/>
                  </a:solidFill>
                  <a:latin typeface="Comic Sans MS"/>
                </a:rPr>
                <a:t>0/1  = 5 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43800" y="3581280"/>
              <a:ext cx="533520" cy="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3280" y="3657600"/>
              <a:ext cx="0" cy="228600"/>
            </a:xfrm>
            <a:prstGeom prst="line">
              <a:avLst/>
            </a:prstGeom>
            <a:ln w="63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3657600"/>
              <a:ext cx="0" cy="228600"/>
            </a:xfrm>
            <a:prstGeom prst="line">
              <a:avLst/>
            </a:prstGeom>
            <a:ln w="63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7467480" y="4191120"/>
            <a:ext cx="1676520" cy="380880"/>
            <a:chOff x="7467480" y="4191120"/>
            <a:chExt cx="1676520" cy="380880"/>
          </a:xfrm>
        </p:grpSpPr>
        <p:sp>
          <p:nvSpPr>
            <p:cNvPr id="707" name=""/>
            <p:cNvSpPr/>
            <p:nvPr/>
          </p:nvSpPr>
          <p:spPr>
            <a:xfrm>
              <a:off x="7467480" y="4191120"/>
              <a:ext cx="1676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6600"/>
                  </a:solidFill>
                  <a:latin typeface="Comic Sans MS"/>
                </a:rPr>
                <a:t>C</a:t>
              </a:r>
              <a:r>
                <a:rPr b="1" lang="en-US" sz="1600" spc="-1" strike="noStrike">
                  <a:solidFill>
                    <a:srgbClr val="996600"/>
                  </a:solidFill>
                  <a:latin typeface="Comic Sans MS"/>
                </a:rPr>
                <a:t>0/1  = 5.5 N</a:t>
              </a:r>
              <a:r>
                <a:rPr b="1" lang="en-US" sz="16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543800" y="4191120"/>
              <a:ext cx="533520" cy="0"/>
            </a:xfrm>
            <a:prstGeom prst="line">
              <a:avLst/>
            </a:prstGeom>
            <a:ln w="936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53280" y="4267080"/>
              <a:ext cx="0" cy="228600"/>
            </a:xfrm>
            <a:prstGeom prst="line">
              <a:avLst/>
            </a:prstGeom>
            <a:ln w="63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67480" y="4267080"/>
              <a:ext cx="0" cy="228600"/>
            </a:xfrm>
            <a:prstGeom prst="line">
              <a:avLst/>
            </a:prstGeom>
            <a:ln w="63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 flipV="1">
            <a:off x="1066680" y="3009960"/>
            <a:ext cx="533520" cy="95256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3043080" y="4343040"/>
            <a:ext cx="452520" cy="762120"/>
          </a:xfrm>
          <a:prstGeom prst="line">
            <a:avLst/>
          </a:prstGeom>
          <a:ln w="7632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3276720" y="4038480"/>
            <a:ext cx="985680" cy="533520"/>
          </a:xfrm>
          <a:prstGeom prst="line">
            <a:avLst/>
          </a:prstGeom>
          <a:ln w="7632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362320" y="19051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FIN DU DIAPO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09680" y="48006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361960" cy="17175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371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PARAMET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previous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1905120"/>
            <a:ext cx="5181480" cy="4572000"/>
            <a:chOff x="228600" y="1905120"/>
            <a:chExt cx="5181480" cy="4572000"/>
          </a:xfrm>
        </p:grpSpPr>
        <p:grpSp>
          <p:nvGrpSpPr>
            <p:cNvPr id="68" name=""/>
            <p:cNvGrpSpPr/>
            <p:nvPr/>
          </p:nvGrpSpPr>
          <p:grpSpPr>
            <a:xfrm>
              <a:off x="228600" y="1905120"/>
              <a:ext cx="5181480" cy="4572000"/>
              <a:chOff x="228600" y="1905120"/>
              <a:chExt cx="5181480" cy="4572000"/>
            </a:xfrm>
          </p:grpSpPr>
          <p:sp>
            <p:nvSpPr>
              <p:cNvPr id="69" name=""/>
              <p:cNvSpPr/>
              <p:nvPr/>
            </p:nvSpPr>
            <p:spPr>
              <a:xfrm>
                <a:off x="228600" y="1905120"/>
                <a:ext cx="5181480" cy="457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724320" y="3876480"/>
                <a:ext cx="738720" cy="822240"/>
                <a:chOff x="724320" y="3876480"/>
                <a:chExt cx="738720" cy="822240"/>
              </a:xfrm>
            </p:grpSpPr>
            <p:sp>
              <p:nvSpPr>
                <p:cNvPr id="71" name=""/>
                <p:cNvSpPr/>
                <p:nvPr/>
              </p:nvSpPr>
              <p:spPr>
                <a:xfrm rot="1800000">
                  <a:off x="826920" y="4086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1800000">
                  <a:off x="960120" y="3970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378320" y="4337640"/>
                <a:ext cx="822240" cy="738720"/>
                <a:chOff x="4378320" y="4337640"/>
                <a:chExt cx="822240" cy="738720"/>
              </a:xfrm>
            </p:grpSpPr>
            <p:sp>
              <p:nvSpPr>
                <p:cNvPr id="74" name=""/>
                <p:cNvSpPr/>
                <p:nvPr/>
              </p:nvSpPr>
              <p:spPr>
                <a:xfrm rot="18000000">
                  <a:off x="4626720" y="447804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8000000">
                  <a:off x="4395960" y="445932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705760" y="5019480"/>
                <a:ext cx="738720" cy="822240"/>
                <a:chOff x="2705760" y="5019480"/>
                <a:chExt cx="738720" cy="822240"/>
              </a:xfrm>
            </p:grpSpPr>
            <p:sp>
              <p:nvSpPr>
                <p:cNvPr id="77" name=""/>
                <p:cNvSpPr/>
                <p:nvPr/>
              </p:nvSpPr>
              <p:spPr>
                <a:xfrm rot="1800000">
                  <a:off x="2808360" y="5229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1800000">
                  <a:off x="2941560" y="5113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228600" y="4191120"/>
              <a:ext cx="3962520" cy="228600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4191120" y="4267080"/>
              <a:ext cx="1218960" cy="221004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59240" y="2316960"/>
            <a:ext cx="3967920" cy="3214440"/>
            <a:chOff x="759240" y="2316960"/>
            <a:chExt cx="3967920" cy="3214440"/>
          </a:xfrm>
        </p:grpSpPr>
        <p:sp>
          <p:nvSpPr>
            <p:cNvPr id="82" name=""/>
            <p:cNvSpPr/>
            <p:nvPr/>
          </p:nvSpPr>
          <p:spPr>
            <a:xfrm rot="1800000">
              <a:off x="9144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146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123720" y="4800600"/>
            <a:ext cx="533880" cy="533520"/>
            <a:chOff x="3123720" y="4800600"/>
            <a:chExt cx="533880" cy="533520"/>
          </a:xfrm>
        </p:grpSpPr>
        <p:sp>
          <p:nvSpPr>
            <p:cNvPr id="85" name=""/>
            <p:cNvSpPr/>
            <p:nvPr/>
          </p:nvSpPr>
          <p:spPr>
            <a:xfrm>
              <a:off x="327672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123720" y="4952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142640" y="3657600"/>
            <a:ext cx="533880" cy="533520"/>
            <a:chOff x="1142640" y="3657600"/>
            <a:chExt cx="533880" cy="533520"/>
          </a:xfrm>
        </p:grpSpPr>
        <p:sp>
          <p:nvSpPr>
            <p:cNvPr id="88" name=""/>
            <p:cNvSpPr/>
            <p:nvPr/>
          </p:nvSpPr>
          <p:spPr>
            <a:xfrm>
              <a:off x="129564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1142640" y="3809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962520" y="4343400"/>
            <a:ext cx="685800" cy="459720"/>
            <a:chOff x="3962520" y="4343400"/>
            <a:chExt cx="685800" cy="459720"/>
          </a:xfrm>
        </p:grpSpPr>
        <p:sp>
          <p:nvSpPr>
            <p:cNvPr id="91" name=""/>
            <p:cNvSpPr/>
            <p:nvPr/>
          </p:nvSpPr>
          <p:spPr>
            <a:xfrm>
              <a:off x="3962520" y="43434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67080" y="4419720"/>
              <a:ext cx="3812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9625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410080"/>
            <a:ext cx="30492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5909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A, B, C : contacts ponctuels entre 0 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0384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G : centre de gravité de la charg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1371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2514600"/>
            <a:ext cx="3048120" cy="1371600"/>
          </a:xfrm>
          <a:prstGeom prst="wedgeRoundRectCallout">
            <a:avLst>
              <a:gd name="adj1" fmla="val -44949"/>
              <a:gd name="adj2" fmla="val 15046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us les frotte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 niveau 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cts ponctu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t néglig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15000" y="4648320"/>
            <a:ext cx="2895480" cy="1218960"/>
          </a:xfrm>
          <a:prstGeom prst="wedgeRoundRectCallout">
            <a:avLst>
              <a:gd name="adj1" fmla="val 17490"/>
              <a:gd name="adj2" fmla="val -46745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problème 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éré comm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" y="1905120"/>
            <a:ext cx="5181480" cy="4572000"/>
            <a:chOff x="228600" y="1905120"/>
            <a:chExt cx="5181480" cy="4572000"/>
          </a:xfrm>
        </p:grpSpPr>
        <p:grpSp>
          <p:nvGrpSpPr>
            <p:cNvPr id="107" name=""/>
            <p:cNvGrpSpPr/>
            <p:nvPr/>
          </p:nvGrpSpPr>
          <p:grpSpPr>
            <a:xfrm>
              <a:off x="228600" y="1905120"/>
              <a:ext cx="5181480" cy="4572000"/>
              <a:chOff x="228600" y="1905120"/>
              <a:chExt cx="5181480" cy="4572000"/>
            </a:xfrm>
          </p:grpSpPr>
          <p:sp>
            <p:nvSpPr>
              <p:cNvPr id="108" name=""/>
              <p:cNvSpPr/>
              <p:nvPr/>
            </p:nvSpPr>
            <p:spPr>
              <a:xfrm>
                <a:off x="228600" y="1905120"/>
                <a:ext cx="5181480" cy="457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24320" y="3876480"/>
                <a:ext cx="738720" cy="822240"/>
                <a:chOff x="724320" y="3876480"/>
                <a:chExt cx="738720" cy="822240"/>
              </a:xfrm>
            </p:grpSpPr>
            <p:sp>
              <p:nvSpPr>
                <p:cNvPr id="110" name=""/>
                <p:cNvSpPr/>
                <p:nvPr/>
              </p:nvSpPr>
              <p:spPr>
                <a:xfrm rot="1800000">
                  <a:off x="826920" y="4086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1800000">
                  <a:off x="960120" y="3970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378320" y="4337640"/>
                <a:ext cx="822240" cy="738720"/>
                <a:chOff x="4378320" y="4337640"/>
                <a:chExt cx="822240" cy="738720"/>
              </a:xfrm>
            </p:grpSpPr>
            <p:sp>
              <p:nvSpPr>
                <p:cNvPr id="113" name=""/>
                <p:cNvSpPr/>
                <p:nvPr/>
              </p:nvSpPr>
              <p:spPr>
                <a:xfrm rot="18000000">
                  <a:off x="4626720" y="447804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8000000">
                  <a:off x="4395960" y="445932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2705760" y="5019480"/>
                <a:ext cx="738720" cy="822240"/>
                <a:chOff x="2705760" y="5019480"/>
                <a:chExt cx="738720" cy="822240"/>
              </a:xfrm>
            </p:grpSpPr>
            <p:sp>
              <p:nvSpPr>
                <p:cNvPr id="116" name=""/>
                <p:cNvSpPr/>
                <p:nvPr/>
              </p:nvSpPr>
              <p:spPr>
                <a:xfrm rot="1800000">
                  <a:off x="2808360" y="5229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800000">
                  <a:off x="2941560" y="5113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228600" y="4191120"/>
              <a:ext cx="3962520" cy="228600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191120" y="4267080"/>
              <a:ext cx="1218960" cy="221004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59240" y="2316960"/>
            <a:ext cx="3967920" cy="3214440"/>
            <a:chOff x="759240" y="2316960"/>
            <a:chExt cx="3967920" cy="3214440"/>
          </a:xfrm>
        </p:grpSpPr>
        <p:sp>
          <p:nvSpPr>
            <p:cNvPr id="121" name=""/>
            <p:cNvSpPr/>
            <p:nvPr/>
          </p:nvSpPr>
          <p:spPr>
            <a:xfrm rot="1800000">
              <a:off x="9144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123720" y="4800600"/>
            <a:ext cx="533880" cy="533520"/>
            <a:chOff x="3123720" y="4800600"/>
            <a:chExt cx="533880" cy="533520"/>
          </a:xfrm>
        </p:grpSpPr>
        <p:sp>
          <p:nvSpPr>
            <p:cNvPr id="124" name=""/>
            <p:cNvSpPr/>
            <p:nvPr/>
          </p:nvSpPr>
          <p:spPr>
            <a:xfrm>
              <a:off x="327672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123720" y="4952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142640" y="3657600"/>
            <a:ext cx="533880" cy="533520"/>
            <a:chOff x="1142640" y="3657600"/>
            <a:chExt cx="533880" cy="533520"/>
          </a:xfrm>
        </p:grpSpPr>
        <p:sp>
          <p:nvSpPr>
            <p:cNvPr id="127" name=""/>
            <p:cNvSpPr/>
            <p:nvPr/>
          </p:nvSpPr>
          <p:spPr>
            <a:xfrm>
              <a:off x="129564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42640" y="3809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962520" y="4343400"/>
            <a:ext cx="685800" cy="459720"/>
            <a:chOff x="3962520" y="4343400"/>
            <a:chExt cx="685800" cy="459720"/>
          </a:xfrm>
        </p:grpSpPr>
        <p:sp>
          <p:nvSpPr>
            <p:cNvPr id="130" name=""/>
            <p:cNvSpPr/>
            <p:nvPr/>
          </p:nvSpPr>
          <p:spPr>
            <a:xfrm>
              <a:off x="3962520" y="43434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7080" y="4419720"/>
              <a:ext cx="3812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9625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5410080"/>
            <a:ext cx="30492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13716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DONN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505320"/>
            <a:ext cx="3048120" cy="1295280"/>
          </a:xfrm>
          <a:prstGeom prst="wedgeRoundRectCallout">
            <a:avLst>
              <a:gd name="adj1" fmla="val -40101"/>
              <a:gd name="adj2" fmla="val 9435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 poids de la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 connu : 1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1905120"/>
            <a:ext cx="5181480" cy="4572000"/>
            <a:chOff x="228600" y="1905120"/>
            <a:chExt cx="5181480" cy="4572000"/>
          </a:xfrm>
        </p:grpSpPr>
        <p:grpSp>
          <p:nvGrpSpPr>
            <p:cNvPr id="143" name=""/>
            <p:cNvGrpSpPr/>
            <p:nvPr/>
          </p:nvGrpSpPr>
          <p:grpSpPr>
            <a:xfrm>
              <a:off x="228600" y="1905120"/>
              <a:ext cx="5181480" cy="4572000"/>
              <a:chOff x="228600" y="1905120"/>
              <a:chExt cx="5181480" cy="4572000"/>
            </a:xfrm>
          </p:grpSpPr>
          <p:sp>
            <p:nvSpPr>
              <p:cNvPr id="144" name=""/>
              <p:cNvSpPr/>
              <p:nvPr/>
            </p:nvSpPr>
            <p:spPr>
              <a:xfrm>
                <a:off x="228600" y="1905120"/>
                <a:ext cx="5181480" cy="457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724320" y="3876480"/>
                <a:ext cx="738720" cy="822240"/>
                <a:chOff x="724320" y="3876480"/>
                <a:chExt cx="738720" cy="822240"/>
              </a:xfrm>
            </p:grpSpPr>
            <p:sp>
              <p:nvSpPr>
                <p:cNvPr id="146" name=""/>
                <p:cNvSpPr/>
                <p:nvPr/>
              </p:nvSpPr>
              <p:spPr>
                <a:xfrm rot="1800000">
                  <a:off x="826920" y="4086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00000">
                  <a:off x="960120" y="3970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4378320" y="4337640"/>
                <a:ext cx="822240" cy="738720"/>
                <a:chOff x="4378320" y="4337640"/>
                <a:chExt cx="822240" cy="738720"/>
              </a:xfrm>
            </p:grpSpPr>
            <p:sp>
              <p:nvSpPr>
                <p:cNvPr id="149" name=""/>
                <p:cNvSpPr/>
                <p:nvPr/>
              </p:nvSpPr>
              <p:spPr>
                <a:xfrm rot="18000000">
                  <a:off x="4626720" y="447804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18000000">
                  <a:off x="4395960" y="445932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2705760" y="5019480"/>
                <a:ext cx="738720" cy="822240"/>
                <a:chOff x="2705760" y="5019480"/>
                <a:chExt cx="738720" cy="822240"/>
              </a:xfrm>
            </p:grpSpPr>
            <p:sp>
              <p:nvSpPr>
                <p:cNvPr id="152" name=""/>
                <p:cNvSpPr/>
                <p:nvPr/>
              </p:nvSpPr>
              <p:spPr>
                <a:xfrm rot="1800000">
                  <a:off x="2808360" y="5229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1800000">
                  <a:off x="2941560" y="5113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" name=""/>
            <p:cNvSpPr/>
            <p:nvPr/>
          </p:nvSpPr>
          <p:spPr>
            <a:xfrm>
              <a:off x="228600" y="4191120"/>
              <a:ext cx="3962520" cy="228600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191120" y="4267080"/>
              <a:ext cx="1218960" cy="221004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59240" y="2316960"/>
            <a:ext cx="3967920" cy="3214440"/>
            <a:chOff x="759240" y="2316960"/>
            <a:chExt cx="3967920" cy="3214440"/>
          </a:xfrm>
        </p:grpSpPr>
        <p:sp>
          <p:nvSpPr>
            <p:cNvPr id="157" name=""/>
            <p:cNvSpPr/>
            <p:nvPr/>
          </p:nvSpPr>
          <p:spPr>
            <a:xfrm rot="1800000">
              <a:off x="9144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5146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23720" y="4800600"/>
            <a:ext cx="533880" cy="533520"/>
            <a:chOff x="3123720" y="4800600"/>
            <a:chExt cx="533880" cy="533520"/>
          </a:xfrm>
        </p:grpSpPr>
        <p:sp>
          <p:nvSpPr>
            <p:cNvPr id="160" name=""/>
            <p:cNvSpPr/>
            <p:nvPr/>
          </p:nvSpPr>
          <p:spPr>
            <a:xfrm>
              <a:off x="327672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123720" y="4952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142640" y="3657600"/>
            <a:ext cx="533880" cy="533520"/>
            <a:chOff x="1142640" y="3657600"/>
            <a:chExt cx="533880" cy="533520"/>
          </a:xfrm>
        </p:grpSpPr>
        <p:sp>
          <p:nvSpPr>
            <p:cNvPr id="163" name=""/>
            <p:cNvSpPr/>
            <p:nvPr/>
          </p:nvSpPr>
          <p:spPr>
            <a:xfrm>
              <a:off x="129564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142640" y="3809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962520" y="4343400"/>
            <a:ext cx="685800" cy="459720"/>
            <a:chOff x="3962520" y="4343400"/>
            <a:chExt cx="685800" cy="459720"/>
          </a:xfrm>
        </p:grpSpPr>
        <p:sp>
          <p:nvSpPr>
            <p:cNvPr id="166" name=""/>
            <p:cNvSpPr/>
            <p:nvPr/>
          </p:nvSpPr>
          <p:spPr>
            <a:xfrm>
              <a:off x="3962520" y="43434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67080" y="4419720"/>
              <a:ext cx="3812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625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5410080"/>
            <a:ext cx="30492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133720" y="3886200"/>
            <a:ext cx="533160" cy="1450080"/>
            <a:chOff x="2133720" y="3886200"/>
            <a:chExt cx="533160" cy="1450080"/>
          </a:xfrm>
        </p:grpSpPr>
        <p:sp>
          <p:nvSpPr>
            <p:cNvPr id="172" name=""/>
            <p:cNvSpPr/>
            <p:nvPr/>
          </p:nvSpPr>
          <p:spPr>
            <a:xfrm>
              <a:off x="26668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133720" y="4876560"/>
              <a:ext cx="380880" cy="459720"/>
              <a:chOff x="2133720" y="4876560"/>
              <a:chExt cx="380880" cy="459720"/>
            </a:xfrm>
          </p:grpSpPr>
          <p:sp>
            <p:nvSpPr>
              <p:cNvPr id="174" name=""/>
              <p:cNvSpPr/>
              <p:nvPr/>
            </p:nvSpPr>
            <p:spPr>
              <a:xfrm>
                <a:off x="21337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2100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1371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BJECTIF de l ’E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2666880"/>
            <a:ext cx="3200400" cy="1447920"/>
          </a:xfrm>
          <a:prstGeom prst="wedgeRoundRectCallout">
            <a:avLst>
              <a:gd name="adj1" fmla="val -22768"/>
              <a:gd name="adj2" fmla="val 12611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éterminer par 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thode graph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 efforts aux conta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nctuels en A, B,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28600" y="1905120"/>
            <a:ext cx="5181480" cy="4572000"/>
            <a:chOff x="228600" y="1905120"/>
            <a:chExt cx="5181480" cy="4572000"/>
          </a:xfrm>
        </p:grpSpPr>
        <p:grpSp>
          <p:nvGrpSpPr>
            <p:cNvPr id="184" name=""/>
            <p:cNvGrpSpPr/>
            <p:nvPr/>
          </p:nvGrpSpPr>
          <p:grpSpPr>
            <a:xfrm>
              <a:off x="228600" y="1905120"/>
              <a:ext cx="5181480" cy="4572000"/>
              <a:chOff x="228600" y="1905120"/>
              <a:chExt cx="5181480" cy="4572000"/>
            </a:xfrm>
          </p:grpSpPr>
          <p:sp>
            <p:nvSpPr>
              <p:cNvPr id="185" name=""/>
              <p:cNvSpPr/>
              <p:nvPr/>
            </p:nvSpPr>
            <p:spPr>
              <a:xfrm>
                <a:off x="228600" y="1905120"/>
                <a:ext cx="5181480" cy="4572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724320" y="3876480"/>
                <a:ext cx="738720" cy="822240"/>
                <a:chOff x="724320" y="3876480"/>
                <a:chExt cx="738720" cy="822240"/>
              </a:xfrm>
            </p:grpSpPr>
            <p:sp>
              <p:nvSpPr>
                <p:cNvPr id="187" name=""/>
                <p:cNvSpPr/>
                <p:nvPr/>
              </p:nvSpPr>
              <p:spPr>
                <a:xfrm rot="1800000">
                  <a:off x="826920" y="4086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800000">
                  <a:off x="960120" y="3970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378320" y="4337640"/>
                <a:ext cx="822240" cy="738720"/>
                <a:chOff x="4378320" y="4337640"/>
                <a:chExt cx="822240" cy="738720"/>
              </a:xfrm>
            </p:grpSpPr>
            <p:sp>
              <p:nvSpPr>
                <p:cNvPr id="190" name=""/>
                <p:cNvSpPr/>
                <p:nvPr/>
              </p:nvSpPr>
              <p:spPr>
                <a:xfrm rot="18000000">
                  <a:off x="4626720" y="447804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8000000">
                  <a:off x="4395960" y="445932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705760" y="5019480"/>
                <a:ext cx="738720" cy="822240"/>
                <a:chOff x="2705760" y="5019480"/>
                <a:chExt cx="738720" cy="822240"/>
              </a:xfrm>
            </p:grpSpPr>
            <p:sp>
              <p:nvSpPr>
                <p:cNvPr id="193" name=""/>
                <p:cNvSpPr/>
                <p:nvPr/>
              </p:nvSpPr>
              <p:spPr>
                <a:xfrm rot="1800000">
                  <a:off x="2808360" y="5229720"/>
                  <a:ext cx="457200" cy="5335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800000">
                  <a:off x="2941560" y="511308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5" name=""/>
            <p:cNvSpPr/>
            <p:nvPr/>
          </p:nvSpPr>
          <p:spPr>
            <a:xfrm>
              <a:off x="228600" y="4191120"/>
              <a:ext cx="3962520" cy="228600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191120" y="4267080"/>
              <a:ext cx="1218960" cy="221004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9240" y="2316960"/>
            <a:ext cx="3967920" cy="3214440"/>
            <a:chOff x="759240" y="2316960"/>
            <a:chExt cx="3967920" cy="3214440"/>
          </a:xfrm>
        </p:grpSpPr>
        <p:sp>
          <p:nvSpPr>
            <p:cNvPr id="198" name=""/>
            <p:cNvSpPr/>
            <p:nvPr/>
          </p:nvSpPr>
          <p:spPr>
            <a:xfrm rot="1800000">
              <a:off x="9144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123720" y="4800600"/>
            <a:ext cx="533880" cy="533520"/>
            <a:chOff x="3123720" y="4800600"/>
            <a:chExt cx="533880" cy="533520"/>
          </a:xfrm>
        </p:grpSpPr>
        <p:sp>
          <p:nvSpPr>
            <p:cNvPr id="201" name=""/>
            <p:cNvSpPr/>
            <p:nvPr/>
          </p:nvSpPr>
          <p:spPr>
            <a:xfrm>
              <a:off x="327672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3123720" y="4952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142640" y="3657600"/>
            <a:ext cx="533880" cy="533520"/>
            <a:chOff x="1142640" y="3657600"/>
            <a:chExt cx="533880" cy="533520"/>
          </a:xfrm>
        </p:grpSpPr>
        <p:sp>
          <p:nvSpPr>
            <p:cNvPr id="204" name=""/>
            <p:cNvSpPr/>
            <p:nvPr/>
          </p:nvSpPr>
          <p:spPr>
            <a:xfrm>
              <a:off x="1295640" y="3657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142640" y="3809880"/>
              <a:ext cx="2286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962520" y="4343400"/>
            <a:ext cx="685800" cy="459720"/>
            <a:chOff x="3962520" y="4343400"/>
            <a:chExt cx="685800" cy="459720"/>
          </a:xfrm>
        </p:grpSpPr>
        <p:sp>
          <p:nvSpPr>
            <p:cNvPr id="207" name=""/>
            <p:cNvSpPr/>
            <p:nvPr/>
          </p:nvSpPr>
          <p:spPr>
            <a:xfrm>
              <a:off x="3962520" y="434340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4419720"/>
              <a:ext cx="38124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5410080"/>
            <a:ext cx="30492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33720" y="3886200"/>
            <a:ext cx="533160" cy="1450080"/>
            <a:chOff x="2133720" y="3886200"/>
            <a:chExt cx="533160" cy="1450080"/>
          </a:xfrm>
        </p:grpSpPr>
        <p:sp>
          <p:nvSpPr>
            <p:cNvPr id="213" name=""/>
            <p:cNvSpPr/>
            <p:nvPr/>
          </p:nvSpPr>
          <p:spPr>
            <a:xfrm>
              <a:off x="26668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133720" y="4876560"/>
              <a:ext cx="380880" cy="459720"/>
              <a:chOff x="2133720" y="4876560"/>
              <a:chExt cx="380880" cy="459720"/>
            </a:xfrm>
          </p:grpSpPr>
          <p:sp>
            <p:nvSpPr>
              <p:cNvPr id="215" name=""/>
              <p:cNvSpPr/>
              <p:nvPr/>
            </p:nvSpPr>
            <p:spPr>
              <a:xfrm>
                <a:off x="21337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100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371600"/>
            <a:ext cx="609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n isole le solid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2133720"/>
            <a:ext cx="3886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Il est soumi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905120"/>
            <a:ext cx="5181480" cy="457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59240" y="2316960"/>
            <a:ext cx="3967920" cy="3214440"/>
            <a:chOff x="759240" y="2316960"/>
            <a:chExt cx="3967920" cy="3214440"/>
          </a:xfrm>
        </p:grpSpPr>
        <p:sp>
          <p:nvSpPr>
            <p:cNvPr id="226" name=""/>
            <p:cNvSpPr/>
            <p:nvPr/>
          </p:nvSpPr>
          <p:spPr>
            <a:xfrm rot="1800000">
              <a:off x="9144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146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2767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123720" y="49528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142640" y="38098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43434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44197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625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133720" y="3886200"/>
            <a:ext cx="533160" cy="1450080"/>
            <a:chOff x="2133720" y="3886200"/>
            <a:chExt cx="533160" cy="1450080"/>
          </a:xfrm>
        </p:grpSpPr>
        <p:sp>
          <p:nvSpPr>
            <p:cNvPr id="237" name=""/>
            <p:cNvSpPr/>
            <p:nvPr/>
          </p:nvSpPr>
          <p:spPr>
            <a:xfrm>
              <a:off x="26668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133720" y="4876560"/>
              <a:ext cx="380880" cy="459720"/>
              <a:chOff x="2133720" y="4876560"/>
              <a:chExt cx="380880" cy="459720"/>
            </a:xfrm>
          </p:grpSpPr>
          <p:sp>
            <p:nvSpPr>
              <p:cNvPr id="239" name=""/>
              <p:cNvSpPr/>
              <p:nvPr/>
            </p:nvSpPr>
            <p:spPr>
              <a:xfrm>
                <a:off x="21337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2100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5410080" y="2895480"/>
            <a:ext cx="3733920" cy="609840"/>
            <a:chOff x="5410080" y="2895480"/>
            <a:chExt cx="3733920" cy="609840"/>
          </a:xfrm>
        </p:grpSpPr>
        <p:sp>
          <p:nvSpPr>
            <p:cNvPr id="242" name=""/>
            <p:cNvSpPr/>
            <p:nvPr/>
          </p:nvSpPr>
          <p:spPr>
            <a:xfrm>
              <a:off x="5410080" y="2895480"/>
              <a:ext cx="3733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990033"/>
                  </a:solidFill>
                  <a:latin typeface="Comic Sans MS"/>
                </a:rPr>
                <a:t>- </a:t>
              </a:r>
              <a:r>
                <a:rPr b="1" lang="en-US" sz="2800" spc="-1" strike="noStrike">
                  <a:solidFill>
                    <a:srgbClr val="990033"/>
                  </a:solidFill>
                  <a:latin typeface="Comic Sans MS"/>
                </a:rPr>
                <a:t>à son poids 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24680" y="2971800"/>
              <a:ext cx="439920" cy="1440"/>
            </a:xfrm>
            <a:prstGeom prst="line">
              <a:avLst/>
            </a:prstGeom>
            <a:ln w="1908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1143000" y="2133360"/>
            <a:ext cx="1219320" cy="2057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124080" y="3276360"/>
            <a:ext cx="1219320" cy="2057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1066320" y="2590560"/>
            <a:ext cx="3581640" cy="2057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3657600"/>
            <a:ext cx="373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- aux efforts de 0 sur 1 en A, B,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64832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Nota : Ces efforts sont perpendiculaires aux plans de contact car le frottement est néglig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352680" y="4495680"/>
            <a:ext cx="18288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4495680"/>
            <a:ext cx="36576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495680"/>
            <a:ext cx="18288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25909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Comic Sans MS"/>
              </a:rPr>
              <a:t>Le bilan des actions mécaniques mont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886200"/>
            <a:ext cx="121896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57200" y="3962520"/>
            <a:ext cx="533520" cy="459720"/>
            <a:chOff x="457200" y="3962520"/>
            <a:chExt cx="533520" cy="459720"/>
          </a:xfrm>
        </p:grpSpPr>
        <p:sp>
          <p:nvSpPr>
            <p:cNvPr id="257" name=""/>
            <p:cNvSpPr/>
            <p:nvPr/>
          </p:nvSpPr>
          <p:spPr>
            <a:xfrm>
              <a:off x="4572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5440" y="4038480"/>
              <a:ext cx="436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23880" y="3276720"/>
            <a:ext cx="1828800" cy="609480"/>
            <a:chOff x="1523880" y="3276720"/>
            <a:chExt cx="1828800" cy="609480"/>
          </a:xfrm>
        </p:grpSpPr>
        <p:sp>
          <p:nvSpPr>
            <p:cNvPr id="260" name=""/>
            <p:cNvSpPr/>
            <p:nvPr/>
          </p:nvSpPr>
          <p:spPr>
            <a:xfrm>
              <a:off x="1523880" y="3276720"/>
              <a:ext cx="1828800" cy="60948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76160" y="3352680"/>
              <a:ext cx="1524240" cy="487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 d ’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523880" y="388620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3352680" y="3276720"/>
            <a:ext cx="1828800" cy="609480"/>
            <a:chOff x="3352680" y="3276720"/>
            <a:chExt cx="1828800" cy="609480"/>
          </a:xfrm>
        </p:grpSpPr>
        <p:sp>
          <p:nvSpPr>
            <p:cNvPr id="264" name=""/>
            <p:cNvSpPr/>
            <p:nvPr/>
          </p:nvSpPr>
          <p:spPr>
            <a:xfrm>
              <a:off x="3352680" y="3276720"/>
              <a:ext cx="1828800" cy="60948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3429000"/>
              <a:ext cx="152388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r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352680" y="388620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181480" y="3276720"/>
            <a:ext cx="1828800" cy="609480"/>
            <a:chOff x="5181480" y="3276720"/>
            <a:chExt cx="1828800" cy="609480"/>
          </a:xfrm>
        </p:grpSpPr>
        <p:sp>
          <p:nvSpPr>
            <p:cNvPr id="268" name=""/>
            <p:cNvSpPr/>
            <p:nvPr/>
          </p:nvSpPr>
          <p:spPr>
            <a:xfrm>
              <a:off x="5181480" y="3276720"/>
              <a:ext cx="1828800" cy="60948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0080" y="3429000"/>
              <a:ext cx="152388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181480" y="3886200"/>
            <a:ext cx="36576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010280" y="3276720"/>
            <a:ext cx="1828800" cy="609480"/>
            <a:chOff x="7010280" y="3276720"/>
            <a:chExt cx="1828800" cy="609480"/>
          </a:xfrm>
        </p:grpSpPr>
        <p:sp>
          <p:nvSpPr>
            <p:cNvPr id="272" name=""/>
            <p:cNvSpPr/>
            <p:nvPr/>
          </p:nvSpPr>
          <p:spPr>
            <a:xfrm>
              <a:off x="7010280" y="3276720"/>
              <a:ext cx="1828800" cy="609480"/>
            </a:xfrm>
            <a:prstGeom prst="rect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3429000"/>
              <a:ext cx="1523880" cy="3373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nsit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152388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962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ti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3962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vers le b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3962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10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04920" y="4495680"/>
            <a:ext cx="1218960" cy="609480"/>
            <a:chOff x="304920" y="4495680"/>
            <a:chExt cx="1218960" cy="609480"/>
          </a:xfrm>
        </p:grpSpPr>
        <p:sp>
          <p:nvSpPr>
            <p:cNvPr id="282" name=""/>
            <p:cNvSpPr/>
            <p:nvPr/>
          </p:nvSpPr>
          <p:spPr>
            <a:xfrm>
              <a:off x="304920" y="4495680"/>
              <a:ext cx="121896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57200" y="4571640"/>
              <a:ext cx="837720" cy="510120"/>
              <a:chOff x="457200" y="4571640"/>
              <a:chExt cx="837720" cy="510120"/>
            </a:xfrm>
          </p:grpSpPr>
          <p:sp>
            <p:nvSpPr>
              <p:cNvPr id="284" name=""/>
              <p:cNvSpPr/>
              <p:nvPr/>
            </p:nvSpPr>
            <p:spPr>
              <a:xfrm>
                <a:off x="457200" y="4571640"/>
                <a:ext cx="837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0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33160" y="4647600"/>
                <a:ext cx="685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52388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04920" y="5105520"/>
            <a:ext cx="1218960" cy="609480"/>
            <a:chOff x="304920" y="5105520"/>
            <a:chExt cx="1218960" cy="609480"/>
          </a:xfrm>
        </p:grpSpPr>
        <p:sp>
          <p:nvSpPr>
            <p:cNvPr id="288" name=""/>
            <p:cNvSpPr/>
            <p:nvPr/>
          </p:nvSpPr>
          <p:spPr>
            <a:xfrm>
              <a:off x="304920" y="5105520"/>
              <a:ext cx="121896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57200" y="5181480"/>
              <a:ext cx="837720" cy="510120"/>
              <a:chOff x="457200" y="5181480"/>
              <a:chExt cx="837720" cy="510120"/>
            </a:xfrm>
          </p:grpSpPr>
          <p:sp>
            <p:nvSpPr>
              <p:cNvPr id="290" name=""/>
              <p:cNvSpPr/>
              <p:nvPr/>
            </p:nvSpPr>
            <p:spPr>
              <a:xfrm>
                <a:off x="457200" y="5181480"/>
                <a:ext cx="837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0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3160" y="5257440"/>
                <a:ext cx="685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304920" y="5715000"/>
            <a:ext cx="1218960" cy="609480"/>
            <a:chOff x="304920" y="5715000"/>
            <a:chExt cx="1218960" cy="609480"/>
          </a:xfrm>
        </p:grpSpPr>
        <p:sp>
          <p:nvSpPr>
            <p:cNvPr id="293" name=""/>
            <p:cNvSpPr/>
            <p:nvPr/>
          </p:nvSpPr>
          <p:spPr>
            <a:xfrm>
              <a:off x="304920" y="5715000"/>
              <a:ext cx="1218960" cy="609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57200" y="5790960"/>
              <a:ext cx="837720" cy="510120"/>
              <a:chOff x="457200" y="5790960"/>
              <a:chExt cx="837720" cy="510120"/>
            </a:xfrm>
          </p:grpSpPr>
          <p:sp>
            <p:nvSpPr>
              <p:cNvPr id="295" name=""/>
              <p:cNvSpPr/>
              <p:nvPr/>
            </p:nvSpPr>
            <p:spPr>
              <a:xfrm>
                <a:off x="457200" y="5790960"/>
                <a:ext cx="837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0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33160" y="5866920"/>
                <a:ext cx="685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7" name=""/>
          <p:cNvSpPr/>
          <p:nvPr/>
        </p:nvSpPr>
        <p:spPr>
          <a:xfrm>
            <a:off x="1523880" y="510552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571500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510552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52680" y="571500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81480" y="5105520"/>
            <a:ext cx="36576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81480" y="5715000"/>
            <a:ext cx="36576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65040" y="1446840"/>
            <a:ext cx="1936800" cy="1602000"/>
            <a:chOff x="365040" y="1446840"/>
            <a:chExt cx="1936800" cy="1602000"/>
          </a:xfrm>
        </p:grpSpPr>
        <p:sp>
          <p:nvSpPr>
            <p:cNvPr id="304" name=""/>
            <p:cNvSpPr/>
            <p:nvPr/>
          </p:nvSpPr>
          <p:spPr>
            <a:xfrm rot="1800000">
              <a:off x="456840" y="1828800"/>
              <a:ext cx="175248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23640" y="2148120"/>
              <a:ext cx="145800" cy="15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914400" y="2209680"/>
            <a:ext cx="392040" cy="1098720"/>
            <a:chOff x="914400" y="2209680"/>
            <a:chExt cx="392040" cy="1098720"/>
          </a:xfrm>
        </p:grpSpPr>
        <p:sp>
          <p:nvSpPr>
            <p:cNvPr id="307" name=""/>
            <p:cNvSpPr/>
            <p:nvPr/>
          </p:nvSpPr>
          <p:spPr>
            <a:xfrm>
              <a:off x="1306440" y="220968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914400" y="2940120"/>
              <a:ext cx="299880" cy="368280"/>
              <a:chOff x="914400" y="2940120"/>
              <a:chExt cx="299880" cy="368280"/>
            </a:xfrm>
          </p:grpSpPr>
          <p:sp>
            <p:nvSpPr>
              <p:cNvPr id="309" name=""/>
              <p:cNvSpPr/>
              <p:nvPr/>
            </p:nvSpPr>
            <p:spPr>
              <a:xfrm>
                <a:off x="914400" y="2940120"/>
                <a:ext cx="299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85680" y="2940120"/>
                <a:ext cx="21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 flipV="1">
            <a:off x="1600200" y="1828440"/>
            <a:ext cx="60948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89548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205740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228600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0" y="2362320"/>
            <a:ext cx="2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09480" y="1218960"/>
            <a:ext cx="60984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04560" y="1447560"/>
            <a:ext cx="190476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14440" y="4495680"/>
            <a:ext cx="304920" cy="6098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114440" y="5105520"/>
            <a:ext cx="304920" cy="6094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3962160" y="5943240"/>
            <a:ext cx="609480" cy="30492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588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5791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Quand un système est soumis à l’action de 4 forces coplanaires, et qu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toutes les directions sont con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une force est connue complè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- les 3 inconnues sont des intensités de for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alors on applique la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éthode de</a:t>
            </a: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UL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RESOLUTION GRAPHIQUE D’UN PROBLEME DE STAT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609480" y="0"/>
            <a:ext cx="457200" cy="304920"/>
          </a:xfrm>
          <a:custGeom>
            <a:avLst/>
            <a:gdLst>
              <a:gd name="textAreaLeft" fmla="*/ 46800 w 457200"/>
              <a:gd name="textAreaRight" fmla="*/ 410400 w 457200"/>
              <a:gd name="textAreaTop" fmla="*/ 46800 h 304920"/>
              <a:gd name="textAreaBottom" fmla="*/ 25812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45" y="3330"/>
                </a:lnTo>
                <a:lnTo>
                  <a:pt x="3330" y="333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45" y="18270"/>
                </a:lnTo>
                <a:lnTo>
                  <a:pt x="29045" y="333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30" y="18270"/>
                </a:lnTo>
                <a:lnTo>
                  <a:pt x="29045" y="1827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30" y="3330"/>
                </a:lnTo>
                <a:lnTo>
                  <a:pt x="3330" y="18270"/>
                </a:lnTo>
                <a:close/>
              </a:path>
              <a:path fill="darken" w="32375" h="21600">
                <a:moveTo>
                  <a:pt x="10619" y="10800"/>
                </a:moveTo>
                <a:lnTo>
                  <a:pt x="21755" y="5232"/>
                </a:lnTo>
                <a:lnTo>
                  <a:pt x="21755" y="1636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0" y="0"/>
            <a:ext cx="457200" cy="304920"/>
          </a:xfrm>
          <a:custGeom>
            <a:avLst/>
            <a:gdLst>
              <a:gd name="textAreaLeft" fmla="*/ 31680 w 457200"/>
              <a:gd name="textAreaRight" fmla="*/ 425520 w 457200"/>
              <a:gd name="textAreaTop" fmla="*/ 31680 h 304920"/>
              <a:gd name="textAreaBottom" fmla="*/ 273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125" y="2250"/>
                </a:lnTo>
                <a:lnTo>
                  <a:pt x="2250" y="225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125" y="19350"/>
                </a:lnTo>
                <a:lnTo>
                  <a:pt x="30125" y="225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2250" y="19350"/>
                </a:lnTo>
                <a:lnTo>
                  <a:pt x="30125" y="1935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2250" y="2250"/>
                </a:lnTo>
                <a:lnTo>
                  <a:pt x="2250" y="19350"/>
                </a:lnTo>
                <a:close/>
              </a:path>
              <a:path fill="darken" w="32375" h="21600">
                <a:moveTo>
                  <a:pt x="13005" y="10800"/>
                </a:moveTo>
                <a:lnTo>
                  <a:pt x="22560" y="4427"/>
                </a:lnTo>
                <a:lnTo>
                  <a:pt x="22560" y="17173"/>
                </a:lnTo>
                <a:close/>
              </a:path>
              <a:path fill="darken" w="32375" h="21600">
                <a:moveTo>
                  <a:pt x="9814" y="4427"/>
                </a:moveTo>
                <a:lnTo>
                  <a:pt x="11326" y="4427"/>
                </a:lnTo>
                <a:lnTo>
                  <a:pt x="11326" y="17173"/>
                </a:lnTo>
                <a:lnTo>
                  <a:pt x="9814" y="1717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8686800" y="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257800" y="1905120"/>
            <a:ext cx="3733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1. Regrouper les forces deux à deux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52480" y="1371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METHODE DE CUL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1905120"/>
            <a:ext cx="4952880" cy="457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0640" y="2316960"/>
            <a:ext cx="3967920" cy="3214440"/>
            <a:chOff x="530640" y="2316960"/>
            <a:chExt cx="3967920" cy="3214440"/>
          </a:xfrm>
        </p:grpSpPr>
        <p:sp>
          <p:nvSpPr>
            <p:cNvPr id="341" name=""/>
            <p:cNvSpPr/>
            <p:nvPr/>
          </p:nvSpPr>
          <p:spPr>
            <a:xfrm rot="1800000">
              <a:off x="685800" y="3124080"/>
              <a:ext cx="365760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0" y="3733920"/>
              <a:ext cx="304920" cy="304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lnTo>
                    <a:pt x="10800" y="10800"/>
                  </a:lnTo>
                  <a:lnTo>
                    <a:pt x="10800" y="0"/>
                  </a:lnTo>
                  <a:lnTo>
                    <a:pt x="10800" y="10800"/>
                  </a:lnTo>
                  <a:lnTo>
                    <a:pt x="21600" y="10800"/>
                  </a:lnTo>
                  <a:lnTo>
                    <a:pt x="10800" y="10800"/>
                  </a:lnTo>
                  <a:lnTo>
                    <a:pt x="10800" y="21600"/>
                  </a:lnTo>
                  <a:lnTo>
                    <a:pt x="10800" y="108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0481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6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914040" y="38098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434340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38480" y="4419720"/>
            <a:ext cx="38124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33920" y="2971800"/>
            <a:ext cx="457200" cy="36612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905120" y="3886200"/>
            <a:ext cx="533160" cy="1450080"/>
            <a:chOff x="1905120" y="3886200"/>
            <a:chExt cx="533160" cy="1450080"/>
          </a:xfrm>
        </p:grpSpPr>
        <p:sp>
          <p:nvSpPr>
            <p:cNvPr id="351" name=""/>
            <p:cNvSpPr/>
            <p:nvPr/>
          </p:nvSpPr>
          <p:spPr>
            <a:xfrm>
              <a:off x="2438280" y="3886200"/>
              <a:ext cx="0" cy="1447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1905120" y="4876560"/>
              <a:ext cx="380880" cy="459720"/>
              <a:chOff x="1905120" y="4876560"/>
              <a:chExt cx="380880" cy="459720"/>
            </a:xfrm>
          </p:grpSpPr>
          <p:sp>
            <p:nvSpPr>
              <p:cNvPr id="353" name=""/>
              <p:cNvSpPr/>
              <p:nvPr/>
            </p:nvSpPr>
            <p:spPr>
              <a:xfrm>
                <a:off x="1905120" y="4876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 Black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981440" y="4876560"/>
                <a:ext cx="304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5" name=""/>
          <p:cNvSpPr/>
          <p:nvPr/>
        </p:nvSpPr>
        <p:spPr>
          <a:xfrm flipV="1">
            <a:off x="914400" y="2133360"/>
            <a:ext cx="121932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286000" y="3276720"/>
            <a:ext cx="1828800" cy="3124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837720" y="2590560"/>
            <a:ext cx="3581640" cy="205740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5410080" y="2666880"/>
            <a:ext cx="3733920" cy="381240"/>
            <a:chOff x="5410080" y="2666880"/>
            <a:chExt cx="3733920" cy="381240"/>
          </a:xfrm>
        </p:grpSpPr>
        <p:sp>
          <p:nvSpPr>
            <p:cNvPr id="359" name=""/>
            <p:cNvSpPr/>
            <p:nvPr/>
          </p:nvSpPr>
          <p:spPr>
            <a:xfrm>
              <a:off x="5410080" y="2666880"/>
              <a:ext cx="3733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P + A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0/1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+ B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0/1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+ C</a:t>
              </a:r>
              <a:r>
                <a:rPr b="1" lang="en-US" sz="1600" spc="-1" strike="noStrike">
                  <a:solidFill>
                    <a:srgbClr val="990033"/>
                  </a:solidFill>
                  <a:latin typeface="Comic Sans MS"/>
                </a:rPr>
                <a:t>0/1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= 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10080" y="2666880"/>
              <a:ext cx="3049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19920" y="2666880"/>
              <a:ext cx="53316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34320" y="2666880"/>
              <a:ext cx="53316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72400" y="2666880"/>
              <a:ext cx="5335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10480" y="2666880"/>
              <a:ext cx="30492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16200000">
            <a:off x="5905440" y="262872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16200000">
            <a:off x="7505640" y="24760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368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67280" y="335268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15200" y="3352680"/>
            <a:ext cx="609480" cy="381240"/>
            <a:chOff x="7315200" y="3352680"/>
            <a:chExt cx="609480" cy="381240"/>
          </a:xfrm>
        </p:grpSpPr>
        <p:sp>
          <p:nvSpPr>
            <p:cNvPr id="371" name=""/>
            <p:cNvSpPr/>
            <p:nvPr/>
          </p:nvSpPr>
          <p:spPr>
            <a:xfrm>
              <a:off x="7315200" y="3352680"/>
              <a:ext cx="609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R</a:t>
              </a:r>
              <a:r>
                <a:rPr b="1" lang="en-US" sz="16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91520" y="335268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638680" y="3352680"/>
            <a:ext cx="3352680" cy="380880"/>
            <a:chOff x="5638680" y="3352680"/>
            <a:chExt cx="3352680" cy="380880"/>
          </a:xfrm>
        </p:grpSpPr>
        <p:sp>
          <p:nvSpPr>
            <p:cNvPr id="374" name=""/>
            <p:cNvSpPr/>
            <p:nvPr/>
          </p:nvSpPr>
          <p:spPr>
            <a:xfrm>
              <a:off x="5638680" y="3352680"/>
              <a:ext cx="3352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a50021"/>
                  </a:solidFill>
                  <a:latin typeface="Comic Sans MS"/>
                </a:rPr>
                <a:t>         </a:t>
              </a:r>
              <a:r>
                <a:rPr b="1" lang="fr-FR" sz="2000" spc="-1" strike="noStrike">
                  <a:solidFill>
                    <a:srgbClr val="a50021"/>
                  </a:solidFill>
                  <a:latin typeface="Comic Sans MS"/>
                </a:rPr>
                <a:t>+</a:t>
              </a:r>
              <a:r>
                <a:rPr b="1" lang="fr-FR" sz="1600" spc="-1" strike="noStrike">
                  <a:solidFill>
                    <a:srgbClr val="ff0000"/>
                  </a:solidFill>
                  <a:latin typeface="Comic Sans MS"/>
                </a:rPr>
                <a:t>      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   </a:t>
              </a:r>
              <a:r>
                <a:rPr b="1" lang="fr-FR" sz="1600" spc="-1" strike="noStrike">
                  <a:solidFill>
                    <a:srgbClr val="ff0000"/>
                  </a:solidFill>
                  <a:latin typeface="Comic Sans MS"/>
                </a:rPr>
                <a:t>       </a:t>
              </a:r>
              <a:r>
                <a:rPr b="1" lang="fr-FR" sz="2000" spc="-1" strike="noStrike">
                  <a:solidFill>
                    <a:srgbClr val="a50021"/>
                  </a:solidFill>
                  <a:latin typeface="Comic Sans MS"/>
                </a:rPr>
                <a:t>=</a:t>
              </a:r>
              <a:r>
                <a:rPr b="1" lang="fr-FR" sz="16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a50021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10480" y="3352680"/>
              <a:ext cx="304560" cy="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V="1">
            <a:off x="2438280" y="3885840"/>
            <a:ext cx="0" cy="2438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181480" y="3733920"/>
            <a:ext cx="3733920" cy="965160"/>
            <a:chOff x="5181480" y="3733920"/>
            <a:chExt cx="3733920" cy="965160"/>
          </a:xfrm>
        </p:grpSpPr>
        <p:sp>
          <p:nvSpPr>
            <p:cNvPr id="378" name=""/>
            <p:cNvSpPr/>
            <p:nvPr/>
          </p:nvSpPr>
          <p:spPr>
            <a:xfrm>
              <a:off x="5181480" y="3733920"/>
              <a:ext cx="373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2. La résultante     passe par le point </a:t>
              </a:r>
              <a:r>
                <a:rPr b="1" lang="fr-FR" sz="2000" spc="-1" strike="noStrike">
                  <a:solidFill>
                    <a:srgbClr val="009999"/>
                  </a:solidFill>
                  <a:latin typeface="Comic Sans MS"/>
                </a:rPr>
                <a:t>M</a:t>
              </a:r>
              <a:r>
                <a:rPr b="1" lang="fr-FR" sz="2000" spc="-1" strike="noStrike">
                  <a:solidFill>
                    <a:srgbClr val="990033"/>
                  </a:solidFill>
                  <a:latin typeface="Comic Sans MS"/>
                </a:rPr>
                <a:t> intersection entre      et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15200" y="3733920"/>
              <a:ext cx="5335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91520" y="3809880"/>
              <a:ext cx="304560" cy="1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19920" y="4343400"/>
              <a:ext cx="533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95880" y="4419720"/>
              <a:ext cx="3049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34320" y="4343400"/>
              <a:ext cx="8380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1600" spc="-1" strike="noStrike">
                  <a:solidFill>
                    <a:srgbClr val="ff0000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86600" y="4419720"/>
              <a:ext cx="4795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981080" y="5715000"/>
            <a:ext cx="1219320" cy="838080"/>
            <a:chOff x="1981080" y="5715000"/>
            <a:chExt cx="1219320" cy="838080"/>
          </a:xfrm>
        </p:grpSpPr>
        <p:sp>
          <p:nvSpPr>
            <p:cNvPr id="386" name=""/>
            <p:cNvSpPr/>
            <p:nvPr/>
          </p:nvSpPr>
          <p:spPr>
            <a:xfrm>
              <a:off x="1981080" y="5715000"/>
              <a:ext cx="1219320" cy="838080"/>
            </a:xfrm>
            <a:prstGeom prst="irregularSeal2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38280" y="5943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181480" y="4876920"/>
            <a:ext cx="3733920" cy="990360"/>
            <a:chOff x="5181480" y="4876920"/>
            <a:chExt cx="3733920" cy="990360"/>
          </a:xfrm>
        </p:grpSpPr>
        <p:sp>
          <p:nvSpPr>
            <p:cNvPr id="389" name=""/>
            <p:cNvSpPr/>
            <p:nvPr/>
          </p:nvSpPr>
          <p:spPr>
            <a:xfrm>
              <a:off x="5181480" y="4876920"/>
              <a:ext cx="3733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3. La résultante     passe par le point </a:t>
              </a:r>
              <a:r>
                <a:rPr b="1" lang="en-US" sz="2000" spc="-1" strike="noStrike">
                  <a:solidFill>
                    <a:srgbClr val="009999"/>
                  </a:solidFill>
                  <a:latin typeface="Comic Sans MS"/>
                </a:rPr>
                <a:t>N</a:t>
              </a: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 intersection entre       et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15200" y="4876920"/>
              <a:ext cx="533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R</a:t>
              </a:r>
              <a:r>
                <a:rPr b="1" lang="en-US" sz="16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1520" y="495288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3600" y="548640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B</a:t>
              </a:r>
              <a:r>
                <a:rPr b="1" lang="en-US" sz="1600" spc="-1" strike="noStrike">
                  <a:solidFill>
                    <a:srgbClr val="3333cc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9920" y="5562720"/>
              <a:ext cx="5331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934320" y="548640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r>
                <a:rPr b="1" lang="en-US" sz="1600" spc="-1" strike="noStrike">
                  <a:solidFill>
                    <a:srgbClr val="3333cc"/>
                  </a:solidFill>
                  <a:latin typeface="Comic Sans MS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10280" y="5562720"/>
              <a:ext cx="4795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219320" y="2514600"/>
            <a:ext cx="1218960" cy="838080"/>
            <a:chOff x="1219320" y="2514600"/>
            <a:chExt cx="1218960" cy="838080"/>
          </a:xfrm>
        </p:grpSpPr>
        <p:sp>
          <p:nvSpPr>
            <p:cNvPr id="397" name=""/>
            <p:cNvSpPr/>
            <p:nvPr/>
          </p:nvSpPr>
          <p:spPr>
            <a:xfrm>
              <a:off x="1219320" y="2514600"/>
              <a:ext cx="1218960" cy="838080"/>
            </a:xfrm>
            <a:prstGeom prst="irregularSeal2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160" y="2742840"/>
              <a:ext cx="43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181480" y="6095880"/>
            <a:ext cx="373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4. La </a:t>
            </a:r>
            <a:r>
              <a:rPr b="1" lang="fr-FR" sz="2000" spc="-1" strike="noStrike">
                <a:solidFill>
                  <a:srgbClr val="009999"/>
                </a:solidFill>
                <a:latin typeface="Comic Sans MS"/>
              </a:rPr>
              <a:t>droite de Culmann</a:t>
            </a: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 passe par </a:t>
            </a:r>
            <a:r>
              <a:rPr b="1" lang="fr-FR" sz="2000" spc="-1" strike="noStrike">
                <a:solidFill>
                  <a:srgbClr val="009999"/>
                </a:solidFill>
                <a:latin typeface="Comic Sans MS"/>
              </a:rPr>
              <a:t>M</a:t>
            </a: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 et </a:t>
            </a:r>
            <a:r>
              <a:rPr b="1" lang="fr-FR" sz="2000" spc="-1" strike="noStrike">
                <a:solidFill>
                  <a:srgbClr val="009999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00200" y="3048120"/>
            <a:ext cx="838080" cy="31240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0880" y="5638680"/>
            <a:ext cx="1224000" cy="580680"/>
          </a:xfrm>
          <a:prstGeom prst="borderCallout2">
            <a:avLst>
              <a:gd name="adj1" fmla="val 18750"/>
              <a:gd name="adj2" fmla="val -8333"/>
              <a:gd name="adj3" fmla="val 18462"/>
              <a:gd name="adj4" fmla="val 126847"/>
              <a:gd name="adj5" fmla="val -46652"/>
              <a:gd name="adj6" fmla="val 148481"/>
            </a:avLst>
          </a:prstGeom>
          <a:solidFill>
            <a:srgbClr val="009999"/>
          </a:solidFill>
          <a:ln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roite de Culman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895120" y="4952880"/>
            <a:ext cx="22860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17:51:52Z</dcterms:created>
  <dc:creator>Philippe Jeannerod</dc:creator>
  <dc:description/>
  <dc:language>en-US</dc:language>
  <cp:lastModifiedBy>Philippe Jeannerod</cp:lastModifiedBy>
  <dcterms:modified xsi:type="dcterms:W3CDTF">2000-11-24T07:44:57Z</dcterms:modified>
  <cp:revision>20</cp:revision>
  <dc:subject>Méthode de Culmann</dc:subject>
  <dc:title>STATIQUE</dc:title>
</cp:coreProperties>
</file>