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DA6A-E0CF-4DF9-A391-1E8B8E919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1175-9045-42EE-A33E-1B3B550EA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AD14-840D-4BC1-8D18-59DB13719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2379-B3A8-48BA-B3D0-862CA925E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4FB4-4A93-44BA-B5BB-BA1D2D155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4ABD-2102-4BA3-BCC9-DA4F748A6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8D2C-87B5-4C59-B936-41980D6F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0A68-F46F-45B5-961C-8785D3B98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283E-CF09-4A08-BE96-7B4D4E35C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FE67-D4F7-42DA-B29F-74D5F06B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BCC4-CC06-4CA8-B4D1-1F1297CA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E0E2-0A7C-4E3A-A398-3E828072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8A69B-9640-4528-B5DE-C419FAEB53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RESOLUTION GRAPHIQUE D’UN PROBLEME DE STAT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09680" y="1295280"/>
            <a:ext cx="4648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Comic Sans MS"/>
              </a:rPr>
              <a:t>BRIDE de SER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295280"/>
            <a:ext cx="876312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3%20forces%20parallèles" descr=""/>
          <p:cNvPicPr/>
          <p:nvPr/>
        </p:nvPicPr>
        <p:blipFill>
          <a:blip r:embed="rId2"/>
          <a:stretch/>
        </p:blipFill>
        <p:spPr>
          <a:xfrm>
            <a:off x="838080" y="1819440"/>
            <a:ext cx="7577280" cy="4895640"/>
          </a:xfrm>
          <a:prstGeom prst="rect">
            <a:avLst/>
          </a:prstGeom>
          <a:ln w="0">
            <a:noFill/>
          </a:ln>
        </p:spPr>
      </p:pic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8682120" y="6553080"/>
            <a:ext cx="457200" cy="304920"/>
          </a:xfrm>
          <a:custGeom>
            <a:avLst/>
            <a:gdLst>
              <a:gd name="textAreaLeft" fmla="*/ 65160 w 457200"/>
              <a:gd name="textAreaRight" fmla="*/ 392040 w 457200"/>
              <a:gd name="textAreaTop" fmla="*/ 65160 h 304920"/>
              <a:gd name="textAreaBottom" fmla="*/ 23976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7762" y="4613"/>
                </a:lnTo>
                <a:lnTo>
                  <a:pt x="4613" y="4613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7762" y="16987"/>
                </a:lnTo>
                <a:lnTo>
                  <a:pt x="27762" y="4613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613" y="16987"/>
                </a:lnTo>
                <a:lnTo>
                  <a:pt x="27762" y="16987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613" y="4613"/>
                </a:lnTo>
                <a:lnTo>
                  <a:pt x="4613" y="16987"/>
                </a:lnTo>
                <a:close/>
              </a:path>
              <a:path fill="darken" w="32375" h="21600">
                <a:moveTo>
                  <a:pt x="11576" y="6188"/>
                </a:moveTo>
                <a:lnTo>
                  <a:pt x="20799" y="10800"/>
                </a:lnTo>
                <a:lnTo>
                  <a:pt x="11576" y="15412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RESOLUTION GRAPHIQUE D’UN PROBLEME DE STAT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28600" y="1295280"/>
            <a:ext cx="876312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>
            <a:hlinkClick r:id="" action="ppaction://hlinkshowjump?jump=nextslide"/>
          </p:cNvPr>
          <p:cNvSpPr/>
          <p:nvPr/>
        </p:nvSpPr>
        <p:spPr>
          <a:xfrm>
            <a:off x="8682120" y="6553080"/>
            <a:ext cx="457200" cy="304920"/>
          </a:xfrm>
          <a:custGeom>
            <a:avLst/>
            <a:gdLst>
              <a:gd name="textAreaLeft" fmla="*/ 65160 w 457200"/>
              <a:gd name="textAreaRight" fmla="*/ 392040 w 457200"/>
              <a:gd name="textAreaTop" fmla="*/ 65160 h 304920"/>
              <a:gd name="textAreaBottom" fmla="*/ 23976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7762" y="4613"/>
                </a:lnTo>
                <a:lnTo>
                  <a:pt x="4613" y="4613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7762" y="16987"/>
                </a:lnTo>
                <a:lnTo>
                  <a:pt x="27762" y="4613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613" y="16987"/>
                </a:lnTo>
                <a:lnTo>
                  <a:pt x="27762" y="16987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613" y="4613"/>
                </a:lnTo>
                <a:lnTo>
                  <a:pt x="4613" y="16987"/>
                </a:lnTo>
                <a:close/>
              </a:path>
              <a:path fill="darken" w="32375" h="21600">
                <a:moveTo>
                  <a:pt x="11576" y="6188"/>
                </a:moveTo>
                <a:lnTo>
                  <a:pt x="20799" y="10800"/>
                </a:lnTo>
                <a:lnTo>
                  <a:pt x="11576" y="15412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>
            <a:hlinkClick r:id="" action="ppaction://hlinkshowjump?jump=previousslide"/>
          </p:cNvPr>
          <p:cNvSpPr/>
          <p:nvPr/>
        </p:nvSpPr>
        <p:spPr>
          <a:xfrm>
            <a:off x="633240" y="6553080"/>
            <a:ext cx="457200" cy="304920"/>
          </a:xfrm>
          <a:custGeom>
            <a:avLst/>
            <a:gdLst>
              <a:gd name="textAreaLeft" fmla="*/ 60120 w 457200"/>
              <a:gd name="textAreaRight" fmla="*/ 397080 w 457200"/>
              <a:gd name="textAreaTop" fmla="*/ 60120 h 304920"/>
              <a:gd name="textAreaBottom" fmla="*/ 24480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8100" y="4275"/>
                </a:lnTo>
                <a:lnTo>
                  <a:pt x="4275" y="4275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8100" y="17325"/>
                </a:lnTo>
                <a:lnTo>
                  <a:pt x="28100" y="4275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275" y="17325"/>
                </a:lnTo>
                <a:lnTo>
                  <a:pt x="28100" y="17325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275" y="4275"/>
                </a:lnTo>
                <a:lnTo>
                  <a:pt x="4275" y="17325"/>
                </a:lnTo>
                <a:close/>
              </a:path>
              <a:path fill="darken" w="32375" h="21600">
                <a:moveTo>
                  <a:pt x="11324" y="10800"/>
                </a:moveTo>
                <a:lnTo>
                  <a:pt x="21051" y="5936"/>
                </a:lnTo>
                <a:lnTo>
                  <a:pt x="21051" y="15664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>
            <a:hlinkClick r:id="" action="ppaction://hlinkshowjump?jump=firstslide"/>
          </p:cNvPr>
          <p:cNvSpPr/>
          <p:nvPr/>
        </p:nvSpPr>
        <p:spPr>
          <a:xfrm>
            <a:off x="0" y="6553080"/>
            <a:ext cx="457200" cy="304920"/>
          </a:xfrm>
          <a:custGeom>
            <a:avLst/>
            <a:gdLst>
              <a:gd name="textAreaLeft" fmla="*/ 58680 w 457200"/>
              <a:gd name="textAreaRight" fmla="*/ 398520 w 457200"/>
              <a:gd name="textAreaTop" fmla="*/ 58680 h 304920"/>
              <a:gd name="textAreaBottom" fmla="*/ 24624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8212" y="4163"/>
                </a:lnTo>
                <a:lnTo>
                  <a:pt x="4163" y="4163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8212" y="17437"/>
                </a:lnTo>
                <a:lnTo>
                  <a:pt x="28212" y="4163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163" y="17437"/>
                </a:lnTo>
                <a:lnTo>
                  <a:pt x="28212" y="17437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163" y="4163"/>
                </a:lnTo>
                <a:lnTo>
                  <a:pt x="4163" y="17437"/>
                </a:lnTo>
                <a:close/>
              </a:path>
              <a:path fill="darken" w="32375" h="21600">
                <a:moveTo>
                  <a:pt x="13717" y="10800"/>
                </a:moveTo>
                <a:lnTo>
                  <a:pt x="21134" y="5853"/>
                </a:lnTo>
                <a:lnTo>
                  <a:pt x="21134" y="15747"/>
                </a:lnTo>
                <a:close/>
              </a:path>
              <a:path fill="darken" w="32375" h="21600">
                <a:moveTo>
                  <a:pt x="11240" y="5853"/>
                </a:moveTo>
                <a:lnTo>
                  <a:pt x="12414" y="5853"/>
                </a:lnTo>
                <a:lnTo>
                  <a:pt x="12414" y="15747"/>
                </a:lnTo>
                <a:lnTo>
                  <a:pt x="11240" y="15747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1295280" y="2362320"/>
            <a:ext cx="6891480" cy="3276360"/>
            <a:chOff x="1295280" y="2362320"/>
            <a:chExt cx="6891480" cy="3276360"/>
          </a:xfrm>
        </p:grpSpPr>
        <p:pic>
          <p:nvPicPr>
            <p:cNvPr id="271" name="3%20forces%20parallèles-2" descr=""/>
            <p:cNvPicPr/>
            <p:nvPr/>
          </p:nvPicPr>
          <p:blipFill>
            <a:blip r:embed="rId2"/>
            <a:srcRect l="0" t="8028" r="0" b="16550"/>
            <a:stretch/>
          </p:blipFill>
          <p:spPr>
            <a:xfrm>
              <a:off x="1295280" y="2362320"/>
              <a:ext cx="6891480" cy="32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2509560" y="4349520"/>
              <a:ext cx="285840" cy="387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082760" y="3930480"/>
              <a:ext cx="285840" cy="387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83360" y="4487760"/>
              <a:ext cx="285840" cy="387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380880" y="1295280"/>
            <a:ext cx="8382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Comic Sans MS"/>
              </a:rPr>
              <a:t>C ’est un solide soum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Comic Sans MS"/>
              </a:rPr>
              <a:t>à l’action de 3 forces dont 2 sont parallè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2895480" y="2437920"/>
            <a:ext cx="0" cy="3124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4375080" y="2437920"/>
            <a:ext cx="0" cy="3124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04920" y="5715000"/>
            <a:ext cx="8610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Comic Sans MS"/>
              </a:rPr>
              <a:t>Alors la troisième est parallèle aux deux aut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6934320" y="2437920"/>
            <a:ext cx="0" cy="3124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RESOLUTION GRAPHIQUE D’UN PROBLEME DE STAT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28600" y="1295280"/>
            <a:ext cx="876312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>
            <a:hlinkClick r:id="" action="ppaction://hlinkshowjump?jump=nextslide"/>
          </p:cNvPr>
          <p:cNvSpPr/>
          <p:nvPr/>
        </p:nvSpPr>
        <p:spPr>
          <a:xfrm>
            <a:off x="8682120" y="6553080"/>
            <a:ext cx="457200" cy="304920"/>
          </a:xfrm>
          <a:custGeom>
            <a:avLst/>
            <a:gdLst>
              <a:gd name="textAreaLeft" fmla="*/ 65160 w 457200"/>
              <a:gd name="textAreaRight" fmla="*/ 392040 w 457200"/>
              <a:gd name="textAreaTop" fmla="*/ 65160 h 304920"/>
              <a:gd name="textAreaBottom" fmla="*/ 23976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7762" y="4613"/>
                </a:lnTo>
                <a:lnTo>
                  <a:pt x="4613" y="4613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7762" y="16987"/>
                </a:lnTo>
                <a:lnTo>
                  <a:pt x="27762" y="4613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613" y="16987"/>
                </a:lnTo>
                <a:lnTo>
                  <a:pt x="27762" y="16987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613" y="4613"/>
                </a:lnTo>
                <a:lnTo>
                  <a:pt x="4613" y="16987"/>
                </a:lnTo>
                <a:close/>
              </a:path>
              <a:path fill="darken" w="32375" h="21600">
                <a:moveTo>
                  <a:pt x="11576" y="6188"/>
                </a:moveTo>
                <a:lnTo>
                  <a:pt x="20799" y="10800"/>
                </a:lnTo>
                <a:lnTo>
                  <a:pt x="11576" y="15412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>
            <a:hlinkClick r:id="" action="ppaction://hlinkshowjump?jump=previousslide"/>
          </p:cNvPr>
          <p:cNvSpPr/>
          <p:nvPr/>
        </p:nvSpPr>
        <p:spPr>
          <a:xfrm>
            <a:off x="633240" y="6553080"/>
            <a:ext cx="457200" cy="304920"/>
          </a:xfrm>
          <a:custGeom>
            <a:avLst/>
            <a:gdLst>
              <a:gd name="textAreaLeft" fmla="*/ 60120 w 457200"/>
              <a:gd name="textAreaRight" fmla="*/ 397080 w 457200"/>
              <a:gd name="textAreaTop" fmla="*/ 60120 h 304920"/>
              <a:gd name="textAreaBottom" fmla="*/ 24480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8100" y="4275"/>
                </a:lnTo>
                <a:lnTo>
                  <a:pt x="4275" y="4275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8100" y="17325"/>
                </a:lnTo>
                <a:lnTo>
                  <a:pt x="28100" y="4275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275" y="17325"/>
                </a:lnTo>
                <a:lnTo>
                  <a:pt x="28100" y="17325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275" y="4275"/>
                </a:lnTo>
                <a:lnTo>
                  <a:pt x="4275" y="17325"/>
                </a:lnTo>
                <a:close/>
              </a:path>
              <a:path fill="darken" w="32375" h="21600">
                <a:moveTo>
                  <a:pt x="11324" y="10800"/>
                </a:moveTo>
                <a:lnTo>
                  <a:pt x="21051" y="5936"/>
                </a:lnTo>
                <a:lnTo>
                  <a:pt x="21051" y="15664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>
            <a:hlinkClick r:id="" action="ppaction://hlinkshowjump?jump=firstslide"/>
          </p:cNvPr>
          <p:cNvSpPr/>
          <p:nvPr/>
        </p:nvSpPr>
        <p:spPr>
          <a:xfrm>
            <a:off x="0" y="6553080"/>
            <a:ext cx="457200" cy="304920"/>
          </a:xfrm>
          <a:custGeom>
            <a:avLst/>
            <a:gdLst>
              <a:gd name="textAreaLeft" fmla="*/ 58680 w 457200"/>
              <a:gd name="textAreaRight" fmla="*/ 398520 w 457200"/>
              <a:gd name="textAreaTop" fmla="*/ 58680 h 304920"/>
              <a:gd name="textAreaBottom" fmla="*/ 24624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8212" y="4163"/>
                </a:lnTo>
                <a:lnTo>
                  <a:pt x="4163" y="4163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8212" y="17437"/>
                </a:lnTo>
                <a:lnTo>
                  <a:pt x="28212" y="4163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163" y="17437"/>
                </a:lnTo>
                <a:lnTo>
                  <a:pt x="28212" y="17437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163" y="4163"/>
                </a:lnTo>
                <a:lnTo>
                  <a:pt x="4163" y="17437"/>
                </a:lnTo>
                <a:close/>
              </a:path>
              <a:path fill="darken" w="32375" h="21600">
                <a:moveTo>
                  <a:pt x="13717" y="10800"/>
                </a:moveTo>
                <a:lnTo>
                  <a:pt x="21134" y="5853"/>
                </a:lnTo>
                <a:lnTo>
                  <a:pt x="21134" y="15747"/>
                </a:lnTo>
                <a:close/>
              </a:path>
              <a:path fill="darken" w="32375" h="21600">
                <a:moveTo>
                  <a:pt x="11240" y="5853"/>
                </a:moveTo>
                <a:lnTo>
                  <a:pt x="12414" y="5853"/>
                </a:lnTo>
                <a:lnTo>
                  <a:pt x="12414" y="15747"/>
                </a:lnTo>
                <a:lnTo>
                  <a:pt x="11240" y="15747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152280" y="1752480"/>
            <a:ext cx="5334120" cy="2438640"/>
            <a:chOff x="152280" y="1752480"/>
            <a:chExt cx="5334120" cy="2438640"/>
          </a:xfrm>
        </p:grpSpPr>
        <p:pic>
          <p:nvPicPr>
            <p:cNvPr id="286" name="3%20forces%20parallèles-2" descr=""/>
            <p:cNvPicPr/>
            <p:nvPr/>
          </p:nvPicPr>
          <p:blipFill>
            <a:blip r:embed="rId2"/>
            <a:srcRect l="0" t="8028" r="0" b="16550"/>
            <a:stretch/>
          </p:blipFill>
          <p:spPr>
            <a:xfrm>
              <a:off x="152280" y="1752480"/>
              <a:ext cx="5334120" cy="243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1091880" y="3231720"/>
              <a:ext cx="219960" cy="387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309760" y="2919600"/>
              <a:ext cx="219960" cy="387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632120" y="3333240"/>
              <a:ext cx="221040" cy="387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152280" y="129528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Comic Sans MS"/>
              </a:rPr>
              <a:t>Méthode de résolution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1371600" y="1905120"/>
            <a:ext cx="0" cy="4495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533680" y="1905120"/>
            <a:ext cx="0" cy="4495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4495680" y="1905120"/>
            <a:ext cx="0" cy="4495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562720" y="1752480"/>
            <a:ext cx="3581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1. Tracer sur le dessin à l’échelle les trois droites parallè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RESOLUTION GRAPHIQUE D’UN PROBLEME DE STAT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28600" y="1295280"/>
            <a:ext cx="876312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>
            <a:hlinkClick r:id="" action="ppaction://hlinkshowjump?jump=nextslide"/>
          </p:cNvPr>
          <p:cNvSpPr/>
          <p:nvPr/>
        </p:nvSpPr>
        <p:spPr>
          <a:xfrm>
            <a:off x="8682120" y="6553080"/>
            <a:ext cx="457200" cy="304920"/>
          </a:xfrm>
          <a:custGeom>
            <a:avLst/>
            <a:gdLst>
              <a:gd name="textAreaLeft" fmla="*/ 65160 w 457200"/>
              <a:gd name="textAreaRight" fmla="*/ 392040 w 457200"/>
              <a:gd name="textAreaTop" fmla="*/ 65160 h 304920"/>
              <a:gd name="textAreaBottom" fmla="*/ 23976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7762" y="4613"/>
                </a:lnTo>
                <a:lnTo>
                  <a:pt x="4613" y="4613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7762" y="16987"/>
                </a:lnTo>
                <a:lnTo>
                  <a:pt x="27762" y="4613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613" y="16987"/>
                </a:lnTo>
                <a:lnTo>
                  <a:pt x="27762" y="16987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613" y="4613"/>
                </a:lnTo>
                <a:lnTo>
                  <a:pt x="4613" y="16987"/>
                </a:lnTo>
                <a:close/>
              </a:path>
              <a:path fill="darken" w="32375" h="21600">
                <a:moveTo>
                  <a:pt x="11576" y="6188"/>
                </a:moveTo>
                <a:lnTo>
                  <a:pt x="20799" y="10800"/>
                </a:lnTo>
                <a:lnTo>
                  <a:pt x="11576" y="15412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>
            <a:hlinkClick r:id="" action="ppaction://hlinkshowjump?jump=previousslide"/>
          </p:cNvPr>
          <p:cNvSpPr/>
          <p:nvPr/>
        </p:nvSpPr>
        <p:spPr>
          <a:xfrm>
            <a:off x="633240" y="6553080"/>
            <a:ext cx="457200" cy="304920"/>
          </a:xfrm>
          <a:custGeom>
            <a:avLst/>
            <a:gdLst>
              <a:gd name="textAreaLeft" fmla="*/ 60120 w 457200"/>
              <a:gd name="textAreaRight" fmla="*/ 397080 w 457200"/>
              <a:gd name="textAreaTop" fmla="*/ 60120 h 304920"/>
              <a:gd name="textAreaBottom" fmla="*/ 24480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8100" y="4275"/>
                </a:lnTo>
                <a:lnTo>
                  <a:pt x="4275" y="4275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8100" y="17325"/>
                </a:lnTo>
                <a:lnTo>
                  <a:pt x="28100" y="4275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275" y="17325"/>
                </a:lnTo>
                <a:lnTo>
                  <a:pt x="28100" y="17325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275" y="4275"/>
                </a:lnTo>
                <a:lnTo>
                  <a:pt x="4275" y="17325"/>
                </a:lnTo>
                <a:close/>
              </a:path>
              <a:path fill="darken" w="32375" h="21600">
                <a:moveTo>
                  <a:pt x="11324" y="10800"/>
                </a:moveTo>
                <a:lnTo>
                  <a:pt x="21051" y="5936"/>
                </a:lnTo>
                <a:lnTo>
                  <a:pt x="21051" y="15664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>
            <a:hlinkClick r:id="" action="ppaction://hlinkshowjump?jump=firstslide"/>
          </p:cNvPr>
          <p:cNvSpPr/>
          <p:nvPr/>
        </p:nvSpPr>
        <p:spPr>
          <a:xfrm>
            <a:off x="0" y="6553080"/>
            <a:ext cx="457200" cy="304920"/>
          </a:xfrm>
          <a:custGeom>
            <a:avLst/>
            <a:gdLst>
              <a:gd name="textAreaLeft" fmla="*/ 58680 w 457200"/>
              <a:gd name="textAreaRight" fmla="*/ 398520 w 457200"/>
              <a:gd name="textAreaTop" fmla="*/ 58680 h 304920"/>
              <a:gd name="textAreaBottom" fmla="*/ 24624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8212" y="4163"/>
                </a:lnTo>
                <a:lnTo>
                  <a:pt x="4163" y="4163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8212" y="17437"/>
                </a:lnTo>
                <a:lnTo>
                  <a:pt x="28212" y="4163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163" y="17437"/>
                </a:lnTo>
                <a:lnTo>
                  <a:pt x="28212" y="17437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163" y="4163"/>
                </a:lnTo>
                <a:lnTo>
                  <a:pt x="4163" y="17437"/>
                </a:lnTo>
                <a:close/>
              </a:path>
              <a:path fill="darken" w="32375" h="21600">
                <a:moveTo>
                  <a:pt x="13717" y="10800"/>
                </a:moveTo>
                <a:lnTo>
                  <a:pt x="21134" y="5853"/>
                </a:lnTo>
                <a:lnTo>
                  <a:pt x="21134" y="15747"/>
                </a:lnTo>
                <a:close/>
              </a:path>
              <a:path fill="darken" w="32375" h="21600">
                <a:moveTo>
                  <a:pt x="11240" y="5853"/>
                </a:moveTo>
                <a:lnTo>
                  <a:pt x="12414" y="5853"/>
                </a:lnTo>
                <a:lnTo>
                  <a:pt x="12414" y="15747"/>
                </a:lnTo>
                <a:lnTo>
                  <a:pt x="11240" y="15747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152280" y="1752480"/>
            <a:ext cx="5334120" cy="2438640"/>
            <a:chOff x="152280" y="1752480"/>
            <a:chExt cx="5334120" cy="2438640"/>
          </a:xfrm>
        </p:grpSpPr>
        <p:pic>
          <p:nvPicPr>
            <p:cNvPr id="301" name="3%20forces%20parallèles-2" descr=""/>
            <p:cNvPicPr/>
            <p:nvPr/>
          </p:nvPicPr>
          <p:blipFill>
            <a:blip r:embed="rId2"/>
            <a:srcRect l="0" t="8028" r="0" b="16550"/>
            <a:stretch/>
          </p:blipFill>
          <p:spPr>
            <a:xfrm>
              <a:off x="152280" y="1752480"/>
              <a:ext cx="5334120" cy="243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1091880" y="3231720"/>
              <a:ext cx="219960" cy="387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309760" y="2919600"/>
              <a:ext cx="219960" cy="387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632120" y="3333240"/>
              <a:ext cx="221040" cy="387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152280" y="129528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Comic Sans MS"/>
              </a:rPr>
              <a:t>Méthode de résolution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1371600" y="1905120"/>
            <a:ext cx="0" cy="4495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533680" y="1905120"/>
            <a:ext cx="0" cy="4495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4495680" y="1905120"/>
            <a:ext cx="0" cy="4495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562720" y="1752480"/>
            <a:ext cx="3581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0033"/>
                </a:solidFill>
                <a:latin typeface="Comic Sans MS"/>
              </a:rPr>
              <a:t>2. Tracer en un point quelconque le vecteur force connu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5715000" y="3124080"/>
            <a:ext cx="990360" cy="2971440"/>
            <a:chOff x="5715000" y="3124080"/>
            <a:chExt cx="990360" cy="2971440"/>
          </a:xfrm>
        </p:grpSpPr>
        <p:sp>
          <p:nvSpPr>
            <p:cNvPr id="311" name=""/>
            <p:cNvSpPr/>
            <p:nvPr/>
          </p:nvSpPr>
          <p:spPr>
            <a:xfrm>
              <a:off x="6705360" y="3124080"/>
              <a:ext cx="0" cy="29714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5715000" y="4444560"/>
              <a:ext cx="914040" cy="510120"/>
              <a:chOff x="5715000" y="4444560"/>
              <a:chExt cx="914040" cy="510120"/>
            </a:xfrm>
          </p:grpSpPr>
          <p:sp>
            <p:nvSpPr>
              <p:cNvPr id="313" name=""/>
              <p:cNvSpPr/>
              <p:nvPr/>
            </p:nvSpPr>
            <p:spPr>
              <a:xfrm>
                <a:off x="5715000" y="4444560"/>
                <a:ext cx="914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O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Arial"/>
                  </a:rPr>
                  <a:t>3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798160" y="4554000"/>
                <a:ext cx="7480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5" name=""/>
          <p:cNvSpPr/>
          <p:nvPr/>
        </p:nvSpPr>
        <p:spPr>
          <a:xfrm>
            <a:off x="5791320" y="6172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Choisir une échel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RESOLUTION GRAPHIQUE D’UN PROBLEME DE STAT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" y="1295280"/>
            <a:ext cx="876312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>
            <a:hlinkClick r:id="" action="ppaction://hlinkshowjump?jump=nextslide"/>
          </p:cNvPr>
          <p:cNvSpPr/>
          <p:nvPr/>
        </p:nvSpPr>
        <p:spPr>
          <a:xfrm>
            <a:off x="8682120" y="6553080"/>
            <a:ext cx="457200" cy="304920"/>
          </a:xfrm>
          <a:custGeom>
            <a:avLst/>
            <a:gdLst>
              <a:gd name="textAreaLeft" fmla="*/ 65160 w 457200"/>
              <a:gd name="textAreaRight" fmla="*/ 392040 w 457200"/>
              <a:gd name="textAreaTop" fmla="*/ 65160 h 304920"/>
              <a:gd name="textAreaBottom" fmla="*/ 23976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7762" y="4613"/>
                </a:lnTo>
                <a:lnTo>
                  <a:pt x="4613" y="4613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7762" y="16987"/>
                </a:lnTo>
                <a:lnTo>
                  <a:pt x="27762" y="4613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613" y="16987"/>
                </a:lnTo>
                <a:lnTo>
                  <a:pt x="27762" y="16987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613" y="4613"/>
                </a:lnTo>
                <a:lnTo>
                  <a:pt x="4613" y="16987"/>
                </a:lnTo>
                <a:close/>
              </a:path>
              <a:path fill="darken" w="32375" h="21600">
                <a:moveTo>
                  <a:pt x="11576" y="6188"/>
                </a:moveTo>
                <a:lnTo>
                  <a:pt x="20799" y="10800"/>
                </a:lnTo>
                <a:lnTo>
                  <a:pt x="11576" y="15412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>
            <a:hlinkClick r:id="" action="ppaction://hlinkshowjump?jump=previousslide"/>
          </p:cNvPr>
          <p:cNvSpPr/>
          <p:nvPr/>
        </p:nvSpPr>
        <p:spPr>
          <a:xfrm>
            <a:off x="633240" y="6553080"/>
            <a:ext cx="457200" cy="304920"/>
          </a:xfrm>
          <a:custGeom>
            <a:avLst/>
            <a:gdLst>
              <a:gd name="textAreaLeft" fmla="*/ 60120 w 457200"/>
              <a:gd name="textAreaRight" fmla="*/ 397080 w 457200"/>
              <a:gd name="textAreaTop" fmla="*/ 60120 h 304920"/>
              <a:gd name="textAreaBottom" fmla="*/ 24480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8100" y="4275"/>
                </a:lnTo>
                <a:lnTo>
                  <a:pt x="4275" y="4275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8100" y="17325"/>
                </a:lnTo>
                <a:lnTo>
                  <a:pt x="28100" y="4275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275" y="17325"/>
                </a:lnTo>
                <a:lnTo>
                  <a:pt x="28100" y="17325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275" y="4275"/>
                </a:lnTo>
                <a:lnTo>
                  <a:pt x="4275" y="17325"/>
                </a:lnTo>
                <a:close/>
              </a:path>
              <a:path fill="darken" w="32375" h="21600">
                <a:moveTo>
                  <a:pt x="11324" y="10800"/>
                </a:moveTo>
                <a:lnTo>
                  <a:pt x="21051" y="5936"/>
                </a:lnTo>
                <a:lnTo>
                  <a:pt x="21051" y="15664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>
            <a:hlinkClick r:id="" action="ppaction://hlinkshowjump?jump=firstslide"/>
          </p:cNvPr>
          <p:cNvSpPr/>
          <p:nvPr/>
        </p:nvSpPr>
        <p:spPr>
          <a:xfrm>
            <a:off x="0" y="6553080"/>
            <a:ext cx="457200" cy="304920"/>
          </a:xfrm>
          <a:custGeom>
            <a:avLst/>
            <a:gdLst>
              <a:gd name="textAreaLeft" fmla="*/ 58680 w 457200"/>
              <a:gd name="textAreaRight" fmla="*/ 398520 w 457200"/>
              <a:gd name="textAreaTop" fmla="*/ 58680 h 304920"/>
              <a:gd name="textAreaBottom" fmla="*/ 24624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8212" y="4163"/>
                </a:lnTo>
                <a:lnTo>
                  <a:pt x="4163" y="4163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8212" y="17437"/>
                </a:lnTo>
                <a:lnTo>
                  <a:pt x="28212" y="4163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163" y="17437"/>
                </a:lnTo>
                <a:lnTo>
                  <a:pt x="28212" y="17437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163" y="4163"/>
                </a:lnTo>
                <a:lnTo>
                  <a:pt x="4163" y="17437"/>
                </a:lnTo>
                <a:close/>
              </a:path>
              <a:path fill="darken" w="32375" h="21600">
                <a:moveTo>
                  <a:pt x="13717" y="10800"/>
                </a:moveTo>
                <a:lnTo>
                  <a:pt x="21134" y="5853"/>
                </a:lnTo>
                <a:lnTo>
                  <a:pt x="21134" y="15747"/>
                </a:lnTo>
                <a:close/>
              </a:path>
              <a:path fill="darken" w="32375" h="21600">
                <a:moveTo>
                  <a:pt x="11240" y="5853"/>
                </a:moveTo>
                <a:lnTo>
                  <a:pt x="12414" y="5853"/>
                </a:lnTo>
                <a:lnTo>
                  <a:pt x="12414" y="15747"/>
                </a:lnTo>
                <a:lnTo>
                  <a:pt x="11240" y="15747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2280" y="1752480"/>
            <a:ext cx="5334120" cy="2438640"/>
            <a:chOff x="152280" y="1752480"/>
            <a:chExt cx="5334120" cy="2438640"/>
          </a:xfrm>
        </p:grpSpPr>
        <p:pic>
          <p:nvPicPr>
            <p:cNvPr id="322" name="3%20forces%20parallèles-2" descr=""/>
            <p:cNvPicPr/>
            <p:nvPr/>
          </p:nvPicPr>
          <p:blipFill>
            <a:blip r:embed="rId2"/>
            <a:srcRect l="0" t="8028" r="0" b="16550"/>
            <a:stretch/>
          </p:blipFill>
          <p:spPr>
            <a:xfrm>
              <a:off x="152280" y="1752480"/>
              <a:ext cx="5334120" cy="243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1091880" y="3231720"/>
              <a:ext cx="219960" cy="387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309760" y="2919600"/>
              <a:ext cx="219960" cy="387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632120" y="3333240"/>
              <a:ext cx="221040" cy="387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152280" y="129528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Comic Sans MS"/>
              </a:rPr>
              <a:t>Méthode de résolution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1371600" y="1905120"/>
            <a:ext cx="0" cy="4495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2533680" y="1905120"/>
            <a:ext cx="0" cy="4495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4495680" y="1905120"/>
            <a:ext cx="0" cy="4495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62720" y="1447920"/>
            <a:ext cx="3581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3. Placer un point P (pôle) n’importe-où sur la fig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5715000" y="3124080"/>
            <a:ext cx="990360" cy="2971440"/>
            <a:chOff x="5715000" y="3124080"/>
            <a:chExt cx="990360" cy="2971440"/>
          </a:xfrm>
        </p:grpSpPr>
        <p:sp>
          <p:nvSpPr>
            <p:cNvPr id="332" name=""/>
            <p:cNvSpPr/>
            <p:nvPr/>
          </p:nvSpPr>
          <p:spPr>
            <a:xfrm>
              <a:off x="6705360" y="3124080"/>
              <a:ext cx="0" cy="29714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5715000" y="4444560"/>
              <a:ext cx="914040" cy="510120"/>
              <a:chOff x="5715000" y="4444560"/>
              <a:chExt cx="914040" cy="510120"/>
            </a:xfrm>
          </p:grpSpPr>
          <p:sp>
            <p:nvSpPr>
              <p:cNvPr id="334" name=""/>
              <p:cNvSpPr/>
              <p:nvPr/>
            </p:nvSpPr>
            <p:spPr>
              <a:xfrm>
                <a:off x="5715000" y="4444560"/>
                <a:ext cx="914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O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Arial"/>
                  </a:rPr>
                  <a:t>3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798160" y="4554000"/>
                <a:ext cx="7480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6" name=""/>
          <p:cNvGrpSpPr/>
          <p:nvPr/>
        </p:nvGrpSpPr>
        <p:grpSpPr>
          <a:xfrm>
            <a:off x="8229600" y="4267080"/>
            <a:ext cx="762120" cy="762120"/>
            <a:chOff x="8229600" y="4267080"/>
            <a:chExt cx="762120" cy="762120"/>
          </a:xfrm>
        </p:grpSpPr>
        <p:sp>
          <p:nvSpPr>
            <p:cNvPr id="337" name=""/>
            <p:cNvSpPr/>
            <p:nvPr/>
          </p:nvSpPr>
          <p:spPr>
            <a:xfrm>
              <a:off x="8229600" y="4648320"/>
              <a:ext cx="380880" cy="380880"/>
            </a:xfrm>
            <a:prstGeom prst="plus">
              <a:avLst>
                <a:gd name="adj" fmla="val 50000"/>
              </a:avLst>
            </a:prstGeom>
            <a:solidFill>
              <a:srgbClr val="00cc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381880" y="426708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5562720" y="2133720"/>
            <a:ext cx="3581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4. Tracer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les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rayons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polaires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6553080" y="2971800"/>
            <a:ext cx="2133720" cy="2133720"/>
            <a:chOff x="6553080" y="2971800"/>
            <a:chExt cx="2133720" cy="2133720"/>
          </a:xfrm>
        </p:grpSpPr>
        <p:sp>
          <p:nvSpPr>
            <p:cNvPr id="341" name=""/>
            <p:cNvSpPr/>
            <p:nvPr/>
          </p:nvSpPr>
          <p:spPr>
            <a:xfrm>
              <a:off x="6553080" y="2971800"/>
              <a:ext cx="2133720" cy="21337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696080" y="396252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99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6858000" y="24382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et 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6553080" y="4647960"/>
            <a:ext cx="2133720" cy="1523880"/>
            <a:chOff x="6553080" y="4647960"/>
            <a:chExt cx="2133720" cy="1523880"/>
          </a:xfrm>
        </p:grpSpPr>
        <p:sp>
          <p:nvSpPr>
            <p:cNvPr id="345" name=""/>
            <p:cNvSpPr/>
            <p:nvPr/>
          </p:nvSpPr>
          <p:spPr>
            <a:xfrm flipV="1">
              <a:off x="6553080" y="4647960"/>
              <a:ext cx="2133720" cy="152388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543800" y="53341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685800" y="1508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RESOLUTION GRAPHIQUE D’UN PROBLEME DE STAT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8600" y="1293840"/>
            <a:ext cx="876312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152280" y="1751040"/>
            <a:ext cx="5334120" cy="2438280"/>
            <a:chOff x="152280" y="1751040"/>
            <a:chExt cx="5334120" cy="2438280"/>
          </a:xfrm>
        </p:grpSpPr>
        <p:pic>
          <p:nvPicPr>
            <p:cNvPr id="350" name="3%20forces%20parallèles-2" descr=""/>
            <p:cNvPicPr/>
            <p:nvPr/>
          </p:nvPicPr>
          <p:blipFill>
            <a:blip r:embed="rId2"/>
            <a:srcRect l="0" t="8028" r="0" b="16550"/>
            <a:stretch/>
          </p:blipFill>
          <p:spPr>
            <a:xfrm>
              <a:off x="152280" y="1751040"/>
              <a:ext cx="533412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1091880" y="3229920"/>
              <a:ext cx="219960" cy="387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309760" y="2918160"/>
              <a:ext cx="219960" cy="387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32120" y="3331440"/>
              <a:ext cx="221040" cy="387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152280" y="129384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Comic Sans MS"/>
              </a:rPr>
              <a:t>Méthode de résolution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1371600" y="1902960"/>
            <a:ext cx="0" cy="4496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2533680" y="1902960"/>
            <a:ext cx="0" cy="4496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4495680" y="1902960"/>
            <a:ext cx="0" cy="4496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562720" y="1446120"/>
            <a:ext cx="3581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5. Reporter une parallèle au rayon polair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5715000" y="3122640"/>
            <a:ext cx="990360" cy="2971440"/>
            <a:chOff x="5715000" y="3122640"/>
            <a:chExt cx="990360" cy="2971440"/>
          </a:xfrm>
        </p:grpSpPr>
        <p:sp>
          <p:nvSpPr>
            <p:cNvPr id="360" name=""/>
            <p:cNvSpPr/>
            <p:nvPr/>
          </p:nvSpPr>
          <p:spPr>
            <a:xfrm>
              <a:off x="6705360" y="3122640"/>
              <a:ext cx="0" cy="29714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1" name=""/>
            <p:cNvGrpSpPr/>
            <p:nvPr/>
          </p:nvGrpSpPr>
          <p:grpSpPr>
            <a:xfrm>
              <a:off x="5715000" y="4443120"/>
              <a:ext cx="914040" cy="510120"/>
              <a:chOff x="5715000" y="4443120"/>
              <a:chExt cx="914040" cy="510120"/>
            </a:xfrm>
          </p:grpSpPr>
          <p:sp>
            <p:nvSpPr>
              <p:cNvPr id="362" name=""/>
              <p:cNvSpPr/>
              <p:nvPr/>
            </p:nvSpPr>
            <p:spPr>
              <a:xfrm>
                <a:off x="5715000" y="4443120"/>
                <a:ext cx="914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O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Arial"/>
                  </a:rPr>
                  <a:t>3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798160" y="4552560"/>
                <a:ext cx="7480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4" name=""/>
          <p:cNvGrpSpPr/>
          <p:nvPr/>
        </p:nvGrpSpPr>
        <p:grpSpPr>
          <a:xfrm>
            <a:off x="8229600" y="4265640"/>
            <a:ext cx="762120" cy="762120"/>
            <a:chOff x="8229600" y="4265640"/>
            <a:chExt cx="762120" cy="762120"/>
          </a:xfrm>
        </p:grpSpPr>
        <p:sp>
          <p:nvSpPr>
            <p:cNvPr id="365" name=""/>
            <p:cNvSpPr/>
            <p:nvPr/>
          </p:nvSpPr>
          <p:spPr>
            <a:xfrm>
              <a:off x="8229600" y="4646880"/>
              <a:ext cx="380880" cy="380880"/>
            </a:xfrm>
            <a:prstGeom prst="plus">
              <a:avLst>
                <a:gd name="adj" fmla="val 50000"/>
              </a:avLst>
            </a:prstGeom>
            <a:solidFill>
              <a:srgbClr val="00cc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381880" y="426564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6553080" y="2971800"/>
            <a:ext cx="2133720" cy="2133720"/>
            <a:chOff x="6553080" y="2971800"/>
            <a:chExt cx="2133720" cy="2133720"/>
          </a:xfrm>
        </p:grpSpPr>
        <p:sp>
          <p:nvSpPr>
            <p:cNvPr id="368" name=""/>
            <p:cNvSpPr/>
            <p:nvPr/>
          </p:nvSpPr>
          <p:spPr>
            <a:xfrm>
              <a:off x="6553080" y="2971800"/>
              <a:ext cx="2133720" cy="21337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696080" y="396252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99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6553080" y="4646160"/>
            <a:ext cx="2133720" cy="1523880"/>
            <a:chOff x="6553080" y="4646160"/>
            <a:chExt cx="2133720" cy="1523880"/>
          </a:xfrm>
        </p:grpSpPr>
        <p:sp>
          <p:nvSpPr>
            <p:cNvPr id="371" name=""/>
            <p:cNvSpPr/>
            <p:nvPr/>
          </p:nvSpPr>
          <p:spPr>
            <a:xfrm flipV="1">
              <a:off x="6553080" y="4646160"/>
              <a:ext cx="2133720" cy="152388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543800" y="53323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6553080" y="3124080"/>
            <a:ext cx="2133720" cy="2133720"/>
            <a:chOff x="6553080" y="3124080"/>
            <a:chExt cx="2133720" cy="2133720"/>
          </a:xfrm>
        </p:grpSpPr>
        <p:sp>
          <p:nvSpPr>
            <p:cNvPr id="374" name=""/>
            <p:cNvSpPr/>
            <p:nvPr/>
          </p:nvSpPr>
          <p:spPr>
            <a:xfrm>
              <a:off x="6553080" y="3124080"/>
              <a:ext cx="2133720" cy="21337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696080" y="41148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99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6553080" y="3276720"/>
            <a:ext cx="2133720" cy="2133360"/>
            <a:chOff x="6553080" y="3276720"/>
            <a:chExt cx="2133720" cy="2133360"/>
          </a:xfrm>
        </p:grpSpPr>
        <p:sp>
          <p:nvSpPr>
            <p:cNvPr id="377" name=""/>
            <p:cNvSpPr/>
            <p:nvPr/>
          </p:nvSpPr>
          <p:spPr>
            <a:xfrm>
              <a:off x="6553080" y="3276720"/>
              <a:ext cx="2133720" cy="21333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696080" y="42670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99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6477120" y="3352680"/>
            <a:ext cx="2133360" cy="2133720"/>
            <a:chOff x="6477120" y="3352680"/>
            <a:chExt cx="2133360" cy="2133720"/>
          </a:xfrm>
        </p:grpSpPr>
        <p:sp>
          <p:nvSpPr>
            <p:cNvPr id="380" name=""/>
            <p:cNvSpPr/>
            <p:nvPr/>
          </p:nvSpPr>
          <p:spPr>
            <a:xfrm>
              <a:off x="6477120" y="3352680"/>
              <a:ext cx="2133360" cy="21337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619760" y="43434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99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6477120" y="3505320"/>
            <a:ext cx="2133360" cy="2133360"/>
            <a:chOff x="6477120" y="3505320"/>
            <a:chExt cx="2133360" cy="2133360"/>
          </a:xfrm>
        </p:grpSpPr>
        <p:sp>
          <p:nvSpPr>
            <p:cNvPr id="383" name=""/>
            <p:cNvSpPr/>
            <p:nvPr/>
          </p:nvSpPr>
          <p:spPr>
            <a:xfrm>
              <a:off x="6477120" y="3505320"/>
              <a:ext cx="2133360" cy="21333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619760" y="4495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99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6477120" y="3657600"/>
            <a:ext cx="2133360" cy="2133720"/>
            <a:chOff x="6477120" y="3657600"/>
            <a:chExt cx="2133360" cy="2133720"/>
          </a:xfrm>
        </p:grpSpPr>
        <p:sp>
          <p:nvSpPr>
            <p:cNvPr id="386" name=""/>
            <p:cNvSpPr/>
            <p:nvPr/>
          </p:nvSpPr>
          <p:spPr>
            <a:xfrm>
              <a:off x="6477120" y="3657600"/>
              <a:ext cx="2133360" cy="21337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619760" y="46483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99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6477120" y="3809880"/>
            <a:ext cx="2133360" cy="2133720"/>
            <a:chOff x="6477120" y="3809880"/>
            <a:chExt cx="2133360" cy="2133720"/>
          </a:xfrm>
        </p:grpSpPr>
        <p:sp>
          <p:nvSpPr>
            <p:cNvPr id="389" name=""/>
            <p:cNvSpPr/>
            <p:nvPr/>
          </p:nvSpPr>
          <p:spPr>
            <a:xfrm>
              <a:off x="6477120" y="3809880"/>
              <a:ext cx="2133360" cy="21337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619760" y="48006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99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6477120" y="3962520"/>
            <a:ext cx="2133360" cy="2133360"/>
            <a:chOff x="6477120" y="3962520"/>
            <a:chExt cx="2133360" cy="2133360"/>
          </a:xfrm>
        </p:grpSpPr>
        <p:sp>
          <p:nvSpPr>
            <p:cNvPr id="392" name=""/>
            <p:cNvSpPr/>
            <p:nvPr/>
          </p:nvSpPr>
          <p:spPr>
            <a:xfrm>
              <a:off x="6477120" y="3962520"/>
              <a:ext cx="2133360" cy="21333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619760" y="49528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99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6400800" y="4038480"/>
            <a:ext cx="2133720" cy="2133720"/>
            <a:chOff x="6400800" y="4038480"/>
            <a:chExt cx="2133720" cy="2133720"/>
          </a:xfrm>
        </p:grpSpPr>
        <p:sp>
          <p:nvSpPr>
            <p:cNvPr id="395" name=""/>
            <p:cNvSpPr/>
            <p:nvPr/>
          </p:nvSpPr>
          <p:spPr>
            <a:xfrm>
              <a:off x="6400800" y="4038480"/>
              <a:ext cx="2133720" cy="21337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543800" y="50292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99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6400800" y="4191120"/>
            <a:ext cx="2133720" cy="2133360"/>
            <a:chOff x="6400800" y="4191120"/>
            <a:chExt cx="2133720" cy="2133360"/>
          </a:xfrm>
        </p:grpSpPr>
        <p:sp>
          <p:nvSpPr>
            <p:cNvPr id="398" name=""/>
            <p:cNvSpPr/>
            <p:nvPr/>
          </p:nvSpPr>
          <p:spPr>
            <a:xfrm>
              <a:off x="6400800" y="4191120"/>
              <a:ext cx="2133720" cy="21333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543800" y="51814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99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6324480" y="4267080"/>
            <a:ext cx="2133720" cy="2133720"/>
            <a:chOff x="6324480" y="4267080"/>
            <a:chExt cx="2133720" cy="2133720"/>
          </a:xfrm>
        </p:grpSpPr>
        <p:sp>
          <p:nvSpPr>
            <p:cNvPr id="401" name=""/>
            <p:cNvSpPr/>
            <p:nvPr/>
          </p:nvSpPr>
          <p:spPr>
            <a:xfrm>
              <a:off x="6324480" y="4267080"/>
              <a:ext cx="2133720" cy="21337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467480" y="52578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99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6248520" y="4343400"/>
            <a:ext cx="2133360" cy="2133720"/>
            <a:chOff x="6248520" y="4343400"/>
            <a:chExt cx="2133360" cy="2133720"/>
          </a:xfrm>
        </p:grpSpPr>
        <p:sp>
          <p:nvSpPr>
            <p:cNvPr id="404" name=""/>
            <p:cNvSpPr/>
            <p:nvPr/>
          </p:nvSpPr>
          <p:spPr>
            <a:xfrm>
              <a:off x="6248520" y="4343400"/>
              <a:ext cx="2133360" cy="21337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391160" y="53341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99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6248520" y="4495680"/>
            <a:ext cx="2133360" cy="2133720"/>
            <a:chOff x="6248520" y="4495680"/>
            <a:chExt cx="2133360" cy="2133720"/>
          </a:xfrm>
        </p:grpSpPr>
        <p:sp>
          <p:nvSpPr>
            <p:cNvPr id="407" name=""/>
            <p:cNvSpPr/>
            <p:nvPr/>
          </p:nvSpPr>
          <p:spPr>
            <a:xfrm>
              <a:off x="6248520" y="4495680"/>
              <a:ext cx="2133360" cy="21337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391160" y="54864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99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6095880" y="4495680"/>
            <a:ext cx="2133720" cy="2133720"/>
            <a:chOff x="6095880" y="4495680"/>
            <a:chExt cx="2133720" cy="2133720"/>
          </a:xfrm>
        </p:grpSpPr>
        <p:sp>
          <p:nvSpPr>
            <p:cNvPr id="410" name=""/>
            <p:cNvSpPr/>
            <p:nvPr/>
          </p:nvSpPr>
          <p:spPr>
            <a:xfrm>
              <a:off x="6095880" y="4495680"/>
              <a:ext cx="2133720" cy="21337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238880" y="54864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99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5943600" y="4495680"/>
            <a:ext cx="2133720" cy="2133720"/>
            <a:chOff x="5943600" y="4495680"/>
            <a:chExt cx="2133720" cy="2133720"/>
          </a:xfrm>
        </p:grpSpPr>
        <p:sp>
          <p:nvSpPr>
            <p:cNvPr id="413" name=""/>
            <p:cNvSpPr/>
            <p:nvPr/>
          </p:nvSpPr>
          <p:spPr>
            <a:xfrm>
              <a:off x="5943600" y="4495680"/>
              <a:ext cx="2133720" cy="21337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086600" y="54864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99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5867280" y="4572000"/>
            <a:ext cx="2133720" cy="2133720"/>
            <a:chOff x="5867280" y="4572000"/>
            <a:chExt cx="2133720" cy="2133720"/>
          </a:xfrm>
        </p:grpSpPr>
        <p:sp>
          <p:nvSpPr>
            <p:cNvPr id="416" name=""/>
            <p:cNvSpPr/>
            <p:nvPr/>
          </p:nvSpPr>
          <p:spPr>
            <a:xfrm>
              <a:off x="5867280" y="4572000"/>
              <a:ext cx="2133720" cy="21337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010280" y="556272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99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5715000" y="4572000"/>
            <a:ext cx="2133720" cy="2133720"/>
            <a:chOff x="5715000" y="4572000"/>
            <a:chExt cx="2133720" cy="2133720"/>
          </a:xfrm>
        </p:grpSpPr>
        <p:sp>
          <p:nvSpPr>
            <p:cNvPr id="419" name=""/>
            <p:cNvSpPr/>
            <p:nvPr/>
          </p:nvSpPr>
          <p:spPr>
            <a:xfrm>
              <a:off x="5715000" y="4572000"/>
              <a:ext cx="2133720" cy="21337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858000" y="556272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99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5562720" y="4572000"/>
            <a:ext cx="2133360" cy="2133720"/>
            <a:chOff x="5562720" y="4572000"/>
            <a:chExt cx="2133360" cy="2133720"/>
          </a:xfrm>
        </p:grpSpPr>
        <p:sp>
          <p:nvSpPr>
            <p:cNvPr id="422" name=""/>
            <p:cNvSpPr/>
            <p:nvPr/>
          </p:nvSpPr>
          <p:spPr>
            <a:xfrm>
              <a:off x="5562720" y="4572000"/>
              <a:ext cx="2133360" cy="21337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705360" y="55627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99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5410080" y="4572000"/>
            <a:ext cx="2133720" cy="2133720"/>
            <a:chOff x="5410080" y="4572000"/>
            <a:chExt cx="2133720" cy="2133720"/>
          </a:xfrm>
        </p:grpSpPr>
        <p:sp>
          <p:nvSpPr>
            <p:cNvPr id="425" name=""/>
            <p:cNvSpPr/>
            <p:nvPr/>
          </p:nvSpPr>
          <p:spPr>
            <a:xfrm>
              <a:off x="5410080" y="4572000"/>
              <a:ext cx="2133720" cy="21337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553080" y="556272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99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5334120" y="4648320"/>
            <a:ext cx="2133360" cy="2133360"/>
            <a:chOff x="5334120" y="4648320"/>
            <a:chExt cx="2133360" cy="2133360"/>
          </a:xfrm>
        </p:grpSpPr>
        <p:sp>
          <p:nvSpPr>
            <p:cNvPr id="428" name=""/>
            <p:cNvSpPr/>
            <p:nvPr/>
          </p:nvSpPr>
          <p:spPr>
            <a:xfrm>
              <a:off x="5334120" y="4648320"/>
              <a:ext cx="2133360" cy="21333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476760" y="5638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99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5181480" y="4648320"/>
            <a:ext cx="2133720" cy="2133360"/>
            <a:chOff x="5181480" y="4648320"/>
            <a:chExt cx="2133720" cy="2133360"/>
          </a:xfrm>
        </p:grpSpPr>
        <p:sp>
          <p:nvSpPr>
            <p:cNvPr id="431" name=""/>
            <p:cNvSpPr/>
            <p:nvPr/>
          </p:nvSpPr>
          <p:spPr>
            <a:xfrm>
              <a:off x="5181480" y="4648320"/>
              <a:ext cx="2133720" cy="21333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24480" y="56386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99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5029200" y="4648320"/>
            <a:ext cx="2133720" cy="2133360"/>
            <a:chOff x="5029200" y="4648320"/>
            <a:chExt cx="2133720" cy="2133360"/>
          </a:xfrm>
        </p:grpSpPr>
        <p:sp>
          <p:nvSpPr>
            <p:cNvPr id="434" name=""/>
            <p:cNvSpPr/>
            <p:nvPr/>
          </p:nvSpPr>
          <p:spPr>
            <a:xfrm>
              <a:off x="5029200" y="4648320"/>
              <a:ext cx="2133720" cy="21333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172200" y="56386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99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4952880" y="4724280"/>
            <a:ext cx="2133720" cy="2133720"/>
            <a:chOff x="4952880" y="4724280"/>
            <a:chExt cx="2133720" cy="2133720"/>
          </a:xfrm>
        </p:grpSpPr>
        <p:sp>
          <p:nvSpPr>
            <p:cNvPr id="437" name=""/>
            <p:cNvSpPr/>
            <p:nvPr/>
          </p:nvSpPr>
          <p:spPr>
            <a:xfrm>
              <a:off x="4952880" y="4724280"/>
              <a:ext cx="2133720" cy="21337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095880" y="57150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99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4800600" y="4724280"/>
            <a:ext cx="2133720" cy="2133720"/>
            <a:chOff x="4800600" y="4724280"/>
            <a:chExt cx="2133720" cy="2133720"/>
          </a:xfrm>
        </p:grpSpPr>
        <p:sp>
          <p:nvSpPr>
            <p:cNvPr id="440" name=""/>
            <p:cNvSpPr/>
            <p:nvPr/>
          </p:nvSpPr>
          <p:spPr>
            <a:xfrm>
              <a:off x="4800600" y="4724280"/>
              <a:ext cx="2133720" cy="21337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943600" y="57150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99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4648320" y="4724280"/>
            <a:ext cx="2133360" cy="2133720"/>
            <a:chOff x="4648320" y="4724280"/>
            <a:chExt cx="2133360" cy="2133720"/>
          </a:xfrm>
        </p:grpSpPr>
        <p:sp>
          <p:nvSpPr>
            <p:cNvPr id="443" name=""/>
            <p:cNvSpPr/>
            <p:nvPr/>
          </p:nvSpPr>
          <p:spPr>
            <a:xfrm>
              <a:off x="4648320" y="4724280"/>
              <a:ext cx="2133360" cy="21337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790960" y="57150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99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4495680" y="4724280"/>
            <a:ext cx="2133720" cy="2133720"/>
            <a:chOff x="4495680" y="4724280"/>
            <a:chExt cx="2133720" cy="2133720"/>
          </a:xfrm>
        </p:grpSpPr>
        <p:sp>
          <p:nvSpPr>
            <p:cNvPr id="446" name=""/>
            <p:cNvSpPr/>
            <p:nvPr/>
          </p:nvSpPr>
          <p:spPr>
            <a:xfrm>
              <a:off x="4495680" y="4724280"/>
              <a:ext cx="2133720" cy="21337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638680" y="57150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99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4267080" y="4648320"/>
            <a:ext cx="2133720" cy="2133360"/>
            <a:chOff x="4267080" y="4648320"/>
            <a:chExt cx="2133720" cy="2133360"/>
          </a:xfrm>
        </p:grpSpPr>
        <p:sp>
          <p:nvSpPr>
            <p:cNvPr id="449" name=""/>
            <p:cNvSpPr/>
            <p:nvPr/>
          </p:nvSpPr>
          <p:spPr>
            <a:xfrm>
              <a:off x="4267080" y="4648320"/>
              <a:ext cx="2133720" cy="21333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410080" y="56386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99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4114800" y="4648320"/>
            <a:ext cx="2133720" cy="2133360"/>
            <a:chOff x="4114800" y="4648320"/>
            <a:chExt cx="2133720" cy="2133360"/>
          </a:xfrm>
        </p:grpSpPr>
        <p:sp>
          <p:nvSpPr>
            <p:cNvPr id="452" name=""/>
            <p:cNvSpPr/>
            <p:nvPr/>
          </p:nvSpPr>
          <p:spPr>
            <a:xfrm>
              <a:off x="4114800" y="4648320"/>
              <a:ext cx="2133720" cy="21333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257800" y="56386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99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3962520" y="4648320"/>
            <a:ext cx="2133360" cy="2133360"/>
            <a:chOff x="3962520" y="4648320"/>
            <a:chExt cx="2133360" cy="2133360"/>
          </a:xfrm>
        </p:grpSpPr>
        <p:sp>
          <p:nvSpPr>
            <p:cNvPr id="455" name=""/>
            <p:cNvSpPr/>
            <p:nvPr/>
          </p:nvSpPr>
          <p:spPr>
            <a:xfrm>
              <a:off x="3962520" y="4648320"/>
              <a:ext cx="2133360" cy="21333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105160" y="5638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99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3886200" y="4724280"/>
            <a:ext cx="2133720" cy="2133720"/>
            <a:chOff x="3886200" y="4724280"/>
            <a:chExt cx="2133720" cy="2133720"/>
          </a:xfrm>
        </p:grpSpPr>
        <p:sp>
          <p:nvSpPr>
            <p:cNvPr id="458" name=""/>
            <p:cNvSpPr/>
            <p:nvPr/>
          </p:nvSpPr>
          <p:spPr>
            <a:xfrm>
              <a:off x="3886200" y="4724280"/>
              <a:ext cx="2133720" cy="21337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029200" y="57150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99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3733920" y="4724280"/>
            <a:ext cx="2133360" cy="2133720"/>
            <a:chOff x="3733920" y="4724280"/>
            <a:chExt cx="2133360" cy="2133720"/>
          </a:xfrm>
        </p:grpSpPr>
        <p:sp>
          <p:nvSpPr>
            <p:cNvPr id="461" name=""/>
            <p:cNvSpPr/>
            <p:nvPr/>
          </p:nvSpPr>
          <p:spPr>
            <a:xfrm>
              <a:off x="3733920" y="4724280"/>
              <a:ext cx="2133360" cy="21337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876560" y="57150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99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3581280" y="4724280"/>
            <a:ext cx="2133720" cy="2133720"/>
            <a:chOff x="3581280" y="4724280"/>
            <a:chExt cx="2133720" cy="2133720"/>
          </a:xfrm>
        </p:grpSpPr>
        <p:sp>
          <p:nvSpPr>
            <p:cNvPr id="464" name=""/>
            <p:cNvSpPr/>
            <p:nvPr/>
          </p:nvSpPr>
          <p:spPr>
            <a:xfrm>
              <a:off x="3581280" y="4724280"/>
              <a:ext cx="2133720" cy="21337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4280" y="57150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99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3429000" y="4724280"/>
            <a:ext cx="2133720" cy="2133720"/>
            <a:chOff x="3429000" y="4724280"/>
            <a:chExt cx="2133720" cy="2133720"/>
          </a:xfrm>
        </p:grpSpPr>
        <p:sp>
          <p:nvSpPr>
            <p:cNvPr id="467" name=""/>
            <p:cNvSpPr/>
            <p:nvPr/>
          </p:nvSpPr>
          <p:spPr>
            <a:xfrm>
              <a:off x="3429000" y="4724280"/>
              <a:ext cx="2133720" cy="21337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572000" y="57150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99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3200400" y="4648320"/>
            <a:ext cx="2133720" cy="2133360"/>
            <a:chOff x="3200400" y="4648320"/>
            <a:chExt cx="2133720" cy="2133360"/>
          </a:xfrm>
        </p:grpSpPr>
        <p:sp>
          <p:nvSpPr>
            <p:cNvPr id="470" name=""/>
            <p:cNvSpPr/>
            <p:nvPr/>
          </p:nvSpPr>
          <p:spPr>
            <a:xfrm>
              <a:off x="3200400" y="4648320"/>
              <a:ext cx="2133720" cy="21333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343400" y="56386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99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3048120" y="4648320"/>
            <a:ext cx="2133360" cy="2133360"/>
            <a:chOff x="3048120" y="4648320"/>
            <a:chExt cx="2133360" cy="2133360"/>
          </a:xfrm>
        </p:grpSpPr>
        <p:sp>
          <p:nvSpPr>
            <p:cNvPr id="473" name=""/>
            <p:cNvSpPr/>
            <p:nvPr/>
          </p:nvSpPr>
          <p:spPr>
            <a:xfrm>
              <a:off x="3048120" y="4648320"/>
              <a:ext cx="2133360" cy="21333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90760" y="5638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99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2895480" y="4648320"/>
            <a:ext cx="2133720" cy="2133360"/>
            <a:chOff x="2895480" y="4648320"/>
            <a:chExt cx="2133720" cy="2133360"/>
          </a:xfrm>
        </p:grpSpPr>
        <p:sp>
          <p:nvSpPr>
            <p:cNvPr id="476" name=""/>
            <p:cNvSpPr/>
            <p:nvPr/>
          </p:nvSpPr>
          <p:spPr>
            <a:xfrm>
              <a:off x="2895480" y="4648320"/>
              <a:ext cx="2133720" cy="21333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038480" y="56386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99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2819520" y="4724280"/>
            <a:ext cx="2133360" cy="2133720"/>
            <a:chOff x="2819520" y="4724280"/>
            <a:chExt cx="2133360" cy="2133720"/>
          </a:xfrm>
        </p:grpSpPr>
        <p:sp>
          <p:nvSpPr>
            <p:cNvPr id="479" name=""/>
            <p:cNvSpPr/>
            <p:nvPr/>
          </p:nvSpPr>
          <p:spPr>
            <a:xfrm>
              <a:off x="2819520" y="4724280"/>
              <a:ext cx="2133360" cy="21337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962160" y="57150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99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2666880" y="4724280"/>
            <a:ext cx="2133720" cy="2133720"/>
            <a:chOff x="2666880" y="4724280"/>
            <a:chExt cx="2133720" cy="2133720"/>
          </a:xfrm>
        </p:grpSpPr>
        <p:sp>
          <p:nvSpPr>
            <p:cNvPr id="482" name=""/>
            <p:cNvSpPr/>
            <p:nvPr/>
          </p:nvSpPr>
          <p:spPr>
            <a:xfrm>
              <a:off x="2666880" y="4724280"/>
              <a:ext cx="2133720" cy="21337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809880" y="57150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99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2514600" y="4724280"/>
            <a:ext cx="2133720" cy="2133720"/>
            <a:chOff x="2514600" y="4724280"/>
            <a:chExt cx="2133720" cy="2133720"/>
          </a:xfrm>
        </p:grpSpPr>
        <p:sp>
          <p:nvSpPr>
            <p:cNvPr id="485" name=""/>
            <p:cNvSpPr/>
            <p:nvPr/>
          </p:nvSpPr>
          <p:spPr>
            <a:xfrm>
              <a:off x="2514600" y="4724280"/>
              <a:ext cx="2133720" cy="21337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657600" y="57150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99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2362320" y="4724280"/>
            <a:ext cx="2133360" cy="2133720"/>
            <a:chOff x="2362320" y="4724280"/>
            <a:chExt cx="2133360" cy="2133720"/>
          </a:xfrm>
        </p:grpSpPr>
        <p:sp>
          <p:nvSpPr>
            <p:cNvPr id="488" name=""/>
            <p:cNvSpPr/>
            <p:nvPr/>
          </p:nvSpPr>
          <p:spPr>
            <a:xfrm>
              <a:off x="2362320" y="4724280"/>
              <a:ext cx="2133360" cy="21337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504960" y="57150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99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2133720" y="4648320"/>
            <a:ext cx="2133360" cy="2133360"/>
            <a:chOff x="2133720" y="4648320"/>
            <a:chExt cx="2133360" cy="2133360"/>
          </a:xfrm>
        </p:grpSpPr>
        <p:sp>
          <p:nvSpPr>
            <p:cNvPr id="491" name=""/>
            <p:cNvSpPr/>
            <p:nvPr/>
          </p:nvSpPr>
          <p:spPr>
            <a:xfrm>
              <a:off x="2133720" y="4648320"/>
              <a:ext cx="2133360" cy="21333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276360" y="5638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99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1981080" y="4648320"/>
            <a:ext cx="2133720" cy="2133360"/>
            <a:chOff x="1981080" y="4648320"/>
            <a:chExt cx="2133720" cy="2133360"/>
          </a:xfrm>
        </p:grpSpPr>
        <p:sp>
          <p:nvSpPr>
            <p:cNvPr id="494" name=""/>
            <p:cNvSpPr/>
            <p:nvPr/>
          </p:nvSpPr>
          <p:spPr>
            <a:xfrm>
              <a:off x="1981080" y="4648320"/>
              <a:ext cx="2133720" cy="21333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124080" y="56386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99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1828800" y="4648320"/>
            <a:ext cx="2133720" cy="2133360"/>
            <a:chOff x="1828800" y="4648320"/>
            <a:chExt cx="2133720" cy="2133360"/>
          </a:xfrm>
        </p:grpSpPr>
        <p:sp>
          <p:nvSpPr>
            <p:cNvPr id="497" name=""/>
            <p:cNvSpPr/>
            <p:nvPr/>
          </p:nvSpPr>
          <p:spPr>
            <a:xfrm>
              <a:off x="1828800" y="4648320"/>
              <a:ext cx="2133720" cy="21333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971800" y="56386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99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1752480" y="4724280"/>
            <a:ext cx="2133720" cy="2133720"/>
            <a:chOff x="1752480" y="4724280"/>
            <a:chExt cx="2133720" cy="2133720"/>
          </a:xfrm>
        </p:grpSpPr>
        <p:sp>
          <p:nvSpPr>
            <p:cNvPr id="500" name=""/>
            <p:cNvSpPr/>
            <p:nvPr/>
          </p:nvSpPr>
          <p:spPr>
            <a:xfrm>
              <a:off x="1752480" y="4724280"/>
              <a:ext cx="2133720" cy="21337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895480" y="57150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99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1600200" y="4724280"/>
            <a:ext cx="2133720" cy="2133720"/>
            <a:chOff x="1600200" y="4724280"/>
            <a:chExt cx="2133720" cy="2133720"/>
          </a:xfrm>
        </p:grpSpPr>
        <p:sp>
          <p:nvSpPr>
            <p:cNvPr id="503" name=""/>
            <p:cNvSpPr/>
            <p:nvPr/>
          </p:nvSpPr>
          <p:spPr>
            <a:xfrm>
              <a:off x="1600200" y="4724280"/>
              <a:ext cx="2133720" cy="21337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743200" y="57150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99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1447920" y="4724280"/>
            <a:ext cx="2133360" cy="2133720"/>
            <a:chOff x="1447920" y="4724280"/>
            <a:chExt cx="2133360" cy="2133720"/>
          </a:xfrm>
        </p:grpSpPr>
        <p:sp>
          <p:nvSpPr>
            <p:cNvPr id="506" name=""/>
            <p:cNvSpPr/>
            <p:nvPr/>
          </p:nvSpPr>
          <p:spPr>
            <a:xfrm>
              <a:off x="1447920" y="4724280"/>
              <a:ext cx="2133360" cy="21337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590560" y="57150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99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1295280" y="4724280"/>
            <a:ext cx="2133720" cy="2133720"/>
            <a:chOff x="1295280" y="4724280"/>
            <a:chExt cx="2133720" cy="2133720"/>
          </a:xfrm>
        </p:grpSpPr>
        <p:sp>
          <p:nvSpPr>
            <p:cNvPr id="509" name=""/>
            <p:cNvSpPr/>
            <p:nvPr/>
          </p:nvSpPr>
          <p:spPr>
            <a:xfrm>
              <a:off x="1295280" y="4724280"/>
              <a:ext cx="2133720" cy="21337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438280" y="57150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99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1143000" y="4724280"/>
            <a:ext cx="2133720" cy="2133720"/>
            <a:chOff x="1143000" y="4724280"/>
            <a:chExt cx="2133720" cy="2133720"/>
          </a:xfrm>
        </p:grpSpPr>
        <p:sp>
          <p:nvSpPr>
            <p:cNvPr id="512" name=""/>
            <p:cNvSpPr/>
            <p:nvPr/>
          </p:nvSpPr>
          <p:spPr>
            <a:xfrm>
              <a:off x="1143000" y="4724280"/>
              <a:ext cx="2133720" cy="21337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286000" y="57150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99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685800" y="149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RESOLUTION GRAPHIQUE D’UN PROBLEME DE STAT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28600" y="1292400"/>
            <a:ext cx="876312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>
            <a:hlinkClick r:id="" action="ppaction://hlinkshowjump?jump=nextslide"/>
          </p:cNvPr>
          <p:cNvSpPr/>
          <p:nvPr/>
        </p:nvSpPr>
        <p:spPr>
          <a:xfrm>
            <a:off x="8682120" y="6550200"/>
            <a:ext cx="457200" cy="304560"/>
          </a:xfrm>
          <a:custGeom>
            <a:avLst/>
            <a:gdLst>
              <a:gd name="textAreaLeft" fmla="*/ 64800 w 457200"/>
              <a:gd name="textAreaRight" fmla="*/ 392400 w 457200"/>
              <a:gd name="textAreaTop" fmla="*/ 64800 h 304560"/>
              <a:gd name="textAreaBottom" fmla="*/ 23976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27800" y="4613"/>
                </a:lnTo>
                <a:lnTo>
                  <a:pt x="4613" y="4613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27800" y="16987"/>
                </a:lnTo>
                <a:lnTo>
                  <a:pt x="27800" y="4613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4613" y="16987"/>
                </a:lnTo>
                <a:lnTo>
                  <a:pt x="27800" y="16987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4613" y="4613"/>
                </a:lnTo>
                <a:lnTo>
                  <a:pt x="4613" y="16987"/>
                </a:lnTo>
                <a:close/>
              </a:path>
              <a:path fill="darken" w="32413" h="21600">
                <a:moveTo>
                  <a:pt x="11595" y="6188"/>
                </a:moveTo>
                <a:lnTo>
                  <a:pt x="20818" y="10800"/>
                </a:lnTo>
                <a:lnTo>
                  <a:pt x="11595" y="15412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>
            <a:hlinkClick r:id="" action="ppaction://hlinkshowjump?jump=previousslide"/>
          </p:cNvPr>
          <p:cNvSpPr/>
          <p:nvPr/>
        </p:nvSpPr>
        <p:spPr>
          <a:xfrm>
            <a:off x="633240" y="6550200"/>
            <a:ext cx="457200" cy="304560"/>
          </a:xfrm>
          <a:custGeom>
            <a:avLst/>
            <a:gdLst>
              <a:gd name="textAreaLeft" fmla="*/ 60120 w 457200"/>
              <a:gd name="textAreaRight" fmla="*/ 397080 w 457200"/>
              <a:gd name="textAreaTop" fmla="*/ 60120 h 304560"/>
              <a:gd name="textAreaBottom" fmla="*/ 24444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28138" y="4275"/>
                </a:lnTo>
                <a:lnTo>
                  <a:pt x="4275" y="4275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28138" y="17325"/>
                </a:lnTo>
                <a:lnTo>
                  <a:pt x="28138" y="4275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4275" y="17325"/>
                </a:lnTo>
                <a:lnTo>
                  <a:pt x="28138" y="17325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4275" y="4275"/>
                </a:lnTo>
                <a:lnTo>
                  <a:pt x="4275" y="17325"/>
                </a:lnTo>
                <a:close/>
              </a:path>
              <a:path fill="darken" w="32413" h="21600">
                <a:moveTo>
                  <a:pt x="11343" y="10800"/>
                </a:moveTo>
                <a:lnTo>
                  <a:pt x="21070" y="5936"/>
                </a:lnTo>
                <a:lnTo>
                  <a:pt x="21070" y="15664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>
            <a:hlinkClick r:id="" action="ppaction://hlinkshowjump?jump=firstslide"/>
          </p:cNvPr>
          <p:cNvSpPr/>
          <p:nvPr/>
        </p:nvSpPr>
        <p:spPr>
          <a:xfrm>
            <a:off x="0" y="6550200"/>
            <a:ext cx="457200" cy="304560"/>
          </a:xfrm>
          <a:custGeom>
            <a:avLst/>
            <a:gdLst>
              <a:gd name="textAreaLeft" fmla="*/ 58680 w 457200"/>
              <a:gd name="textAreaRight" fmla="*/ 398520 w 457200"/>
              <a:gd name="textAreaTop" fmla="*/ 58680 h 304560"/>
              <a:gd name="textAreaBottom" fmla="*/ 24588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28250" y="4163"/>
                </a:lnTo>
                <a:lnTo>
                  <a:pt x="4163" y="4163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28250" y="17437"/>
                </a:lnTo>
                <a:lnTo>
                  <a:pt x="28250" y="4163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4163" y="17437"/>
                </a:lnTo>
                <a:lnTo>
                  <a:pt x="28250" y="17437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4163" y="4163"/>
                </a:lnTo>
                <a:lnTo>
                  <a:pt x="4163" y="17437"/>
                </a:lnTo>
                <a:close/>
              </a:path>
              <a:path fill="darken" w="32413" h="21600">
                <a:moveTo>
                  <a:pt x="13736" y="10800"/>
                </a:moveTo>
                <a:lnTo>
                  <a:pt x="21153" y="5853"/>
                </a:lnTo>
                <a:lnTo>
                  <a:pt x="21153" y="15747"/>
                </a:lnTo>
                <a:close/>
              </a:path>
              <a:path fill="darken" w="32413" h="21600">
                <a:moveTo>
                  <a:pt x="11259" y="5853"/>
                </a:moveTo>
                <a:lnTo>
                  <a:pt x="12433" y="5853"/>
                </a:lnTo>
                <a:lnTo>
                  <a:pt x="12433" y="15747"/>
                </a:lnTo>
                <a:lnTo>
                  <a:pt x="11259" y="15747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152280" y="1749600"/>
            <a:ext cx="5334120" cy="2438280"/>
            <a:chOff x="152280" y="1749600"/>
            <a:chExt cx="5334120" cy="2438280"/>
          </a:xfrm>
        </p:grpSpPr>
        <p:pic>
          <p:nvPicPr>
            <p:cNvPr id="520" name="3%20forces%20parallèles-2" descr=""/>
            <p:cNvPicPr/>
            <p:nvPr/>
          </p:nvPicPr>
          <p:blipFill>
            <a:blip r:embed="rId2"/>
            <a:srcRect l="0" t="8028" r="0" b="16550"/>
            <a:stretch/>
          </p:blipFill>
          <p:spPr>
            <a:xfrm>
              <a:off x="152280" y="1749600"/>
              <a:ext cx="533412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"/>
            <p:cNvSpPr/>
            <p:nvPr/>
          </p:nvSpPr>
          <p:spPr>
            <a:xfrm>
              <a:off x="1091880" y="3228480"/>
              <a:ext cx="219960" cy="387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309760" y="2916720"/>
              <a:ext cx="219960" cy="387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632120" y="3330000"/>
              <a:ext cx="221040" cy="387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152280" y="12924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Comic Sans MS"/>
              </a:rPr>
              <a:t>Méthode de résolution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1371600" y="1901880"/>
            <a:ext cx="0" cy="4495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2533680" y="1901880"/>
            <a:ext cx="0" cy="4495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4495680" y="1901880"/>
            <a:ext cx="0" cy="4495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562720" y="1444680"/>
            <a:ext cx="3581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5. Reporter une parallèle au rayon polair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5715000" y="3121200"/>
            <a:ext cx="990360" cy="2971440"/>
            <a:chOff x="5715000" y="3121200"/>
            <a:chExt cx="990360" cy="2971440"/>
          </a:xfrm>
        </p:grpSpPr>
        <p:sp>
          <p:nvSpPr>
            <p:cNvPr id="530" name=""/>
            <p:cNvSpPr/>
            <p:nvPr/>
          </p:nvSpPr>
          <p:spPr>
            <a:xfrm>
              <a:off x="6705360" y="3121200"/>
              <a:ext cx="0" cy="29714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1" name=""/>
            <p:cNvGrpSpPr/>
            <p:nvPr/>
          </p:nvGrpSpPr>
          <p:grpSpPr>
            <a:xfrm>
              <a:off x="5715000" y="4441680"/>
              <a:ext cx="914040" cy="510120"/>
              <a:chOff x="5715000" y="4441680"/>
              <a:chExt cx="914040" cy="510120"/>
            </a:xfrm>
          </p:grpSpPr>
          <p:sp>
            <p:nvSpPr>
              <p:cNvPr id="532" name=""/>
              <p:cNvSpPr/>
              <p:nvPr/>
            </p:nvSpPr>
            <p:spPr>
              <a:xfrm>
                <a:off x="5715000" y="4441680"/>
                <a:ext cx="914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O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Arial"/>
                  </a:rPr>
                  <a:t>3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798160" y="4551120"/>
                <a:ext cx="7480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4" name=""/>
          <p:cNvGrpSpPr/>
          <p:nvPr/>
        </p:nvGrpSpPr>
        <p:grpSpPr>
          <a:xfrm>
            <a:off x="8229600" y="4264200"/>
            <a:ext cx="762120" cy="761400"/>
            <a:chOff x="8229600" y="4264200"/>
            <a:chExt cx="762120" cy="761400"/>
          </a:xfrm>
        </p:grpSpPr>
        <p:sp>
          <p:nvSpPr>
            <p:cNvPr id="535" name=""/>
            <p:cNvSpPr/>
            <p:nvPr/>
          </p:nvSpPr>
          <p:spPr>
            <a:xfrm>
              <a:off x="8229600" y="4645080"/>
              <a:ext cx="380880" cy="380520"/>
            </a:xfrm>
            <a:prstGeom prst="plus">
              <a:avLst>
                <a:gd name="adj" fmla="val 50000"/>
              </a:avLst>
            </a:prstGeom>
            <a:solidFill>
              <a:srgbClr val="00cc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381880" y="426420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5562720" y="1738440"/>
            <a:ext cx="35812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                     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et une parallèle au rayon polaire 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6553080" y="2970360"/>
            <a:ext cx="2133720" cy="2133360"/>
            <a:chOff x="6553080" y="2970360"/>
            <a:chExt cx="2133720" cy="2133360"/>
          </a:xfrm>
        </p:grpSpPr>
        <p:sp>
          <p:nvSpPr>
            <p:cNvPr id="539" name=""/>
            <p:cNvSpPr/>
            <p:nvPr/>
          </p:nvSpPr>
          <p:spPr>
            <a:xfrm>
              <a:off x="6553080" y="2970360"/>
              <a:ext cx="2133720" cy="21333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696080" y="396072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99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6553080" y="4644720"/>
            <a:ext cx="2133720" cy="1523880"/>
            <a:chOff x="6553080" y="4644720"/>
            <a:chExt cx="2133720" cy="1523880"/>
          </a:xfrm>
        </p:grpSpPr>
        <p:sp>
          <p:nvSpPr>
            <p:cNvPr id="542" name=""/>
            <p:cNvSpPr/>
            <p:nvPr/>
          </p:nvSpPr>
          <p:spPr>
            <a:xfrm flipV="1">
              <a:off x="6553080" y="4644720"/>
              <a:ext cx="2133720" cy="152388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543800" y="53308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1143000" y="4722840"/>
            <a:ext cx="2133720" cy="2133720"/>
            <a:chOff x="1143000" y="4722840"/>
            <a:chExt cx="2133720" cy="2133720"/>
          </a:xfrm>
        </p:grpSpPr>
        <p:sp>
          <p:nvSpPr>
            <p:cNvPr id="545" name=""/>
            <p:cNvSpPr/>
            <p:nvPr/>
          </p:nvSpPr>
          <p:spPr>
            <a:xfrm>
              <a:off x="1143000" y="4722840"/>
              <a:ext cx="2133720" cy="21337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286000" y="571356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99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6248520" y="4723920"/>
            <a:ext cx="2133360" cy="1523880"/>
            <a:chOff x="6248520" y="4723920"/>
            <a:chExt cx="2133360" cy="1523880"/>
          </a:xfrm>
        </p:grpSpPr>
        <p:sp>
          <p:nvSpPr>
            <p:cNvPr id="548" name=""/>
            <p:cNvSpPr/>
            <p:nvPr/>
          </p:nvSpPr>
          <p:spPr>
            <a:xfrm flipV="1">
              <a:off x="6248520" y="4723920"/>
              <a:ext cx="2133360" cy="152388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238880" y="5410080"/>
              <a:ext cx="38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6019920" y="4723920"/>
            <a:ext cx="2133360" cy="1523880"/>
            <a:chOff x="6019920" y="4723920"/>
            <a:chExt cx="2133360" cy="1523880"/>
          </a:xfrm>
        </p:grpSpPr>
        <p:sp>
          <p:nvSpPr>
            <p:cNvPr id="551" name=""/>
            <p:cNvSpPr/>
            <p:nvPr/>
          </p:nvSpPr>
          <p:spPr>
            <a:xfrm flipV="1">
              <a:off x="6019920" y="4723920"/>
              <a:ext cx="2133360" cy="152388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010280" y="5410080"/>
              <a:ext cx="38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5791320" y="4723920"/>
            <a:ext cx="2133360" cy="1523880"/>
            <a:chOff x="5791320" y="4723920"/>
            <a:chExt cx="2133360" cy="1523880"/>
          </a:xfrm>
        </p:grpSpPr>
        <p:sp>
          <p:nvSpPr>
            <p:cNvPr id="554" name=""/>
            <p:cNvSpPr/>
            <p:nvPr/>
          </p:nvSpPr>
          <p:spPr>
            <a:xfrm flipV="1">
              <a:off x="5791320" y="4723920"/>
              <a:ext cx="2133360" cy="152388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781680" y="5410080"/>
              <a:ext cx="38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5562720" y="4723920"/>
            <a:ext cx="2133360" cy="1523880"/>
            <a:chOff x="5562720" y="4723920"/>
            <a:chExt cx="2133360" cy="1523880"/>
          </a:xfrm>
        </p:grpSpPr>
        <p:sp>
          <p:nvSpPr>
            <p:cNvPr id="557" name=""/>
            <p:cNvSpPr/>
            <p:nvPr/>
          </p:nvSpPr>
          <p:spPr>
            <a:xfrm flipV="1">
              <a:off x="5562720" y="4723920"/>
              <a:ext cx="2133360" cy="152388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553080" y="5410080"/>
              <a:ext cx="38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5105520" y="4723920"/>
            <a:ext cx="2133360" cy="1523880"/>
            <a:chOff x="5105520" y="4723920"/>
            <a:chExt cx="2133360" cy="1523880"/>
          </a:xfrm>
        </p:grpSpPr>
        <p:sp>
          <p:nvSpPr>
            <p:cNvPr id="560" name=""/>
            <p:cNvSpPr/>
            <p:nvPr/>
          </p:nvSpPr>
          <p:spPr>
            <a:xfrm flipV="1">
              <a:off x="5105520" y="4723920"/>
              <a:ext cx="2133360" cy="152388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095880" y="5410080"/>
              <a:ext cx="38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5334120" y="4723920"/>
            <a:ext cx="2133360" cy="1523880"/>
            <a:chOff x="5334120" y="4723920"/>
            <a:chExt cx="2133360" cy="1523880"/>
          </a:xfrm>
        </p:grpSpPr>
        <p:sp>
          <p:nvSpPr>
            <p:cNvPr id="563" name=""/>
            <p:cNvSpPr/>
            <p:nvPr/>
          </p:nvSpPr>
          <p:spPr>
            <a:xfrm flipV="1">
              <a:off x="5334120" y="4723920"/>
              <a:ext cx="2133360" cy="152388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324480" y="5410080"/>
              <a:ext cx="38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4876920" y="4723920"/>
            <a:ext cx="2133360" cy="1523880"/>
            <a:chOff x="4876920" y="4723920"/>
            <a:chExt cx="2133360" cy="1523880"/>
          </a:xfrm>
        </p:grpSpPr>
        <p:sp>
          <p:nvSpPr>
            <p:cNvPr id="566" name=""/>
            <p:cNvSpPr/>
            <p:nvPr/>
          </p:nvSpPr>
          <p:spPr>
            <a:xfrm flipV="1">
              <a:off x="4876920" y="4723920"/>
              <a:ext cx="2133360" cy="152388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867280" y="5410080"/>
              <a:ext cx="38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8" name=""/>
          <p:cNvGrpSpPr/>
          <p:nvPr/>
        </p:nvGrpSpPr>
        <p:grpSpPr>
          <a:xfrm>
            <a:off x="4648320" y="4723920"/>
            <a:ext cx="2133360" cy="1523880"/>
            <a:chOff x="4648320" y="4723920"/>
            <a:chExt cx="2133360" cy="1523880"/>
          </a:xfrm>
        </p:grpSpPr>
        <p:sp>
          <p:nvSpPr>
            <p:cNvPr id="569" name=""/>
            <p:cNvSpPr/>
            <p:nvPr/>
          </p:nvSpPr>
          <p:spPr>
            <a:xfrm flipV="1">
              <a:off x="4648320" y="4723920"/>
              <a:ext cx="2133360" cy="152388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638680" y="5410080"/>
              <a:ext cx="38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4343400" y="4800240"/>
            <a:ext cx="2133720" cy="1523880"/>
            <a:chOff x="4343400" y="4800240"/>
            <a:chExt cx="2133720" cy="1523880"/>
          </a:xfrm>
        </p:grpSpPr>
        <p:sp>
          <p:nvSpPr>
            <p:cNvPr id="572" name=""/>
            <p:cNvSpPr/>
            <p:nvPr/>
          </p:nvSpPr>
          <p:spPr>
            <a:xfrm flipV="1">
              <a:off x="4343400" y="4800240"/>
              <a:ext cx="2133720" cy="152388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334120" y="54864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4114800" y="4800240"/>
            <a:ext cx="2133720" cy="1523880"/>
            <a:chOff x="4114800" y="4800240"/>
            <a:chExt cx="2133720" cy="1523880"/>
          </a:xfrm>
        </p:grpSpPr>
        <p:sp>
          <p:nvSpPr>
            <p:cNvPr id="575" name=""/>
            <p:cNvSpPr/>
            <p:nvPr/>
          </p:nvSpPr>
          <p:spPr>
            <a:xfrm flipV="1">
              <a:off x="4114800" y="4800240"/>
              <a:ext cx="2133720" cy="152388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105520" y="54864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3886200" y="4800240"/>
            <a:ext cx="2133720" cy="1523880"/>
            <a:chOff x="3886200" y="4800240"/>
            <a:chExt cx="2133720" cy="1523880"/>
          </a:xfrm>
        </p:grpSpPr>
        <p:sp>
          <p:nvSpPr>
            <p:cNvPr id="578" name=""/>
            <p:cNvSpPr/>
            <p:nvPr/>
          </p:nvSpPr>
          <p:spPr>
            <a:xfrm flipV="1">
              <a:off x="3886200" y="4800240"/>
              <a:ext cx="2133720" cy="152388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876920" y="54864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3657600" y="4800240"/>
            <a:ext cx="2133720" cy="1523880"/>
            <a:chOff x="3657600" y="4800240"/>
            <a:chExt cx="2133720" cy="1523880"/>
          </a:xfrm>
        </p:grpSpPr>
        <p:sp>
          <p:nvSpPr>
            <p:cNvPr id="581" name=""/>
            <p:cNvSpPr/>
            <p:nvPr/>
          </p:nvSpPr>
          <p:spPr>
            <a:xfrm flipV="1">
              <a:off x="3657600" y="4800240"/>
              <a:ext cx="2133720" cy="152388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48320" y="54864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3429000" y="4800240"/>
            <a:ext cx="2133720" cy="1523880"/>
            <a:chOff x="3429000" y="4800240"/>
            <a:chExt cx="2133720" cy="1523880"/>
          </a:xfrm>
        </p:grpSpPr>
        <p:sp>
          <p:nvSpPr>
            <p:cNvPr id="584" name=""/>
            <p:cNvSpPr/>
            <p:nvPr/>
          </p:nvSpPr>
          <p:spPr>
            <a:xfrm flipV="1">
              <a:off x="3429000" y="4800240"/>
              <a:ext cx="2133720" cy="152388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419720" y="54864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3200400" y="4800240"/>
            <a:ext cx="2133720" cy="1523880"/>
            <a:chOff x="3200400" y="4800240"/>
            <a:chExt cx="2133720" cy="1523880"/>
          </a:xfrm>
        </p:grpSpPr>
        <p:sp>
          <p:nvSpPr>
            <p:cNvPr id="587" name=""/>
            <p:cNvSpPr/>
            <p:nvPr/>
          </p:nvSpPr>
          <p:spPr>
            <a:xfrm flipV="1">
              <a:off x="3200400" y="4800240"/>
              <a:ext cx="2133720" cy="152388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191120" y="54864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2971800" y="4800240"/>
            <a:ext cx="2133720" cy="1523880"/>
            <a:chOff x="2971800" y="4800240"/>
            <a:chExt cx="2133720" cy="1523880"/>
          </a:xfrm>
        </p:grpSpPr>
        <p:sp>
          <p:nvSpPr>
            <p:cNvPr id="590" name=""/>
            <p:cNvSpPr/>
            <p:nvPr/>
          </p:nvSpPr>
          <p:spPr>
            <a:xfrm flipV="1">
              <a:off x="2971800" y="4800240"/>
              <a:ext cx="2133720" cy="152388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962520" y="54864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2743200" y="4800240"/>
            <a:ext cx="2133720" cy="1523880"/>
            <a:chOff x="2743200" y="4800240"/>
            <a:chExt cx="2133720" cy="1523880"/>
          </a:xfrm>
        </p:grpSpPr>
        <p:sp>
          <p:nvSpPr>
            <p:cNvPr id="593" name=""/>
            <p:cNvSpPr/>
            <p:nvPr/>
          </p:nvSpPr>
          <p:spPr>
            <a:xfrm flipV="1">
              <a:off x="2743200" y="4800240"/>
              <a:ext cx="2133720" cy="152388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733920" y="54864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2514600" y="4800240"/>
            <a:ext cx="2133720" cy="1523880"/>
            <a:chOff x="2514600" y="4800240"/>
            <a:chExt cx="2133720" cy="1523880"/>
          </a:xfrm>
        </p:grpSpPr>
        <p:sp>
          <p:nvSpPr>
            <p:cNvPr id="596" name=""/>
            <p:cNvSpPr/>
            <p:nvPr/>
          </p:nvSpPr>
          <p:spPr>
            <a:xfrm flipV="1">
              <a:off x="2514600" y="4800240"/>
              <a:ext cx="2133720" cy="152388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505320" y="54864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2438280" y="4647960"/>
            <a:ext cx="2133720" cy="1523880"/>
            <a:chOff x="2438280" y="4647960"/>
            <a:chExt cx="2133720" cy="1523880"/>
          </a:xfrm>
        </p:grpSpPr>
        <p:sp>
          <p:nvSpPr>
            <p:cNvPr id="599" name=""/>
            <p:cNvSpPr/>
            <p:nvPr/>
          </p:nvSpPr>
          <p:spPr>
            <a:xfrm flipV="1">
              <a:off x="2438280" y="4647960"/>
              <a:ext cx="2133720" cy="152388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429000" y="53341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2209680" y="5791320"/>
            <a:ext cx="685800" cy="609480"/>
          </a:xfrm>
          <a:prstGeom prst="irregularSeal2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562720" y="2362320"/>
            <a:ext cx="3581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se coupant sur la direction de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685800" y="149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RESOLUTION GRAPHIQUE D’UN PROBLEME DE STAT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28600" y="1292400"/>
            <a:ext cx="876312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>
            <a:hlinkClick r:id="" action="ppaction://hlinkshowjump?jump=nextslide"/>
          </p:cNvPr>
          <p:cNvSpPr/>
          <p:nvPr/>
        </p:nvSpPr>
        <p:spPr>
          <a:xfrm>
            <a:off x="8682120" y="6550200"/>
            <a:ext cx="457200" cy="304560"/>
          </a:xfrm>
          <a:custGeom>
            <a:avLst/>
            <a:gdLst>
              <a:gd name="textAreaLeft" fmla="*/ 64800 w 457200"/>
              <a:gd name="textAreaRight" fmla="*/ 392400 w 457200"/>
              <a:gd name="textAreaTop" fmla="*/ 64800 h 304560"/>
              <a:gd name="textAreaBottom" fmla="*/ 23976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27800" y="4613"/>
                </a:lnTo>
                <a:lnTo>
                  <a:pt x="4613" y="4613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27800" y="16987"/>
                </a:lnTo>
                <a:lnTo>
                  <a:pt x="27800" y="4613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4613" y="16987"/>
                </a:lnTo>
                <a:lnTo>
                  <a:pt x="27800" y="16987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4613" y="4613"/>
                </a:lnTo>
                <a:lnTo>
                  <a:pt x="4613" y="16987"/>
                </a:lnTo>
                <a:close/>
              </a:path>
              <a:path fill="darken" w="32413" h="21600">
                <a:moveTo>
                  <a:pt x="11595" y="6188"/>
                </a:moveTo>
                <a:lnTo>
                  <a:pt x="20818" y="10800"/>
                </a:lnTo>
                <a:lnTo>
                  <a:pt x="11595" y="15412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>
            <a:hlinkClick r:id="" action="ppaction://hlinkshowjump?jump=previousslide"/>
          </p:cNvPr>
          <p:cNvSpPr/>
          <p:nvPr/>
        </p:nvSpPr>
        <p:spPr>
          <a:xfrm>
            <a:off x="633240" y="6550200"/>
            <a:ext cx="457200" cy="304560"/>
          </a:xfrm>
          <a:custGeom>
            <a:avLst/>
            <a:gdLst>
              <a:gd name="textAreaLeft" fmla="*/ 60120 w 457200"/>
              <a:gd name="textAreaRight" fmla="*/ 397080 w 457200"/>
              <a:gd name="textAreaTop" fmla="*/ 60120 h 304560"/>
              <a:gd name="textAreaBottom" fmla="*/ 24444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28138" y="4275"/>
                </a:lnTo>
                <a:lnTo>
                  <a:pt x="4275" y="4275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28138" y="17325"/>
                </a:lnTo>
                <a:lnTo>
                  <a:pt x="28138" y="4275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4275" y="17325"/>
                </a:lnTo>
                <a:lnTo>
                  <a:pt x="28138" y="17325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4275" y="4275"/>
                </a:lnTo>
                <a:lnTo>
                  <a:pt x="4275" y="17325"/>
                </a:lnTo>
                <a:close/>
              </a:path>
              <a:path fill="darken" w="32413" h="21600">
                <a:moveTo>
                  <a:pt x="11343" y="10800"/>
                </a:moveTo>
                <a:lnTo>
                  <a:pt x="21070" y="5936"/>
                </a:lnTo>
                <a:lnTo>
                  <a:pt x="21070" y="15664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>
            <a:hlinkClick r:id="" action="ppaction://hlinkshowjump?jump=firstslide"/>
          </p:cNvPr>
          <p:cNvSpPr/>
          <p:nvPr/>
        </p:nvSpPr>
        <p:spPr>
          <a:xfrm>
            <a:off x="0" y="6550200"/>
            <a:ext cx="457200" cy="304560"/>
          </a:xfrm>
          <a:custGeom>
            <a:avLst/>
            <a:gdLst>
              <a:gd name="textAreaLeft" fmla="*/ 58680 w 457200"/>
              <a:gd name="textAreaRight" fmla="*/ 398520 w 457200"/>
              <a:gd name="textAreaTop" fmla="*/ 58680 h 304560"/>
              <a:gd name="textAreaBottom" fmla="*/ 24588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28250" y="4163"/>
                </a:lnTo>
                <a:lnTo>
                  <a:pt x="4163" y="4163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28250" y="17437"/>
                </a:lnTo>
                <a:lnTo>
                  <a:pt x="28250" y="4163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4163" y="17437"/>
                </a:lnTo>
                <a:lnTo>
                  <a:pt x="28250" y="17437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4163" y="4163"/>
                </a:lnTo>
                <a:lnTo>
                  <a:pt x="4163" y="17437"/>
                </a:lnTo>
                <a:close/>
              </a:path>
              <a:path fill="darken" w="32413" h="21600">
                <a:moveTo>
                  <a:pt x="13736" y="10800"/>
                </a:moveTo>
                <a:lnTo>
                  <a:pt x="21153" y="5853"/>
                </a:lnTo>
                <a:lnTo>
                  <a:pt x="21153" y="15747"/>
                </a:lnTo>
                <a:close/>
              </a:path>
              <a:path fill="darken" w="32413" h="21600">
                <a:moveTo>
                  <a:pt x="11259" y="5853"/>
                </a:moveTo>
                <a:lnTo>
                  <a:pt x="12433" y="5853"/>
                </a:lnTo>
                <a:lnTo>
                  <a:pt x="12433" y="15747"/>
                </a:lnTo>
                <a:lnTo>
                  <a:pt x="11259" y="15747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152280" y="1749600"/>
            <a:ext cx="5334120" cy="2438280"/>
            <a:chOff x="152280" y="1749600"/>
            <a:chExt cx="5334120" cy="2438280"/>
          </a:xfrm>
        </p:grpSpPr>
        <p:pic>
          <p:nvPicPr>
            <p:cNvPr id="609" name="3%20forces%20parallèles-2" descr=""/>
            <p:cNvPicPr/>
            <p:nvPr/>
          </p:nvPicPr>
          <p:blipFill>
            <a:blip r:embed="rId2"/>
            <a:srcRect l="0" t="8028" r="0" b="16550"/>
            <a:stretch/>
          </p:blipFill>
          <p:spPr>
            <a:xfrm>
              <a:off x="152280" y="1749600"/>
              <a:ext cx="533412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" name=""/>
            <p:cNvSpPr/>
            <p:nvPr/>
          </p:nvSpPr>
          <p:spPr>
            <a:xfrm>
              <a:off x="1091880" y="3228480"/>
              <a:ext cx="219960" cy="387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309760" y="2916720"/>
              <a:ext cx="219960" cy="387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632120" y="3330000"/>
              <a:ext cx="221040" cy="387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152280" y="12924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Comic Sans MS"/>
              </a:rPr>
              <a:t>Méthode de résolution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V="1">
            <a:off x="1371600" y="1901880"/>
            <a:ext cx="0" cy="4495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2533680" y="1901880"/>
            <a:ext cx="0" cy="4495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4495680" y="1901880"/>
            <a:ext cx="0" cy="4495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562720" y="1444680"/>
            <a:ext cx="3581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6. Tracer la </a:t>
            </a:r>
            <a:r>
              <a:rPr b="1" lang="en-US" sz="2000" spc="-1" strike="noStrike">
                <a:solidFill>
                  <a:srgbClr val="ff9900"/>
                </a:solidFill>
                <a:latin typeface="Comic Sans MS"/>
              </a:rPr>
              <a:t>ligne de fermeture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 reliant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5715000" y="3121200"/>
            <a:ext cx="990360" cy="2971440"/>
            <a:chOff x="5715000" y="3121200"/>
            <a:chExt cx="990360" cy="2971440"/>
          </a:xfrm>
        </p:grpSpPr>
        <p:sp>
          <p:nvSpPr>
            <p:cNvPr id="619" name=""/>
            <p:cNvSpPr/>
            <p:nvPr/>
          </p:nvSpPr>
          <p:spPr>
            <a:xfrm>
              <a:off x="6705360" y="3121200"/>
              <a:ext cx="0" cy="29714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0" name=""/>
            <p:cNvGrpSpPr/>
            <p:nvPr/>
          </p:nvGrpSpPr>
          <p:grpSpPr>
            <a:xfrm>
              <a:off x="5715000" y="4441680"/>
              <a:ext cx="914040" cy="510120"/>
              <a:chOff x="5715000" y="4441680"/>
              <a:chExt cx="914040" cy="510120"/>
            </a:xfrm>
          </p:grpSpPr>
          <p:sp>
            <p:nvSpPr>
              <p:cNvPr id="621" name=""/>
              <p:cNvSpPr/>
              <p:nvPr/>
            </p:nvSpPr>
            <p:spPr>
              <a:xfrm>
                <a:off x="5715000" y="4441680"/>
                <a:ext cx="914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O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Arial"/>
                  </a:rPr>
                  <a:t>3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798160" y="4551120"/>
                <a:ext cx="7480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3" name=""/>
          <p:cNvGrpSpPr/>
          <p:nvPr/>
        </p:nvGrpSpPr>
        <p:grpSpPr>
          <a:xfrm>
            <a:off x="8229600" y="4264200"/>
            <a:ext cx="762120" cy="761400"/>
            <a:chOff x="8229600" y="4264200"/>
            <a:chExt cx="762120" cy="761400"/>
          </a:xfrm>
        </p:grpSpPr>
        <p:sp>
          <p:nvSpPr>
            <p:cNvPr id="624" name=""/>
            <p:cNvSpPr/>
            <p:nvPr/>
          </p:nvSpPr>
          <p:spPr>
            <a:xfrm>
              <a:off x="8229600" y="4645080"/>
              <a:ext cx="380880" cy="380520"/>
            </a:xfrm>
            <a:prstGeom prst="plus">
              <a:avLst>
                <a:gd name="adj" fmla="val 50000"/>
              </a:avLst>
            </a:prstGeom>
            <a:solidFill>
              <a:srgbClr val="00cc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381880" y="426420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6324480" y="20574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le point J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6553080" y="2970360"/>
            <a:ext cx="2133720" cy="2133360"/>
            <a:chOff x="6553080" y="2970360"/>
            <a:chExt cx="2133720" cy="2133360"/>
          </a:xfrm>
        </p:grpSpPr>
        <p:sp>
          <p:nvSpPr>
            <p:cNvPr id="628" name=""/>
            <p:cNvSpPr/>
            <p:nvPr/>
          </p:nvSpPr>
          <p:spPr>
            <a:xfrm>
              <a:off x="6553080" y="2970360"/>
              <a:ext cx="2133720" cy="21333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696080" y="396072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99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6553080" y="4644720"/>
            <a:ext cx="2133720" cy="1523880"/>
            <a:chOff x="6553080" y="4644720"/>
            <a:chExt cx="2133720" cy="1523880"/>
          </a:xfrm>
        </p:grpSpPr>
        <p:sp>
          <p:nvSpPr>
            <p:cNvPr id="631" name=""/>
            <p:cNvSpPr/>
            <p:nvPr/>
          </p:nvSpPr>
          <p:spPr>
            <a:xfrm flipV="1">
              <a:off x="6553080" y="4644720"/>
              <a:ext cx="2133720" cy="152388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543800" y="53308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1143000" y="4722840"/>
            <a:ext cx="2133720" cy="2133720"/>
            <a:chOff x="1143000" y="4722840"/>
            <a:chExt cx="2133720" cy="2133720"/>
          </a:xfrm>
        </p:grpSpPr>
        <p:sp>
          <p:nvSpPr>
            <p:cNvPr id="634" name=""/>
            <p:cNvSpPr/>
            <p:nvPr/>
          </p:nvSpPr>
          <p:spPr>
            <a:xfrm>
              <a:off x="1143000" y="4722840"/>
              <a:ext cx="2133720" cy="21337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286000" y="571356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99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2438280" y="4647960"/>
            <a:ext cx="2133720" cy="1523880"/>
            <a:chOff x="2438280" y="4647960"/>
            <a:chExt cx="2133720" cy="1523880"/>
          </a:xfrm>
        </p:grpSpPr>
        <p:sp>
          <p:nvSpPr>
            <p:cNvPr id="637" name=""/>
            <p:cNvSpPr/>
            <p:nvPr/>
          </p:nvSpPr>
          <p:spPr>
            <a:xfrm flipV="1">
              <a:off x="2438280" y="4647960"/>
              <a:ext cx="2133720" cy="152388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429000" y="53341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1066680" y="4724280"/>
            <a:ext cx="685800" cy="609840"/>
          </a:xfrm>
          <a:prstGeom prst="irregularSeal2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324480" y="236232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au point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191120" y="4419720"/>
            <a:ext cx="685800" cy="609480"/>
          </a:xfrm>
          <a:prstGeom prst="irregularSeal2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1371600" y="4723920"/>
            <a:ext cx="3124080" cy="22860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914400" y="46483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J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572000" y="434340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590920" y="4495680"/>
            <a:ext cx="1447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Comic Sans MS"/>
              </a:rPr>
              <a:t>Ligne de ferme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685800" y="149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RESOLUTION GRAPHIQUE D’UN PROBLEME DE STAT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28600" y="1292400"/>
            <a:ext cx="876312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>
            <a:hlinkClick r:id="" action="ppaction://hlinkshowjump?jump=nextslide"/>
          </p:cNvPr>
          <p:cNvSpPr/>
          <p:nvPr/>
        </p:nvSpPr>
        <p:spPr>
          <a:xfrm>
            <a:off x="8682120" y="6550200"/>
            <a:ext cx="457200" cy="304560"/>
          </a:xfrm>
          <a:custGeom>
            <a:avLst/>
            <a:gdLst>
              <a:gd name="textAreaLeft" fmla="*/ 64800 w 457200"/>
              <a:gd name="textAreaRight" fmla="*/ 392400 w 457200"/>
              <a:gd name="textAreaTop" fmla="*/ 64800 h 304560"/>
              <a:gd name="textAreaBottom" fmla="*/ 23976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27800" y="4613"/>
                </a:lnTo>
                <a:lnTo>
                  <a:pt x="4613" y="4613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27800" y="16987"/>
                </a:lnTo>
                <a:lnTo>
                  <a:pt x="27800" y="4613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4613" y="16987"/>
                </a:lnTo>
                <a:lnTo>
                  <a:pt x="27800" y="16987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4613" y="4613"/>
                </a:lnTo>
                <a:lnTo>
                  <a:pt x="4613" y="16987"/>
                </a:lnTo>
                <a:close/>
              </a:path>
              <a:path fill="darken" w="32413" h="21600">
                <a:moveTo>
                  <a:pt x="11595" y="6188"/>
                </a:moveTo>
                <a:lnTo>
                  <a:pt x="20818" y="10800"/>
                </a:lnTo>
                <a:lnTo>
                  <a:pt x="11595" y="15412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>
            <a:hlinkClick r:id="" action="ppaction://hlinkshowjump?jump=previousslide"/>
          </p:cNvPr>
          <p:cNvSpPr/>
          <p:nvPr/>
        </p:nvSpPr>
        <p:spPr>
          <a:xfrm>
            <a:off x="633240" y="6550200"/>
            <a:ext cx="457200" cy="304560"/>
          </a:xfrm>
          <a:custGeom>
            <a:avLst/>
            <a:gdLst>
              <a:gd name="textAreaLeft" fmla="*/ 60120 w 457200"/>
              <a:gd name="textAreaRight" fmla="*/ 397080 w 457200"/>
              <a:gd name="textAreaTop" fmla="*/ 60120 h 304560"/>
              <a:gd name="textAreaBottom" fmla="*/ 24444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28138" y="4275"/>
                </a:lnTo>
                <a:lnTo>
                  <a:pt x="4275" y="4275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28138" y="17325"/>
                </a:lnTo>
                <a:lnTo>
                  <a:pt x="28138" y="4275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4275" y="17325"/>
                </a:lnTo>
                <a:lnTo>
                  <a:pt x="28138" y="17325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4275" y="4275"/>
                </a:lnTo>
                <a:lnTo>
                  <a:pt x="4275" y="17325"/>
                </a:lnTo>
                <a:close/>
              </a:path>
              <a:path fill="darken" w="32413" h="21600">
                <a:moveTo>
                  <a:pt x="11343" y="10800"/>
                </a:moveTo>
                <a:lnTo>
                  <a:pt x="21070" y="5936"/>
                </a:lnTo>
                <a:lnTo>
                  <a:pt x="21070" y="15664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>
            <a:hlinkClick r:id="" action="ppaction://hlinkshowjump?jump=firstslide"/>
          </p:cNvPr>
          <p:cNvSpPr/>
          <p:nvPr/>
        </p:nvSpPr>
        <p:spPr>
          <a:xfrm>
            <a:off x="0" y="6550200"/>
            <a:ext cx="457200" cy="304560"/>
          </a:xfrm>
          <a:custGeom>
            <a:avLst/>
            <a:gdLst>
              <a:gd name="textAreaLeft" fmla="*/ 58680 w 457200"/>
              <a:gd name="textAreaRight" fmla="*/ 398520 w 457200"/>
              <a:gd name="textAreaTop" fmla="*/ 58680 h 304560"/>
              <a:gd name="textAreaBottom" fmla="*/ 24588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28250" y="4163"/>
                </a:lnTo>
                <a:lnTo>
                  <a:pt x="4163" y="4163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28250" y="17437"/>
                </a:lnTo>
                <a:lnTo>
                  <a:pt x="28250" y="4163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4163" y="17437"/>
                </a:lnTo>
                <a:lnTo>
                  <a:pt x="28250" y="17437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4163" y="4163"/>
                </a:lnTo>
                <a:lnTo>
                  <a:pt x="4163" y="17437"/>
                </a:lnTo>
                <a:close/>
              </a:path>
              <a:path fill="darken" w="32413" h="21600">
                <a:moveTo>
                  <a:pt x="13736" y="10800"/>
                </a:moveTo>
                <a:lnTo>
                  <a:pt x="21153" y="5853"/>
                </a:lnTo>
                <a:lnTo>
                  <a:pt x="21153" y="15747"/>
                </a:lnTo>
                <a:close/>
              </a:path>
              <a:path fill="darken" w="32413" h="21600">
                <a:moveTo>
                  <a:pt x="11259" y="5853"/>
                </a:moveTo>
                <a:lnTo>
                  <a:pt x="12433" y="5853"/>
                </a:lnTo>
                <a:lnTo>
                  <a:pt x="12433" y="15747"/>
                </a:lnTo>
                <a:lnTo>
                  <a:pt x="11259" y="15747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152280" y="1749600"/>
            <a:ext cx="5334120" cy="2438280"/>
            <a:chOff x="152280" y="1749600"/>
            <a:chExt cx="5334120" cy="2438280"/>
          </a:xfrm>
        </p:grpSpPr>
        <p:pic>
          <p:nvPicPr>
            <p:cNvPr id="652" name="3%20forces%20parallèles-2" descr=""/>
            <p:cNvPicPr/>
            <p:nvPr/>
          </p:nvPicPr>
          <p:blipFill>
            <a:blip r:embed="rId2"/>
            <a:srcRect l="0" t="8028" r="0" b="16550"/>
            <a:stretch/>
          </p:blipFill>
          <p:spPr>
            <a:xfrm>
              <a:off x="152280" y="1749600"/>
              <a:ext cx="533412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3" name=""/>
            <p:cNvSpPr/>
            <p:nvPr/>
          </p:nvSpPr>
          <p:spPr>
            <a:xfrm>
              <a:off x="1091880" y="3228480"/>
              <a:ext cx="219960" cy="387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309760" y="2916720"/>
              <a:ext cx="219960" cy="387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632120" y="3330000"/>
              <a:ext cx="221040" cy="387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6" name=""/>
          <p:cNvSpPr/>
          <p:nvPr/>
        </p:nvSpPr>
        <p:spPr>
          <a:xfrm>
            <a:off x="152280" y="12924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Comic Sans MS"/>
              </a:rPr>
              <a:t>Méthode de résolution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V="1">
            <a:off x="1371600" y="1901880"/>
            <a:ext cx="0" cy="4495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2533680" y="1901880"/>
            <a:ext cx="0" cy="4495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4495680" y="1901880"/>
            <a:ext cx="0" cy="4495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638680" y="1444680"/>
            <a:ext cx="35053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7. Tracer la parallèle à la ligne de fermeture passant par le pôle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5715000" y="3121200"/>
            <a:ext cx="990360" cy="2971440"/>
            <a:chOff x="5715000" y="3121200"/>
            <a:chExt cx="990360" cy="2971440"/>
          </a:xfrm>
        </p:grpSpPr>
        <p:sp>
          <p:nvSpPr>
            <p:cNvPr id="662" name=""/>
            <p:cNvSpPr/>
            <p:nvPr/>
          </p:nvSpPr>
          <p:spPr>
            <a:xfrm>
              <a:off x="6705360" y="3121200"/>
              <a:ext cx="0" cy="29714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5715000" y="4441680"/>
              <a:ext cx="914040" cy="510120"/>
              <a:chOff x="5715000" y="4441680"/>
              <a:chExt cx="914040" cy="510120"/>
            </a:xfrm>
          </p:grpSpPr>
          <p:sp>
            <p:nvSpPr>
              <p:cNvPr id="664" name=""/>
              <p:cNvSpPr/>
              <p:nvPr/>
            </p:nvSpPr>
            <p:spPr>
              <a:xfrm>
                <a:off x="5715000" y="4441680"/>
                <a:ext cx="914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O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Arial"/>
                  </a:rPr>
                  <a:t>3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798160" y="4551120"/>
                <a:ext cx="7480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6" name=""/>
          <p:cNvGrpSpPr/>
          <p:nvPr/>
        </p:nvGrpSpPr>
        <p:grpSpPr>
          <a:xfrm>
            <a:off x="8229600" y="4264200"/>
            <a:ext cx="762120" cy="761400"/>
            <a:chOff x="8229600" y="4264200"/>
            <a:chExt cx="762120" cy="761400"/>
          </a:xfrm>
        </p:grpSpPr>
        <p:sp>
          <p:nvSpPr>
            <p:cNvPr id="667" name=""/>
            <p:cNvSpPr/>
            <p:nvPr/>
          </p:nvSpPr>
          <p:spPr>
            <a:xfrm>
              <a:off x="8229600" y="4645080"/>
              <a:ext cx="380880" cy="380520"/>
            </a:xfrm>
            <a:prstGeom prst="plus">
              <a:avLst>
                <a:gd name="adj" fmla="val 50000"/>
              </a:avLst>
            </a:prstGeom>
            <a:solidFill>
              <a:srgbClr val="00cc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381880" y="426420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6553080" y="2970360"/>
            <a:ext cx="2133720" cy="2133360"/>
            <a:chOff x="6553080" y="2970360"/>
            <a:chExt cx="2133720" cy="2133360"/>
          </a:xfrm>
        </p:grpSpPr>
        <p:sp>
          <p:nvSpPr>
            <p:cNvPr id="670" name=""/>
            <p:cNvSpPr/>
            <p:nvPr/>
          </p:nvSpPr>
          <p:spPr>
            <a:xfrm>
              <a:off x="6553080" y="2970360"/>
              <a:ext cx="2133720" cy="21333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96080" y="396072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99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6553080" y="4644720"/>
            <a:ext cx="2133720" cy="1523880"/>
            <a:chOff x="6553080" y="4644720"/>
            <a:chExt cx="2133720" cy="1523880"/>
          </a:xfrm>
        </p:grpSpPr>
        <p:sp>
          <p:nvSpPr>
            <p:cNvPr id="673" name=""/>
            <p:cNvSpPr/>
            <p:nvPr/>
          </p:nvSpPr>
          <p:spPr>
            <a:xfrm flipV="1">
              <a:off x="6553080" y="4644720"/>
              <a:ext cx="2133720" cy="152388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543800" y="53308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1143000" y="4722840"/>
            <a:ext cx="2133720" cy="2133720"/>
            <a:chOff x="1143000" y="4722840"/>
            <a:chExt cx="2133720" cy="2133720"/>
          </a:xfrm>
        </p:grpSpPr>
        <p:sp>
          <p:nvSpPr>
            <p:cNvPr id="676" name=""/>
            <p:cNvSpPr/>
            <p:nvPr/>
          </p:nvSpPr>
          <p:spPr>
            <a:xfrm>
              <a:off x="1143000" y="4722840"/>
              <a:ext cx="2133720" cy="21337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286000" y="571356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99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2438280" y="4647960"/>
            <a:ext cx="2133720" cy="1523880"/>
            <a:chOff x="2438280" y="4647960"/>
            <a:chExt cx="2133720" cy="1523880"/>
          </a:xfrm>
        </p:grpSpPr>
        <p:sp>
          <p:nvSpPr>
            <p:cNvPr id="679" name=""/>
            <p:cNvSpPr/>
            <p:nvPr/>
          </p:nvSpPr>
          <p:spPr>
            <a:xfrm flipV="1">
              <a:off x="2438280" y="4647960"/>
              <a:ext cx="2133720" cy="152388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429000" y="53341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1" name=""/>
          <p:cNvSpPr/>
          <p:nvPr/>
        </p:nvSpPr>
        <p:spPr>
          <a:xfrm flipV="1">
            <a:off x="1371600" y="4723920"/>
            <a:ext cx="3124080" cy="22860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1600200" y="4800240"/>
            <a:ext cx="3124080" cy="22860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V="1">
            <a:off x="1676520" y="4876560"/>
            <a:ext cx="3124080" cy="22860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1752480" y="4952520"/>
            <a:ext cx="3124440" cy="22860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1981080" y="5028840"/>
            <a:ext cx="3124440" cy="22860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V="1">
            <a:off x="2209680" y="5105160"/>
            <a:ext cx="3124440" cy="22860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2362320" y="5181120"/>
            <a:ext cx="3124080" cy="22860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2438280" y="5257440"/>
            <a:ext cx="3124440" cy="22860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2666880" y="5333760"/>
            <a:ext cx="3124440" cy="22860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V="1">
            <a:off x="2895480" y="5409720"/>
            <a:ext cx="3124440" cy="22860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V="1">
            <a:off x="3200400" y="5486040"/>
            <a:ext cx="3124080" cy="22860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3657600" y="5486040"/>
            <a:ext cx="3124080" cy="22860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3886200" y="5409720"/>
            <a:ext cx="3124080" cy="22860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V="1">
            <a:off x="4191120" y="5333760"/>
            <a:ext cx="3124080" cy="22860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4495680" y="5257440"/>
            <a:ext cx="3124440" cy="22860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V="1">
            <a:off x="4648320" y="5181120"/>
            <a:ext cx="3124080" cy="22860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4876920" y="5105160"/>
            <a:ext cx="3124080" cy="22860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V="1">
            <a:off x="5029200" y="5028840"/>
            <a:ext cx="3124080" cy="22860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V="1">
            <a:off x="5257800" y="4952520"/>
            <a:ext cx="3124080" cy="22860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5638680" y="4876560"/>
            <a:ext cx="3124440" cy="22860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5715000" y="4800240"/>
            <a:ext cx="3124080" cy="22860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/>
          <p:nvPr/>
        </p:nvSpPr>
        <p:spPr>
          <a:xfrm>
            <a:off x="685800" y="149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RESOLUTION GRAPHIQUE D’UN PROBLEME DE STAT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8600" y="1292400"/>
            <a:ext cx="876312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>
            <a:hlinkClick r:id="" action="ppaction://hlinkshowjump?jump=nextslide"/>
          </p:cNvPr>
          <p:cNvSpPr/>
          <p:nvPr/>
        </p:nvSpPr>
        <p:spPr>
          <a:xfrm>
            <a:off x="8682120" y="6550200"/>
            <a:ext cx="457200" cy="304560"/>
          </a:xfrm>
          <a:custGeom>
            <a:avLst/>
            <a:gdLst>
              <a:gd name="textAreaLeft" fmla="*/ 64800 w 457200"/>
              <a:gd name="textAreaRight" fmla="*/ 392400 w 457200"/>
              <a:gd name="textAreaTop" fmla="*/ 64800 h 304560"/>
              <a:gd name="textAreaBottom" fmla="*/ 23976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27800" y="4613"/>
                </a:lnTo>
                <a:lnTo>
                  <a:pt x="4613" y="4613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27800" y="16987"/>
                </a:lnTo>
                <a:lnTo>
                  <a:pt x="27800" y="4613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4613" y="16987"/>
                </a:lnTo>
                <a:lnTo>
                  <a:pt x="27800" y="16987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4613" y="4613"/>
                </a:lnTo>
                <a:lnTo>
                  <a:pt x="4613" y="16987"/>
                </a:lnTo>
                <a:close/>
              </a:path>
              <a:path fill="darken" w="32413" h="21600">
                <a:moveTo>
                  <a:pt x="11595" y="6188"/>
                </a:moveTo>
                <a:lnTo>
                  <a:pt x="20818" y="10800"/>
                </a:lnTo>
                <a:lnTo>
                  <a:pt x="11595" y="15412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>
            <a:hlinkClick r:id="" action="ppaction://hlinkshowjump?jump=previousslide"/>
          </p:cNvPr>
          <p:cNvSpPr/>
          <p:nvPr/>
        </p:nvSpPr>
        <p:spPr>
          <a:xfrm>
            <a:off x="633240" y="6550200"/>
            <a:ext cx="457200" cy="304560"/>
          </a:xfrm>
          <a:custGeom>
            <a:avLst/>
            <a:gdLst>
              <a:gd name="textAreaLeft" fmla="*/ 60120 w 457200"/>
              <a:gd name="textAreaRight" fmla="*/ 397080 w 457200"/>
              <a:gd name="textAreaTop" fmla="*/ 60120 h 304560"/>
              <a:gd name="textAreaBottom" fmla="*/ 24444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28138" y="4275"/>
                </a:lnTo>
                <a:lnTo>
                  <a:pt x="4275" y="4275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28138" y="17325"/>
                </a:lnTo>
                <a:lnTo>
                  <a:pt x="28138" y="4275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4275" y="17325"/>
                </a:lnTo>
                <a:lnTo>
                  <a:pt x="28138" y="17325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4275" y="4275"/>
                </a:lnTo>
                <a:lnTo>
                  <a:pt x="4275" y="17325"/>
                </a:lnTo>
                <a:close/>
              </a:path>
              <a:path fill="darken" w="32413" h="21600">
                <a:moveTo>
                  <a:pt x="11343" y="10800"/>
                </a:moveTo>
                <a:lnTo>
                  <a:pt x="21070" y="5936"/>
                </a:lnTo>
                <a:lnTo>
                  <a:pt x="21070" y="15664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>
            <a:hlinkClick r:id="" action="ppaction://hlinkshowjump?jump=firstslide"/>
          </p:cNvPr>
          <p:cNvSpPr/>
          <p:nvPr/>
        </p:nvSpPr>
        <p:spPr>
          <a:xfrm>
            <a:off x="0" y="6550200"/>
            <a:ext cx="457200" cy="304560"/>
          </a:xfrm>
          <a:custGeom>
            <a:avLst/>
            <a:gdLst>
              <a:gd name="textAreaLeft" fmla="*/ 58680 w 457200"/>
              <a:gd name="textAreaRight" fmla="*/ 398520 w 457200"/>
              <a:gd name="textAreaTop" fmla="*/ 58680 h 304560"/>
              <a:gd name="textAreaBottom" fmla="*/ 24588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28250" y="4163"/>
                </a:lnTo>
                <a:lnTo>
                  <a:pt x="4163" y="4163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28250" y="17437"/>
                </a:lnTo>
                <a:lnTo>
                  <a:pt x="28250" y="4163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4163" y="17437"/>
                </a:lnTo>
                <a:lnTo>
                  <a:pt x="28250" y="17437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4163" y="4163"/>
                </a:lnTo>
                <a:lnTo>
                  <a:pt x="4163" y="17437"/>
                </a:lnTo>
                <a:close/>
              </a:path>
              <a:path fill="darken" w="32413" h="21600">
                <a:moveTo>
                  <a:pt x="13736" y="10800"/>
                </a:moveTo>
                <a:lnTo>
                  <a:pt x="21153" y="5853"/>
                </a:lnTo>
                <a:lnTo>
                  <a:pt x="21153" y="15747"/>
                </a:lnTo>
                <a:close/>
              </a:path>
              <a:path fill="darken" w="32413" h="21600">
                <a:moveTo>
                  <a:pt x="11259" y="5853"/>
                </a:moveTo>
                <a:lnTo>
                  <a:pt x="12433" y="5853"/>
                </a:lnTo>
                <a:lnTo>
                  <a:pt x="12433" y="15747"/>
                </a:lnTo>
                <a:lnTo>
                  <a:pt x="11259" y="15747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152280" y="1749600"/>
            <a:ext cx="5334120" cy="2438280"/>
            <a:chOff x="152280" y="1749600"/>
            <a:chExt cx="5334120" cy="2438280"/>
          </a:xfrm>
        </p:grpSpPr>
        <p:pic>
          <p:nvPicPr>
            <p:cNvPr id="708" name="3%20forces%20parallèles-2" descr=""/>
            <p:cNvPicPr/>
            <p:nvPr/>
          </p:nvPicPr>
          <p:blipFill>
            <a:blip r:embed="rId2"/>
            <a:srcRect l="0" t="8028" r="0" b="16550"/>
            <a:stretch/>
          </p:blipFill>
          <p:spPr>
            <a:xfrm>
              <a:off x="152280" y="1749600"/>
              <a:ext cx="533412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9" name=""/>
            <p:cNvSpPr/>
            <p:nvPr/>
          </p:nvSpPr>
          <p:spPr>
            <a:xfrm>
              <a:off x="1091880" y="3228480"/>
              <a:ext cx="219960" cy="387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309760" y="2916720"/>
              <a:ext cx="219960" cy="387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632120" y="3330000"/>
              <a:ext cx="221040" cy="387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2" name=""/>
          <p:cNvSpPr/>
          <p:nvPr/>
        </p:nvSpPr>
        <p:spPr>
          <a:xfrm>
            <a:off x="152280" y="12924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Comic Sans MS"/>
              </a:rPr>
              <a:t>Méthode de résolution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1371600" y="1901880"/>
            <a:ext cx="0" cy="4495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2533680" y="1901880"/>
            <a:ext cx="0" cy="4495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4495680" y="1901880"/>
            <a:ext cx="0" cy="4495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705720" y="3121200"/>
            <a:ext cx="0" cy="297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5715000" y="4441680"/>
            <a:ext cx="914040" cy="510120"/>
            <a:chOff x="5715000" y="4441680"/>
            <a:chExt cx="914040" cy="510120"/>
          </a:xfrm>
        </p:grpSpPr>
        <p:sp>
          <p:nvSpPr>
            <p:cNvPr id="718" name=""/>
            <p:cNvSpPr/>
            <p:nvPr/>
          </p:nvSpPr>
          <p:spPr>
            <a:xfrm>
              <a:off x="5715000" y="4441680"/>
              <a:ext cx="91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798160" y="4550760"/>
              <a:ext cx="748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8229600" y="4264200"/>
            <a:ext cx="762120" cy="761400"/>
            <a:chOff x="8229600" y="4264200"/>
            <a:chExt cx="762120" cy="761400"/>
          </a:xfrm>
        </p:grpSpPr>
        <p:sp>
          <p:nvSpPr>
            <p:cNvPr id="721" name=""/>
            <p:cNvSpPr/>
            <p:nvPr/>
          </p:nvSpPr>
          <p:spPr>
            <a:xfrm>
              <a:off x="8229600" y="4645080"/>
              <a:ext cx="380880" cy="380520"/>
            </a:xfrm>
            <a:prstGeom prst="plus">
              <a:avLst>
                <a:gd name="adj" fmla="val 50000"/>
              </a:avLst>
            </a:prstGeom>
            <a:solidFill>
              <a:srgbClr val="00cc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381880" y="426420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6553080" y="2970360"/>
            <a:ext cx="2133720" cy="2133360"/>
            <a:chOff x="6553080" y="2970360"/>
            <a:chExt cx="2133720" cy="2133360"/>
          </a:xfrm>
        </p:grpSpPr>
        <p:sp>
          <p:nvSpPr>
            <p:cNvPr id="724" name=""/>
            <p:cNvSpPr/>
            <p:nvPr/>
          </p:nvSpPr>
          <p:spPr>
            <a:xfrm>
              <a:off x="6553080" y="2970360"/>
              <a:ext cx="2133720" cy="21333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696080" y="396072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99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6553080" y="4644720"/>
            <a:ext cx="2133720" cy="1523880"/>
            <a:chOff x="6553080" y="4644720"/>
            <a:chExt cx="2133720" cy="1523880"/>
          </a:xfrm>
        </p:grpSpPr>
        <p:sp>
          <p:nvSpPr>
            <p:cNvPr id="727" name=""/>
            <p:cNvSpPr/>
            <p:nvPr/>
          </p:nvSpPr>
          <p:spPr>
            <a:xfrm flipV="1">
              <a:off x="6553080" y="4644720"/>
              <a:ext cx="2133720" cy="152388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543800" y="53308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1143000" y="4722840"/>
            <a:ext cx="2133720" cy="2133720"/>
            <a:chOff x="1143000" y="4722840"/>
            <a:chExt cx="2133720" cy="2133720"/>
          </a:xfrm>
        </p:grpSpPr>
        <p:sp>
          <p:nvSpPr>
            <p:cNvPr id="730" name=""/>
            <p:cNvSpPr/>
            <p:nvPr/>
          </p:nvSpPr>
          <p:spPr>
            <a:xfrm>
              <a:off x="1143000" y="4722840"/>
              <a:ext cx="2133720" cy="21337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286000" y="571356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99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2438280" y="4647960"/>
            <a:ext cx="2133720" cy="1523880"/>
            <a:chOff x="2438280" y="4647960"/>
            <a:chExt cx="2133720" cy="1523880"/>
          </a:xfrm>
        </p:grpSpPr>
        <p:sp>
          <p:nvSpPr>
            <p:cNvPr id="733" name=""/>
            <p:cNvSpPr/>
            <p:nvPr/>
          </p:nvSpPr>
          <p:spPr>
            <a:xfrm flipV="1">
              <a:off x="2438280" y="4647960"/>
              <a:ext cx="2133720" cy="152388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429000" y="53341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5" name=""/>
          <p:cNvSpPr/>
          <p:nvPr/>
        </p:nvSpPr>
        <p:spPr>
          <a:xfrm flipV="1">
            <a:off x="1371600" y="4723920"/>
            <a:ext cx="3124080" cy="22860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5715000" y="4800240"/>
            <a:ext cx="3124080" cy="22860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5638680" y="1444680"/>
            <a:ext cx="3505320" cy="993600"/>
            <a:chOff x="5638680" y="1444680"/>
            <a:chExt cx="3505320" cy="993600"/>
          </a:xfrm>
        </p:grpSpPr>
        <p:sp>
          <p:nvSpPr>
            <p:cNvPr id="738" name=""/>
            <p:cNvSpPr/>
            <p:nvPr/>
          </p:nvSpPr>
          <p:spPr>
            <a:xfrm>
              <a:off x="5638680" y="1444680"/>
              <a:ext cx="3505320" cy="9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990033"/>
                  </a:solidFill>
                  <a:latin typeface="Comic Sans MS"/>
                </a:rPr>
                <a:t>8. La somme vectorielle O</a:t>
              </a:r>
              <a:r>
                <a:rPr b="1" lang="fr-FR" sz="2000" spc="-1" strike="noStrike" baseline="-25000">
                  <a:solidFill>
                    <a:srgbClr val="990033"/>
                  </a:solidFill>
                  <a:latin typeface="Comic Sans MS"/>
                </a:rPr>
                <a:t>3</a:t>
              </a:r>
              <a:r>
                <a:rPr b="1" lang="fr-FR" sz="2000" spc="-1" strike="noStrike" baseline="-25000">
                  <a:solidFill>
                    <a:srgbClr val="990033"/>
                  </a:solidFill>
                  <a:latin typeface="Symbol"/>
                  <a:ea typeface="Symbol"/>
                </a:rPr>
                <a:t></a:t>
              </a:r>
              <a:r>
                <a:rPr b="1" lang="fr-FR" sz="2000" spc="-1" strike="noStrike" baseline="-25000">
                  <a:solidFill>
                    <a:srgbClr val="990033"/>
                  </a:solidFill>
                  <a:latin typeface="Comic Sans MS"/>
                </a:rPr>
                <a:t>2 </a:t>
              </a:r>
              <a:r>
                <a:rPr b="1" lang="fr-FR" sz="2000" spc="-1" strike="noStrike">
                  <a:solidFill>
                    <a:srgbClr val="990033"/>
                  </a:solidFill>
                  <a:latin typeface="Comic Sans MS"/>
                </a:rPr>
                <a:t>+ C</a:t>
              </a:r>
              <a:r>
                <a:rPr b="1" lang="fr-FR" sz="2000" spc="-1" strike="noStrike" baseline="-25000">
                  <a:solidFill>
                    <a:srgbClr val="990033"/>
                  </a:solidFill>
                  <a:latin typeface="Comic Sans MS"/>
                </a:rPr>
                <a:t>pièce</a:t>
              </a:r>
              <a:r>
                <a:rPr b="1" lang="fr-FR" sz="2000" spc="-1" strike="noStrike" baseline="-25000">
                  <a:solidFill>
                    <a:srgbClr val="990033"/>
                  </a:solidFill>
                  <a:latin typeface="Symbol"/>
                  <a:ea typeface="Symbol"/>
                </a:rPr>
                <a:t></a:t>
              </a:r>
              <a:r>
                <a:rPr b="1" lang="fr-FR" sz="2000" spc="-1" strike="noStrike" baseline="-25000">
                  <a:solidFill>
                    <a:srgbClr val="990033"/>
                  </a:solidFill>
                  <a:latin typeface="Comic Sans MS"/>
                </a:rPr>
                <a:t>2</a:t>
              </a:r>
              <a:r>
                <a:rPr b="1" lang="fr-FR" sz="2000" spc="-1" strike="noStrike">
                  <a:solidFill>
                    <a:srgbClr val="990033"/>
                  </a:solidFill>
                  <a:latin typeface="Comic Sans MS"/>
                </a:rPr>
                <a:t> + A</a:t>
              </a:r>
              <a:r>
                <a:rPr b="1" lang="fr-FR" sz="2000" spc="-1" strike="noStrike" baseline="-25000">
                  <a:solidFill>
                    <a:srgbClr val="990033"/>
                  </a:solidFill>
                  <a:latin typeface="Comic Sans MS"/>
                </a:rPr>
                <a:t>5</a:t>
              </a:r>
              <a:r>
                <a:rPr b="1" lang="fr-FR" sz="2000" spc="-1" strike="noStrike" baseline="-25000">
                  <a:solidFill>
                    <a:srgbClr val="990033"/>
                  </a:solidFill>
                  <a:latin typeface="Symbol"/>
                  <a:ea typeface="Symbol"/>
                </a:rPr>
                <a:t></a:t>
              </a:r>
              <a:r>
                <a:rPr b="1" lang="fr-FR" sz="2000" spc="-1" strike="noStrike" baseline="-25000">
                  <a:solidFill>
                    <a:srgbClr val="990033"/>
                  </a:solidFill>
                  <a:latin typeface="Comic Sans MS"/>
                </a:rPr>
                <a:t>2</a:t>
              </a:r>
              <a:r>
                <a:rPr b="1" lang="fr-FR" sz="2000" spc="-1" strike="noStrike">
                  <a:solidFill>
                    <a:srgbClr val="990033"/>
                  </a:solidFill>
                  <a:latin typeface="Comic Sans MS"/>
                </a:rPr>
                <a:t> = 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990033"/>
                  </a:solidFill>
                  <a:latin typeface="Comic Sans MS"/>
                </a:rPr>
                <a:t>donne le tracé suivant 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715000" y="1828800"/>
              <a:ext cx="609480" cy="0"/>
            </a:xfrm>
            <a:prstGeom prst="line">
              <a:avLst/>
            </a:prstGeom>
            <a:ln w="936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629400" y="1828800"/>
              <a:ext cx="762120" cy="0"/>
            </a:xfrm>
            <a:prstGeom prst="line">
              <a:avLst/>
            </a:prstGeom>
            <a:ln w="936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848720" y="1828800"/>
              <a:ext cx="533160" cy="0"/>
            </a:xfrm>
            <a:prstGeom prst="line">
              <a:avLst/>
            </a:prstGeom>
            <a:ln w="936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8686800" y="1828800"/>
              <a:ext cx="304920" cy="0"/>
            </a:xfrm>
            <a:prstGeom prst="line">
              <a:avLst/>
            </a:prstGeom>
            <a:ln w="936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3" name=""/>
          <p:cNvSpPr/>
          <p:nvPr/>
        </p:nvSpPr>
        <p:spPr>
          <a:xfrm flipV="1">
            <a:off x="6705720" y="4952520"/>
            <a:ext cx="0" cy="1143000"/>
          </a:xfrm>
          <a:prstGeom prst="line">
            <a:avLst/>
          </a:prstGeom>
          <a:ln w="7632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6705720" y="3124080"/>
            <a:ext cx="0" cy="1828800"/>
          </a:xfrm>
          <a:prstGeom prst="line">
            <a:avLst/>
          </a:prstGeom>
          <a:ln w="7632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/>
          <p:nvPr/>
        </p:nvSpPr>
        <p:spPr>
          <a:xfrm>
            <a:off x="685800" y="149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RESOLUTION GRAPHIQUE D’UN PROBLEME DE STAT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28600" y="1292400"/>
            <a:ext cx="876312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>
            <a:hlinkClick r:id="" action="ppaction://hlinkshowjump?jump=nextslide"/>
          </p:cNvPr>
          <p:cNvSpPr/>
          <p:nvPr/>
        </p:nvSpPr>
        <p:spPr>
          <a:xfrm>
            <a:off x="8682120" y="6550200"/>
            <a:ext cx="457200" cy="304560"/>
          </a:xfrm>
          <a:custGeom>
            <a:avLst/>
            <a:gdLst>
              <a:gd name="textAreaLeft" fmla="*/ 64800 w 457200"/>
              <a:gd name="textAreaRight" fmla="*/ 392400 w 457200"/>
              <a:gd name="textAreaTop" fmla="*/ 64800 h 304560"/>
              <a:gd name="textAreaBottom" fmla="*/ 23976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27800" y="4613"/>
                </a:lnTo>
                <a:lnTo>
                  <a:pt x="4613" y="4613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27800" y="16987"/>
                </a:lnTo>
                <a:lnTo>
                  <a:pt x="27800" y="4613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4613" y="16987"/>
                </a:lnTo>
                <a:lnTo>
                  <a:pt x="27800" y="16987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4613" y="4613"/>
                </a:lnTo>
                <a:lnTo>
                  <a:pt x="4613" y="16987"/>
                </a:lnTo>
                <a:close/>
              </a:path>
              <a:path fill="darken" w="32413" h="21600">
                <a:moveTo>
                  <a:pt x="11595" y="6188"/>
                </a:moveTo>
                <a:lnTo>
                  <a:pt x="20818" y="10800"/>
                </a:lnTo>
                <a:lnTo>
                  <a:pt x="11595" y="15412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>
            <a:hlinkClick r:id="" action="ppaction://hlinkshowjump?jump=previousslide"/>
          </p:cNvPr>
          <p:cNvSpPr/>
          <p:nvPr/>
        </p:nvSpPr>
        <p:spPr>
          <a:xfrm>
            <a:off x="633240" y="6550200"/>
            <a:ext cx="457200" cy="304560"/>
          </a:xfrm>
          <a:custGeom>
            <a:avLst/>
            <a:gdLst>
              <a:gd name="textAreaLeft" fmla="*/ 60120 w 457200"/>
              <a:gd name="textAreaRight" fmla="*/ 397080 w 457200"/>
              <a:gd name="textAreaTop" fmla="*/ 60120 h 304560"/>
              <a:gd name="textAreaBottom" fmla="*/ 24444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28138" y="4275"/>
                </a:lnTo>
                <a:lnTo>
                  <a:pt x="4275" y="4275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28138" y="17325"/>
                </a:lnTo>
                <a:lnTo>
                  <a:pt x="28138" y="4275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4275" y="17325"/>
                </a:lnTo>
                <a:lnTo>
                  <a:pt x="28138" y="17325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4275" y="4275"/>
                </a:lnTo>
                <a:lnTo>
                  <a:pt x="4275" y="17325"/>
                </a:lnTo>
                <a:close/>
              </a:path>
              <a:path fill="darken" w="32413" h="21600">
                <a:moveTo>
                  <a:pt x="11343" y="10800"/>
                </a:moveTo>
                <a:lnTo>
                  <a:pt x="21070" y="5936"/>
                </a:lnTo>
                <a:lnTo>
                  <a:pt x="21070" y="15664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>
            <a:hlinkClick r:id="" action="ppaction://hlinkshowjump?jump=firstslide"/>
          </p:cNvPr>
          <p:cNvSpPr/>
          <p:nvPr/>
        </p:nvSpPr>
        <p:spPr>
          <a:xfrm>
            <a:off x="0" y="6550200"/>
            <a:ext cx="457200" cy="304560"/>
          </a:xfrm>
          <a:custGeom>
            <a:avLst/>
            <a:gdLst>
              <a:gd name="textAreaLeft" fmla="*/ 58680 w 457200"/>
              <a:gd name="textAreaRight" fmla="*/ 398520 w 457200"/>
              <a:gd name="textAreaTop" fmla="*/ 58680 h 304560"/>
              <a:gd name="textAreaBottom" fmla="*/ 24588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28250" y="4163"/>
                </a:lnTo>
                <a:lnTo>
                  <a:pt x="4163" y="4163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28250" y="17437"/>
                </a:lnTo>
                <a:lnTo>
                  <a:pt x="28250" y="4163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4163" y="17437"/>
                </a:lnTo>
                <a:lnTo>
                  <a:pt x="28250" y="17437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4163" y="4163"/>
                </a:lnTo>
                <a:lnTo>
                  <a:pt x="4163" y="17437"/>
                </a:lnTo>
                <a:close/>
              </a:path>
              <a:path fill="darken" w="32413" h="21600">
                <a:moveTo>
                  <a:pt x="13736" y="10800"/>
                </a:moveTo>
                <a:lnTo>
                  <a:pt x="21153" y="5853"/>
                </a:lnTo>
                <a:lnTo>
                  <a:pt x="21153" y="15747"/>
                </a:lnTo>
                <a:close/>
              </a:path>
              <a:path fill="darken" w="32413" h="21600">
                <a:moveTo>
                  <a:pt x="11259" y="5853"/>
                </a:moveTo>
                <a:lnTo>
                  <a:pt x="12433" y="5853"/>
                </a:lnTo>
                <a:lnTo>
                  <a:pt x="12433" y="15747"/>
                </a:lnTo>
                <a:lnTo>
                  <a:pt x="11259" y="15747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152280" y="1749600"/>
            <a:ext cx="5334120" cy="2438280"/>
            <a:chOff x="152280" y="1749600"/>
            <a:chExt cx="5334120" cy="2438280"/>
          </a:xfrm>
        </p:grpSpPr>
        <p:pic>
          <p:nvPicPr>
            <p:cNvPr id="751" name="3%20forces%20parallèles-2" descr=""/>
            <p:cNvPicPr/>
            <p:nvPr/>
          </p:nvPicPr>
          <p:blipFill>
            <a:blip r:embed="rId2"/>
            <a:srcRect l="0" t="8028" r="0" b="16550"/>
            <a:stretch/>
          </p:blipFill>
          <p:spPr>
            <a:xfrm>
              <a:off x="152280" y="1749600"/>
              <a:ext cx="533412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2" name=""/>
            <p:cNvSpPr/>
            <p:nvPr/>
          </p:nvSpPr>
          <p:spPr>
            <a:xfrm>
              <a:off x="1091880" y="3228480"/>
              <a:ext cx="219960" cy="387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309760" y="2916720"/>
              <a:ext cx="219960" cy="387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632120" y="3330000"/>
              <a:ext cx="221040" cy="387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5" name=""/>
          <p:cNvSpPr/>
          <p:nvPr/>
        </p:nvSpPr>
        <p:spPr>
          <a:xfrm>
            <a:off x="152280" y="12924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Comic Sans MS"/>
              </a:rPr>
              <a:t>Méthode de résolution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flipV="1">
            <a:off x="1371600" y="1901880"/>
            <a:ext cx="0" cy="4495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2533680" y="1901880"/>
            <a:ext cx="0" cy="4495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4495680" y="1901880"/>
            <a:ext cx="0" cy="4495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705720" y="3121200"/>
            <a:ext cx="0" cy="297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8229600" y="4264200"/>
            <a:ext cx="762120" cy="761400"/>
            <a:chOff x="8229600" y="4264200"/>
            <a:chExt cx="762120" cy="761400"/>
          </a:xfrm>
        </p:grpSpPr>
        <p:sp>
          <p:nvSpPr>
            <p:cNvPr id="761" name=""/>
            <p:cNvSpPr/>
            <p:nvPr/>
          </p:nvSpPr>
          <p:spPr>
            <a:xfrm>
              <a:off x="8229600" y="4645080"/>
              <a:ext cx="380880" cy="380520"/>
            </a:xfrm>
            <a:prstGeom prst="plus">
              <a:avLst>
                <a:gd name="adj" fmla="val 50000"/>
              </a:avLst>
            </a:prstGeom>
            <a:solidFill>
              <a:srgbClr val="00cc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381880" y="426420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3" name=""/>
          <p:cNvGrpSpPr/>
          <p:nvPr/>
        </p:nvGrpSpPr>
        <p:grpSpPr>
          <a:xfrm>
            <a:off x="6553080" y="2970360"/>
            <a:ext cx="2133720" cy="2133360"/>
            <a:chOff x="6553080" y="2970360"/>
            <a:chExt cx="2133720" cy="2133360"/>
          </a:xfrm>
        </p:grpSpPr>
        <p:sp>
          <p:nvSpPr>
            <p:cNvPr id="764" name=""/>
            <p:cNvSpPr/>
            <p:nvPr/>
          </p:nvSpPr>
          <p:spPr>
            <a:xfrm>
              <a:off x="6553080" y="2970360"/>
              <a:ext cx="2133720" cy="21333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696080" y="396072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99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6" name=""/>
          <p:cNvGrpSpPr/>
          <p:nvPr/>
        </p:nvGrpSpPr>
        <p:grpSpPr>
          <a:xfrm>
            <a:off x="6553080" y="4644720"/>
            <a:ext cx="2133720" cy="1523880"/>
            <a:chOff x="6553080" y="4644720"/>
            <a:chExt cx="2133720" cy="1523880"/>
          </a:xfrm>
        </p:grpSpPr>
        <p:sp>
          <p:nvSpPr>
            <p:cNvPr id="767" name=""/>
            <p:cNvSpPr/>
            <p:nvPr/>
          </p:nvSpPr>
          <p:spPr>
            <a:xfrm flipV="1">
              <a:off x="6553080" y="4644720"/>
              <a:ext cx="2133720" cy="152388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543800" y="53308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9" name=""/>
          <p:cNvGrpSpPr/>
          <p:nvPr/>
        </p:nvGrpSpPr>
        <p:grpSpPr>
          <a:xfrm>
            <a:off x="1143000" y="4722840"/>
            <a:ext cx="2133720" cy="2133720"/>
            <a:chOff x="1143000" y="4722840"/>
            <a:chExt cx="2133720" cy="2133720"/>
          </a:xfrm>
        </p:grpSpPr>
        <p:sp>
          <p:nvSpPr>
            <p:cNvPr id="770" name=""/>
            <p:cNvSpPr/>
            <p:nvPr/>
          </p:nvSpPr>
          <p:spPr>
            <a:xfrm>
              <a:off x="1143000" y="4722840"/>
              <a:ext cx="2133720" cy="21337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286000" y="571356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99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2" name=""/>
          <p:cNvGrpSpPr/>
          <p:nvPr/>
        </p:nvGrpSpPr>
        <p:grpSpPr>
          <a:xfrm>
            <a:off x="2438280" y="4647960"/>
            <a:ext cx="2133720" cy="1523880"/>
            <a:chOff x="2438280" y="4647960"/>
            <a:chExt cx="2133720" cy="1523880"/>
          </a:xfrm>
        </p:grpSpPr>
        <p:sp>
          <p:nvSpPr>
            <p:cNvPr id="773" name=""/>
            <p:cNvSpPr/>
            <p:nvPr/>
          </p:nvSpPr>
          <p:spPr>
            <a:xfrm flipV="1">
              <a:off x="2438280" y="4647960"/>
              <a:ext cx="2133720" cy="152388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29000" y="53341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 flipV="1">
            <a:off x="1371600" y="4723920"/>
            <a:ext cx="3124080" cy="22860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V="1">
            <a:off x="5715000" y="4800240"/>
            <a:ext cx="3124080" cy="22860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638680" y="1444680"/>
            <a:ext cx="35053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Cette force est encadrée par le rayon polaire 2 et la ligne de fermet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6705720" y="4952520"/>
            <a:ext cx="0" cy="1143000"/>
          </a:xfrm>
          <a:prstGeom prst="line">
            <a:avLst/>
          </a:prstGeom>
          <a:ln w="7632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6705720" y="3124080"/>
            <a:ext cx="0" cy="1828800"/>
          </a:xfrm>
          <a:prstGeom prst="line">
            <a:avLst/>
          </a:prstGeom>
          <a:ln w="7632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V="1" rot="20820000">
            <a:off x="5105160" y="2286000"/>
            <a:ext cx="990360" cy="3657240"/>
          </a:xfrm>
          <a:custGeom>
            <a:avLst/>
            <a:gdLst>
              <a:gd name="textAreaLeft" fmla="*/ 132480 w 990360"/>
              <a:gd name="textAreaRight" fmla="*/ 857880 w 990360"/>
              <a:gd name="textAreaTop" fmla="*/ 745560 h 3657240"/>
              <a:gd name="textAreaBottom" fmla="*/ 2586600 h 365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813" stAng="-5400000" swAng="-5400000"/>
                <a:lnTo>
                  <a:pt x="0" y="10871"/>
                </a:lnTo>
                <a:arcTo wR="21600" hR="8813" stAng="10800000" swAng="-3452428"/>
                <a:lnTo>
                  <a:pt x="16174" y="21317"/>
                </a:lnTo>
                <a:lnTo>
                  <a:pt x="21600" y="18655"/>
                </a:lnTo>
                <a:lnTo>
                  <a:pt x="16174" y="15427"/>
                </a:lnTo>
                <a:lnTo>
                  <a:pt x="16174" y="17343"/>
                </a:lnTo>
                <a:arcTo wR="21600" hR="8813" stAng="7347572" swAng="3287656"/>
                <a:lnTo>
                  <a:pt x="148" y="9842"/>
                </a:lnTo>
                <a:arcTo wR="21600" hR="8813" stAng="-10635228" swAng="5235228"/>
                <a:close/>
              </a:path>
              <a:path fill="darkenLess" w="21600" h="21600">
                <a:moveTo>
                  <a:pt x="21600" y="0"/>
                </a:moveTo>
                <a:arcTo wR="21600" hR="8813" stAng="-5400000" swAng="-5400000"/>
                <a:lnTo>
                  <a:pt x="0" y="8813"/>
                </a:lnTo>
                <a:arcTo wR="21600" hR="8813" stAng="10800000" swAng="-164772"/>
                <a:lnTo>
                  <a:pt x="148" y="9842"/>
                </a:lnTo>
                <a:arcTo wR="21600" hR="8813" stAng="-10635228" swAng="5235228"/>
                <a:close/>
              </a:path>
            </a:pathLst>
          </a:cu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638680" y="1752480"/>
            <a:ext cx="35053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Le rayon polaire 2 et la ligne de fermeture se coupent sur la direction de la force en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029200" y="652140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Cliquer pour contin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191120" y="4419720"/>
            <a:ext cx="685800" cy="609480"/>
          </a:xfrm>
          <a:prstGeom prst="irregularSeal2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rot="8092200">
            <a:off x="4266720" y="3581280"/>
            <a:ext cx="2133720" cy="457200"/>
          </a:xfrm>
          <a:prstGeom prst="rightArrow">
            <a:avLst>
              <a:gd name="adj1" fmla="val 50000"/>
              <a:gd name="adj2" fmla="val 116673"/>
            </a:avLst>
          </a:pr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rot="1080000">
            <a:off x="4576680" y="4916160"/>
            <a:ext cx="1905120" cy="457200"/>
          </a:xfrm>
          <a:prstGeom prst="rightArrow">
            <a:avLst>
              <a:gd name="adj1" fmla="val 50000"/>
              <a:gd name="adj2" fmla="val 104173"/>
            </a:avLst>
          </a:pr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5638680" y="1600200"/>
            <a:ext cx="3505320" cy="838080"/>
            <a:chOff x="5638680" y="1600200"/>
            <a:chExt cx="3505320" cy="838080"/>
          </a:xfrm>
        </p:grpSpPr>
        <p:sp>
          <p:nvSpPr>
            <p:cNvPr id="787" name=""/>
            <p:cNvSpPr/>
            <p:nvPr/>
          </p:nvSpPr>
          <p:spPr>
            <a:xfrm>
              <a:off x="5638680" y="1600200"/>
              <a:ext cx="35053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Comic Sans MS"/>
                </a:rPr>
                <a:t>Cette force est donc 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Comic Sans MS"/>
                </a:rPr>
                <a:t>	</a:t>
              </a:r>
              <a:r>
                <a:rPr b="1" lang="en-US" sz="2000" spc="-1" strike="noStrike">
                  <a:solidFill>
                    <a:srgbClr val="990033"/>
                  </a:solidFill>
                  <a:latin typeface="Comic Sans MS"/>
                </a:rPr>
                <a:t>A</a:t>
              </a:r>
              <a:r>
                <a:rPr b="1" lang="en-US" sz="2000" spc="-1" strike="noStrike" baseline="-25000">
                  <a:solidFill>
                    <a:srgbClr val="990033"/>
                  </a:solidFill>
                  <a:latin typeface="Comic Sans MS"/>
                </a:rPr>
                <a:t>5</a:t>
              </a:r>
              <a:r>
                <a:rPr b="1" lang="en-US" sz="2000" spc="-1" strike="noStrike" baseline="-25000">
                  <a:solidFill>
                    <a:srgbClr val="990033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 baseline="-25000">
                  <a:solidFill>
                    <a:srgbClr val="990033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705720" y="2057040"/>
              <a:ext cx="380880" cy="0"/>
            </a:xfrm>
            <a:prstGeom prst="line">
              <a:avLst/>
            </a:prstGeom>
            <a:ln w="936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5638680" y="5562720"/>
            <a:ext cx="914400" cy="510120"/>
            <a:chOff x="5638680" y="5562720"/>
            <a:chExt cx="914400" cy="510120"/>
          </a:xfrm>
        </p:grpSpPr>
        <p:sp>
          <p:nvSpPr>
            <p:cNvPr id="790" name=""/>
            <p:cNvSpPr/>
            <p:nvPr/>
          </p:nvSpPr>
          <p:spPr>
            <a:xfrm>
              <a:off x="5638680" y="556272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Comic Sans MS"/>
                </a:rPr>
                <a:t>A</a:t>
              </a:r>
              <a:r>
                <a:rPr b="0" lang="en-US" sz="2400" spc="-1" strike="noStrike" baseline="-25000">
                  <a:solidFill>
                    <a:srgbClr val="660066"/>
                  </a:solidFill>
                  <a:latin typeface="Comic Sans MS"/>
                </a:rPr>
                <a:t>5</a:t>
              </a:r>
              <a:r>
                <a:rPr b="0" lang="en-US" sz="2400" spc="-1" strike="noStrike" baseline="-25000">
                  <a:solidFill>
                    <a:srgbClr val="660066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 baseline="-25000">
                  <a:solidFill>
                    <a:srgbClr val="660066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943600" y="5638680"/>
              <a:ext cx="609480" cy="0"/>
            </a:xfrm>
            <a:prstGeom prst="line">
              <a:avLst/>
            </a:prstGeom>
            <a:ln w="93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2" name=""/>
          <p:cNvSpPr/>
          <p:nvPr/>
        </p:nvSpPr>
        <p:spPr>
          <a:xfrm>
            <a:off x="5181480" y="651996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Cliquer pour contin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RESOLUTION GRAPHIQUE D’UN PROBLEME DE STAT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09680" y="1295280"/>
            <a:ext cx="4648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Comic Sans MS"/>
              </a:rPr>
              <a:t>PARAMET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1295280"/>
            <a:ext cx="876312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3%20forces%20parallèles" descr=""/>
          <p:cNvPicPr/>
          <p:nvPr/>
        </p:nvPicPr>
        <p:blipFill>
          <a:blip r:embed="rId2"/>
          <a:stretch/>
        </p:blipFill>
        <p:spPr>
          <a:xfrm>
            <a:off x="1371600" y="1882800"/>
            <a:ext cx="6781680" cy="4381560"/>
          </a:xfrm>
          <a:prstGeom prst="rect">
            <a:avLst/>
          </a:prstGeom>
          <a:ln w="0">
            <a:noFill/>
          </a:ln>
        </p:spPr>
      </p:pic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8682120" y="6553080"/>
            <a:ext cx="457200" cy="304920"/>
          </a:xfrm>
          <a:custGeom>
            <a:avLst/>
            <a:gdLst>
              <a:gd name="textAreaLeft" fmla="*/ 65160 w 457200"/>
              <a:gd name="textAreaRight" fmla="*/ 392040 w 457200"/>
              <a:gd name="textAreaTop" fmla="*/ 65160 h 304920"/>
              <a:gd name="textAreaBottom" fmla="*/ 23976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7762" y="4613"/>
                </a:lnTo>
                <a:lnTo>
                  <a:pt x="4613" y="4613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7762" y="16987"/>
                </a:lnTo>
                <a:lnTo>
                  <a:pt x="27762" y="4613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613" y="16987"/>
                </a:lnTo>
                <a:lnTo>
                  <a:pt x="27762" y="16987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613" y="4613"/>
                </a:lnTo>
                <a:lnTo>
                  <a:pt x="4613" y="16987"/>
                </a:lnTo>
                <a:close/>
              </a:path>
              <a:path fill="darken" w="32375" h="21600">
                <a:moveTo>
                  <a:pt x="11576" y="6188"/>
                </a:moveTo>
                <a:lnTo>
                  <a:pt x="20799" y="10800"/>
                </a:lnTo>
                <a:lnTo>
                  <a:pt x="11576" y="15412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543800" y="5432400"/>
            <a:ext cx="45720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82986"/>
              <a:gd name="adj5" fmla="val -314162"/>
              <a:gd name="adj6" fmla="val -146810"/>
            </a:avLst>
          </a:prstGeom>
          <a:solidFill>
            <a:srgbClr val="ffffcc"/>
          </a:solidFill>
          <a:ln w="38160">
            <a:solidFill>
              <a:srgbClr val="ff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91320" y="5410080"/>
            <a:ext cx="45720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111458"/>
              <a:gd name="adj5" fmla="val -439120"/>
              <a:gd name="adj6" fmla="val -190555"/>
            </a:avLst>
          </a:prstGeom>
          <a:solidFill>
            <a:srgbClr val="ffffcc"/>
          </a:solidFill>
          <a:ln w="38160">
            <a:solidFill>
              <a:srgbClr val="ff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39840" y="5460840"/>
            <a:ext cx="45720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241666"/>
              <a:gd name="adj5" fmla="val -310013"/>
              <a:gd name="adj6" fmla="val 373953"/>
            </a:avLst>
          </a:prstGeom>
          <a:solidFill>
            <a:srgbClr val="ffffcc"/>
          </a:solidFill>
          <a:ln w="38160">
            <a:solidFill>
              <a:srgbClr val="ff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" action="ppaction://hlinkshowjump?jump=previousslide"/>
          </p:cNvPr>
          <p:cNvSpPr/>
          <p:nvPr/>
        </p:nvSpPr>
        <p:spPr>
          <a:xfrm>
            <a:off x="722160" y="6553080"/>
            <a:ext cx="457200" cy="304920"/>
          </a:xfrm>
          <a:custGeom>
            <a:avLst/>
            <a:gdLst>
              <a:gd name="textAreaLeft" fmla="*/ 47520 w 457200"/>
              <a:gd name="textAreaRight" fmla="*/ 409680 w 457200"/>
              <a:gd name="textAreaTop" fmla="*/ 47520 h 304920"/>
              <a:gd name="textAreaBottom" fmla="*/ 25740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9000" y="3375"/>
                </a:lnTo>
                <a:lnTo>
                  <a:pt x="3375" y="3375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9000" y="18225"/>
                </a:lnTo>
                <a:lnTo>
                  <a:pt x="29000" y="3375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3375" y="18225"/>
                </a:lnTo>
                <a:lnTo>
                  <a:pt x="29000" y="18225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3375" y="3375"/>
                </a:lnTo>
                <a:lnTo>
                  <a:pt x="3375" y="18225"/>
                </a:lnTo>
                <a:close/>
              </a:path>
              <a:path fill="darken" w="32375" h="21600">
                <a:moveTo>
                  <a:pt x="10653" y="10800"/>
                </a:moveTo>
                <a:lnTo>
                  <a:pt x="21722" y="5266"/>
                </a:lnTo>
                <a:lnTo>
                  <a:pt x="21722" y="16334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"/>
          <p:cNvSpPr/>
          <p:nvPr/>
        </p:nvSpPr>
        <p:spPr>
          <a:xfrm>
            <a:off x="685800" y="147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RESOLUTION GRAPHIQUE D’UN PROBLEME DE STAT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28600" y="1290600"/>
            <a:ext cx="876312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>
            <a:hlinkClick r:id="" action="ppaction://hlinkshowjump?jump=nextslide"/>
          </p:cNvPr>
          <p:cNvSpPr/>
          <p:nvPr/>
        </p:nvSpPr>
        <p:spPr>
          <a:xfrm>
            <a:off x="8682120" y="6548400"/>
            <a:ext cx="457200" cy="304920"/>
          </a:xfrm>
          <a:custGeom>
            <a:avLst/>
            <a:gdLst>
              <a:gd name="textAreaLeft" fmla="*/ 65160 w 457200"/>
              <a:gd name="textAreaRight" fmla="*/ 392040 w 457200"/>
              <a:gd name="textAreaTop" fmla="*/ 65160 h 304920"/>
              <a:gd name="textAreaBottom" fmla="*/ 23976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7762" y="4613"/>
                </a:lnTo>
                <a:lnTo>
                  <a:pt x="4613" y="4613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7762" y="16987"/>
                </a:lnTo>
                <a:lnTo>
                  <a:pt x="27762" y="4613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613" y="16987"/>
                </a:lnTo>
                <a:lnTo>
                  <a:pt x="27762" y="16987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613" y="4613"/>
                </a:lnTo>
                <a:lnTo>
                  <a:pt x="4613" y="16987"/>
                </a:lnTo>
                <a:close/>
              </a:path>
              <a:path fill="darken" w="32375" h="21600">
                <a:moveTo>
                  <a:pt x="11576" y="6188"/>
                </a:moveTo>
                <a:lnTo>
                  <a:pt x="20799" y="10800"/>
                </a:lnTo>
                <a:lnTo>
                  <a:pt x="11576" y="15412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>
            <a:hlinkClick r:id="" action="ppaction://hlinkshowjump?jump=previousslide"/>
          </p:cNvPr>
          <p:cNvSpPr/>
          <p:nvPr/>
        </p:nvSpPr>
        <p:spPr>
          <a:xfrm>
            <a:off x="633240" y="6548400"/>
            <a:ext cx="457200" cy="304920"/>
          </a:xfrm>
          <a:custGeom>
            <a:avLst/>
            <a:gdLst>
              <a:gd name="textAreaLeft" fmla="*/ 60120 w 457200"/>
              <a:gd name="textAreaRight" fmla="*/ 397080 w 457200"/>
              <a:gd name="textAreaTop" fmla="*/ 60120 h 304920"/>
              <a:gd name="textAreaBottom" fmla="*/ 24480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8100" y="4275"/>
                </a:lnTo>
                <a:lnTo>
                  <a:pt x="4275" y="4275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8100" y="17325"/>
                </a:lnTo>
                <a:lnTo>
                  <a:pt x="28100" y="4275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275" y="17325"/>
                </a:lnTo>
                <a:lnTo>
                  <a:pt x="28100" y="17325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275" y="4275"/>
                </a:lnTo>
                <a:lnTo>
                  <a:pt x="4275" y="17325"/>
                </a:lnTo>
                <a:close/>
              </a:path>
              <a:path fill="darken" w="32375" h="21600">
                <a:moveTo>
                  <a:pt x="11324" y="10800"/>
                </a:moveTo>
                <a:lnTo>
                  <a:pt x="21051" y="5936"/>
                </a:lnTo>
                <a:lnTo>
                  <a:pt x="21051" y="15664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>
            <a:hlinkClick r:id="" action="ppaction://hlinkshowjump?jump=firstslide"/>
          </p:cNvPr>
          <p:cNvSpPr/>
          <p:nvPr/>
        </p:nvSpPr>
        <p:spPr>
          <a:xfrm>
            <a:off x="0" y="6548400"/>
            <a:ext cx="457200" cy="304920"/>
          </a:xfrm>
          <a:custGeom>
            <a:avLst/>
            <a:gdLst>
              <a:gd name="textAreaLeft" fmla="*/ 58680 w 457200"/>
              <a:gd name="textAreaRight" fmla="*/ 398520 w 457200"/>
              <a:gd name="textAreaTop" fmla="*/ 58680 h 304920"/>
              <a:gd name="textAreaBottom" fmla="*/ 24624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8212" y="4163"/>
                </a:lnTo>
                <a:lnTo>
                  <a:pt x="4163" y="4163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8212" y="17437"/>
                </a:lnTo>
                <a:lnTo>
                  <a:pt x="28212" y="4163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163" y="17437"/>
                </a:lnTo>
                <a:lnTo>
                  <a:pt x="28212" y="17437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163" y="4163"/>
                </a:lnTo>
                <a:lnTo>
                  <a:pt x="4163" y="17437"/>
                </a:lnTo>
                <a:close/>
              </a:path>
              <a:path fill="darken" w="32375" h="21600">
                <a:moveTo>
                  <a:pt x="13717" y="10800"/>
                </a:moveTo>
                <a:lnTo>
                  <a:pt x="21134" y="5853"/>
                </a:lnTo>
                <a:lnTo>
                  <a:pt x="21134" y="15747"/>
                </a:lnTo>
                <a:close/>
              </a:path>
              <a:path fill="darken" w="32375" h="21600">
                <a:moveTo>
                  <a:pt x="11240" y="5853"/>
                </a:moveTo>
                <a:lnTo>
                  <a:pt x="12414" y="5853"/>
                </a:lnTo>
                <a:lnTo>
                  <a:pt x="12414" y="15747"/>
                </a:lnTo>
                <a:lnTo>
                  <a:pt x="11240" y="15747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8" name=""/>
          <p:cNvGrpSpPr/>
          <p:nvPr/>
        </p:nvGrpSpPr>
        <p:grpSpPr>
          <a:xfrm>
            <a:off x="152280" y="1747800"/>
            <a:ext cx="5334120" cy="2438280"/>
            <a:chOff x="152280" y="1747800"/>
            <a:chExt cx="5334120" cy="2438280"/>
          </a:xfrm>
        </p:grpSpPr>
        <p:pic>
          <p:nvPicPr>
            <p:cNvPr id="799" name="3%20forces%20parallèles-2" descr=""/>
            <p:cNvPicPr/>
            <p:nvPr/>
          </p:nvPicPr>
          <p:blipFill>
            <a:blip r:embed="rId2"/>
            <a:srcRect l="0" t="8028" r="0" b="16550"/>
            <a:stretch/>
          </p:blipFill>
          <p:spPr>
            <a:xfrm>
              <a:off x="152280" y="1747800"/>
              <a:ext cx="533412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0" name=""/>
            <p:cNvSpPr/>
            <p:nvPr/>
          </p:nvSpPr>
          <p:spPr>
            <a:xfrm>
              <a:off x="1091880" y="3226680"/>
              <a:ext cx="219960" cy="387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309760" y="2914920"/>
              <a:ext cx="219960" cy="387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32120" y="3328200"/>
              <a:ext cx="221040" cy="387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"/>
          <p:cNvSpPr/>
          <p:nvPr/>
        </p:nvSpPr>
        <p:spPr>
          <a:xfrm>
            <a:off x="152280" y="12906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Comic Sans MS"/>
              </a:rPr>
              <a:t>Méthode de résolution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V="1">
            <a:off x="1371600" y="1899720"/>
            <a:ext cx="0" cy="4496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2533680" y="1899720"/>
            <a:ext cx="0" cy="4496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4495680" y="1899720"/>
            <a:ext cx="0" cy="4496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705720" y="3119400"/>
            <a:ext cx="0" cy="297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8" name=""/>
          <p:cNvGrpSpPr/>
          <p:nvPr/>
        </p:nvGrpSpPr>
        <p:grpSpPr>
          <a:xfrm>
            <a:off x="8229600" y="4262400"/>
            <a:ext cx="762120" cy="762120"/>
            <a:chOff x="8229600" y="4262400"/>
            <a:chExt cx="762120" cy="762120"/>
          </a:xfrm>
        </p:grpSpPr>
        <p:sp>
          <p:nvSpPr>
            <p:cNvPr id="809" name=""/>
            <p:cNvSpPr/>
            <p:nvPr/>
          </p:nvSpPr>
          <p:spPr>
            <a:xfrm>
              <a:off x="8229600" y="4643640"/>
              <a:ext cx="380880" cy="380880"/>
            </a:xfrm>
            <a:prstGeom prst="plus">
              <a:avLst>
                <a:gd name="adj" fmla="val 50000"/>
              </a:avLst>
            </a:prstGeom>
            <a:solidFill>
              <a:srgbClr val="00cc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8381880" y="426240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6553080" y="2968560"/>
            <a:ext cx="2133720" cy="2133720"/>
            <a:chOff x="6553080" y="2968560"/>
            <a:chExt cx="2133720" cy="2133720"/>
          </a:xfrm>
        </p:grpSpPr>
        <p:sp>
          <p:nvSpPr>
            <p:cNvPr id="812" name=""/>
            <p:cNvSpPr/>
            <p:nvPr/>
          </p:nvSpPr>
          <p:spPr>
            <a:xfrm>
              <a:off x="6553080" y="2968560"/>
              <a:ext cx="2133720" cy="21337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696080" y="39592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99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4" name=""/>
          <p:cNvGrpSpPr/>
          <p:nvPr/>
        </p:nvGrpSpPr>
        <p:grpSpPr>
          <a:xfrm>
            <a:off x="6553080" y="4642920"/>
            <a:ext cx="2133720" cy="1523880"/>
            <a:chOff x="6553080" y="4642920"/>
            <a:chExt cx="2133720" cy="1523880"/>
          </a:xfrm>
        </p:grpSpPr>
        <p:sp>
          <p:nvSpPr>
            <p:cNvPr id="815" name=""/>
            <p:cNvSpPr/>
            <p:nvPr/>
          </p:nvSpPr>
          <p:spPr>
            <a:xfrm flipV="1">
              <a:off x="6553080" y="4642920"/>
              <a:ext cx="2133720" cy="152388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543800" y="53290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"/>
          <p:cNvGrpSpPr/>
          <p:nvPr/>
        </p:nvGrpSpPr>
        <p:grpSpPr>
          <a:xfrm>
            <a:off x="1143000" y="4721400"/>
            <a:ext cx="2133720" cy="2133360"/>
            <a:chOff x="1143000" y="4721400"/>
            <a:chExt cx="2133720" cy="2133360"/>
          </a:xfrm>
        </p:grpSpPr>
        <p:sp>
          <p:nvSpPr>
            <p:cNvPr id="818" name=""/>
            <p:cNvSpPr/>
            <p:nvPr/>
          </p:nvSpPr>
          <p:spPr>
            <a:xfrm>
              <a:off x="1143000" y="4721400"/>
              <a:ext cx="2133720" cy="21333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286000" y="571176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99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2438280" y="4646160"/>
            <a:ext cx="2133720" cy="1523880"/>
            <a:chOff x="2438280" y="4646160"/>
            <a:chExt cx="2133720" cy="1523880"/>
          </a:xfrm>
        </p:grpSpPr>
        <p:sp>
          <p:nvSpPr>
            <p:cNvPr id="821" name=""/>
            <p:cNvSpPr/>
            <p:nvPr/>
          </p:nvSpPr>
          <p:spPr>
            <a:xfrm flipV="1">
              <a:off x="2438280" y="4646160"/>
              <a:ext cx="2133720" cy="152388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429000" y="53323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3" name=""/>
          <p:cNvSpPr/>
          <p:nvPr/>
        </p:nvSpPr>
        <p:spPr>
          <a:xfrm flipV="1">
            <a:off x="1371600" y="4722480"/>
            <a:ext cx="3124080" cy="22860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V="1">
            <a:off x="5715000" y="4798800"/>
            <a:ext cx="3124080" cy="22860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5638680" y="1442880"/>
            <a:ext cx="350532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Cette force est encadrée par le rayon polaire 1 et la ligne de fermet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V="1">
            <a:off x="6705720" y="4951080"/>
            <a:ext cx="0" cy="1143000"/>
          </a:xfrm>
          <a:prstGeom prst="line">
            <a:avLst/>
          </a:prstGeom>
          <a:ln w="7632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6705720" y="3122640"/>
            <a:ext cx="0" cy="1828800"/>
          </a:xfrm>
          <a:prstGeom prst="line">
            <a:avLst/>
          </a:prstGeom>
          <a:ln w="7632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 rot="20820000">
            <a:off x="5252760" y="2265480"/>
            <a:ext cx="657000" cy="2058480"/>
          </a:xfrm>
          <a:custGeom>
            <a:avLst/>
            <a:gdLst>
              <a:gd name="textAreaLeft" fmla="*/ 87840 w 657000"/>
              <a:gd name="textAreaRight" fmla="*/ 569160 w 657000"/>
              <a:gd name="textAreaTop" fmla="*/ 420120 h 2058480"/>
              <a:gd name="textAreaBottom" fmla="*/ 1456560 h 205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813" stAng="-5400000" swAng="-5400000"/>
                <a:lnTo>
                  <a:pt x="0" y="10871"/>
                </a:lnTo>
                <a:arcTo wR="21600" hR="8813" stAng="10800000" swAng="-3452428"/>
                <a:lnTo>
                  <a:pt x="16174" y="21317"/>
                </a:lnTo>
                <a:lnTo>
                  <a:pt x="21600" y="18655"/>
                </a:lnTo>
                <a:lnTo>
                  <a:pt x="16174" y="15427"/>
                </a:lnTo>
                <a:lnTo>
                  <a:pt x="16174" y="17343"/>
                </a:lnTo>
                <a:arcTo wR="21600" hR="8813" stAng="7347572" swAng="3287656"/>
                <a:lnTo>
                  <a:pt x="148" y="9842"/>
                </a:lnTo>
                <a:arcTo wR="21600" hR="8813" stAng="-10635228" swAng="5235228"/>
                <a:close/>
              </a:path>
              <a:path fill="darkenLess" w="21600" h="21600">
                <a:moveTo>
                  <a:pt x="21600" y="0"/>
                </a:moveTo>
                <a:arcTo wR="21600" hR="8813" stAng="-5400000" swAng="-5400000"/>
                <a:lnTo>
                  <a:pt x="0" y="8813"/>
                </a:lnTo>
                <a:arcTo wR="21600" hR="8813" stAng="10800000" swAng="-164772"/>
                <a:lnTo>
                  <a:pt x="148" y="9842"/>
                </a:lnTo>
                <a:arcTo wR="21600" hR="8813" stAng="-10635228" swAng="5235228"/>
                <a:close/>
              </a:path>
            </a:pathLst>
          </a:cu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5638680" y="1751040"/>
            <a:ext cx="35053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Le rayon polaire 1 et la ligne de fermeture se coupent sur la direction de la force en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029200" y="651996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Cliquer pour contin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066680" y="4648320"/>
            <a:ext cx="685800" cy="609480"/>
          </a:xfrm>
          <a:prstGeom prst="irregularSeal2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rot="9499800">
            <a:off x="1617120" y="3755880"/>
            <a:ext cx="4343400" cy="457200"/>
          </a:xfrm>
          <a:prstGeom prst="rightArrow">
            <a:avLst>
              <a:gd name="adj1" fmla="val 50000"/>
              <a:gd name="adj2" fmla="val 237500"/>
            </a:avLst>
          </a:pr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rot="20954400">
            <a:off x="1676160" y="4495320"/>
            <a:ext cx="4419360" cy="457200"/>
          </a:xfrm>
          <a:prstGeom prst="rightArrow">
            <a:avLst>
              <a:gd name="adj1" fmla="val 50000"/>
              <a:gd name="adj2" fmla="val 241654"/>
            </a:avLst>
          </a:pr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5638680" y="1676520"/>
            <a:ext cx="3504960" cy="838080"/>
            <a:chOff x="5638680" y="1676520"/>
            <a:chExt cx="3504960" cy="838080"/>
          </a:xfrm>
        </p:grpSpPr>
        <p:sp>
          <p:nvSpPr>
            <p:cNvPr id="835" name=""/>
            <p:cNvSpPr/>
            <p:nvPr/>
          </p:nvSpPr>
          <p:spPr>
            <a:xfrm>
              <a:off x="5638680" y="1676520"/>
              <a:ext cx="350496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990033"/>
                  </a:solidFill>
                  <a:latin typeface="Comic Sans MS"/>
                </a:rPr>
                <a:t>Cette force est donc 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990033"/>
                  </a:solidFill>
                  <a:latin typeface="Comic Sans MS"/>
                </a:rPr>
                <a:t>	</a:t>
              </a:r>
              <a:r>
                <a:rPr b="1" lang="fr-FR" sz="2000" spc="-1" strike="noStrike">
                  <a:solidFill>
                    <a:srgbClr val="990033"/>
                  </a:solidFill>
                  <a:latin typeface="Comic Sans MS"/>
                </a:rPr>
                <a:t>C</a:t>
              </a:r>
              <a:r>
                <a:rPr b="1" lang="fr-FR" sz="2000" spc="-1" strike="noStrike" baseline="-25000">
                  <a:solidFill>
                    <a:srgbClr val="990033"/>
                  </a:solidFill>
                  <a:latin typeface="Comic Sans MS"/>
                </a:rPr>
                <a:t>pièce</a:t>
              </a:r>
              <a:r>
                <a:rPr b="1" lang="fr-FR" sz="2000" spc="-1" strike="noStrike" baseline="-25000">
                  <a:solidFill>
                    <a:srgbClr val="990033"/>
                  </a:solidFill>
                  <a:latin typeface="Symbol"/>
                  <a:ea typeface="Symbol"/>
                </a:rPr>
                <a:t></a:t>
              </a:r>
              <a:r>
                <a:rPr b="1" lang="fr-FR" sz="2000" spc="-1" strike="noStrike" baseline="-25000">
                  <a:solidFill>
                    <a:srgbClr val="990033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705360" y="2133360"/>
              <a:ext cx="762120" cy="0"/>
            </a:xfrm>
            <a:prstGeom prst="line">
              <a:avLst/>
            </a:prstGeom>
            <a:ln w="936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5334120" y="4267080"/>
            <a:ext cx="1218960" cy="510120"/>
            <a:chOff x="5334120" y="4267080"/>
            <a:chExt cx="1218960" cy="510120"/>
          </a:xfrm>
        </p:grpSpPr>
        <p:sp>
          <p:nvSpPr>
            <p:cNvPr id="838" name=""/>
            <p:cNvSpPr/>
            <p:nvPr/>
          </p:nvSpPr>
          <p:spPr>
            <a:xfrm>
              <a:off x="5334120" y="4267080"/>
              <a:ext cx="1218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6600"/>
                  </a:solidFill>
                  <a:latin typeface="Comic Sans MS"/>
                </a:rPr>
                <a:t>C</a:t>
              </a:r>
              <a:r>
                <a:rPr b="0" lang="fr-FR" sz="2400" spc="-1" strike="noStrike" baseline="-25000">
                  <a:solidFill>
                    <a:srgbClr val="006600"/>
                  </a:solidFill>
                  <a:latin typeface="Comic Sans MS"/>
                </a:rPr>
                <a:t>pièce</a:t>
              </a:r>
              <a:r>
                <a:rPr b="0" lang="fr-FR" sz="2400" spc="-1" strike="noStrike" baseline="-25000">
                  <a:solidFill>
                    <a:srgbClr val="006600"/>
                  </a:solidFill>
                  <a:latin typeface="Symbol"/>
                  <a:ea typeface="Symbol"/>
                </a:rPr>
                <a:t></a:t>
              </a:r>
              <a:r>
                <a:rPr b="0" lang="fr-FR" sz="2400" spc="-1" strike="noStrike" baseline="-25000">
                  <a:solidFill>
                    <a:srgbClr val="0066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740560" y="4343400"/>
              <a:ext cx="812520" cy="0"/>
            </a:xfrm>
            <a:prstGeom prst="line">
              <a:avLst/>
            </a:prstGeom>
            <a:ln w="93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0" name=""/>
          <p:cNvSpPr/>
          <p:nvPr/>
        </p:nvSpPr>
        <p:spPr>
          <a:xfrm>
            <a:off x="5181480" y="651816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Cliquer pour contin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685800" y="147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RESOLUTION GRAPHIQUE D’UN PROBLEME DE STAT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28600" y="1290600"/>
            <a:ext cx="876312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>
            <a:hlinkClick r:id="" action="ppaction://hlinkshowjump?jump=nextslide"/>
          </p:cNvPr>
          <p:cNvSpPr/>
          <p:nvPr/>
        </p:nvSpPr>
        <p:spPr>
          <a:xfrm>
            <a:off x="8682120" y="6548400"/>
            <a:ext cx="457200" cy="304920"/>
          </a:xfrm>
          <a:custGeom>
            <a:avLst/>
            <a:gdLst>
              <a:gd name="textAreaLeft" fmla="*/ 65160 w 457200"/>
              <a:gd name="textAreaRight" fmla="*/ 392040 w 457200"/>
              <a:gd name="textAreaTop" fmla="*/ 65160 h 304920"/>
              <a:gd name="textAreaBottom" fmla="*/ 23976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7762" y="4613"/>
                </a:lnTo>
                <a:lnTo>
                  <a:pt x="4613" y="4613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7762" y="16987"/>
                </a:lnTo>
                <a:lnTo>
                  <a:pt x="27762" y="4613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613" y="16987"/>
                </a:lnTo>
                <a:lnTo>
                  <a:pt x="27762" y="16987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613" y="4613"/>
                </a:lnTo>
                <a:lnTo>
                  <a:pt x="4613" y="16987"/>
                </a:lnTo>
                <a:close/>
              </a:path>
              <a:path fill="darken" w="32375" h="21600">
                <a:moveTo>
                  <a:pt x="11576" y="6188"/>
                </a:moveTo>
                <a:lnTo>
                  <a:pt x="20799" y="10800"/>
                </a:lnTo>
                <a:lnTo>
                  <a:pt x="11576" y="15412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>
            <a:hlinkClick r:id="" action="ppaction://hlinkshowjump?jump=previousslide"/>
          </p:cNvPr>
          <p:cNvSpPr/>
          <p:nvPr/>
        </p:nvSpPr>
        <p:spPr>
          <a:xfrm>
            <a:off x="633240" y="6548400"/>
            <a:ext cx="457200" cy="304920"/>
          </a:xfrm>
          <a:custGeom>
            <a:avLst/>
            <a:gdLst>
              <a:gd name="textAreaLeft" fmla="*/ 60120 w 457200"/>
              <a:gd name="textAreaRight" fmla="*/ 397080 w 457200"/>
              <a:gd name="textAreaTop" fmla="*/ 60120 h 304920"/>
              <a:gd name="textAreaBottom" fmla="*/ 24480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8100" y="4275"/>
                </a:lnTo>
                <a:lnTo>
                  <a:pt x="4275" y="4275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8100" y="17325"/>
                </a:lnTo>
                <a:lnTo>
                  <a:pt x="28100" y="4275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275" y="17325"/>
                </a:lnTo>
                <a:lnTo>
                  <a:pt x="28100" y="17325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275" y="4275"/>
                </a:lnTo>
                <a:lnTo>
                  <a:pt x="4275" y="17325"/>
                </a:lnTo>
                <a:close/>
              </a:path>
              <a:path fill="darken" w="32375" h="21600">
                <a:moveTo>
                  <a:pt x="11324" y="10800"/>
                </a:moveTo>
                <a:lnTo>
                  <a:pt x="21051" y="5936"/>
                </a:lnTo>
                <a:lnTo>
                  <a:pt x="21051" y="15664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>
            <a:hlinkClick r:id="" action="ppaction://hlinkshowjump?jump=firstslide"/>
          </p:cNvPr>
          <p:cNvSpPr/>
          <p:nvPr/>
        </p:nvSpPr>
        <p:spPr>
          <a:xfrm>
            <a:off x="0" y="6548400"/>
            <a:ext cx="457200" cy="304920"/>
          </a:xfrm>
          <a:custGeom>
            <a:avLst/>
            <a:gdLst>
              <a:gd name="textAreaLeft" fmla="*/ 58680 w 457200"/>
              <a:gd name="textAreaRight" fmla="*/ 398520 w 457200"/>
              <a:gd name="textAreaTop" fmla="*/ 58680 h 304920"/>
              <a:gd name="textAreaBottom" fmla="*/ 24624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8212" y="4163"/>
                </a:lnTo>
                <a:lnTo>
                  <a:pt x="4163" y="4163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8212" y="17437"/>
                </a:lnTo>
                <a:lnTo>
                  <a:pt x="28212" y="4163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163" y="17437"/>
                </a:lnTo>
                <a:lnTo>
                  <a:pt x="28212" y="17437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163" y="4163"/>
                </a:lnTo>
                <a:lnTo>
                  <a:pt x="4163" y="17437"/>
                </a:lnTo>
                <a:close/>
              </a:path>
              <a:path fill="darken" w="32375" h="21600">
                <a:moveTo>
                  <a:pt x="13717" y="10800"/>
                </a:moveTo>
                <a:lnTo>
                  <a:pt x="21134" y="5853"/>
                </a:lnTo>
                <a:lnTo>
                  <a:pt x="21134" y="15747"/>
                </a:lnTo>
                <a:close/>
              </a:path>
              <a:path fill="darken" w="32375" h="21600">
                <a:moveTo>
                  <a:pt x="11240" y="5853"/>
                </a:moveTo>
                <a:lnTo>
                  <a:pt x="12414" y="5853"/>
                </a:lnTo>
                <a:lnTo>
                  <a:pt x="12414" y="15747"/>
                </a:lnTo>
                <a:lnTo>
                  <a:pt x="11240" y="15747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152280" y="1747800"/>
            <a:ext cx="5334120" cy="2438280"/>
            <a:chOff x="152280" y="1747800"/>
            <a:chExt cx="5334120" cy="2438280"/>
          </a:xfrm>
        </p:grpSpPr>
        <p:pic>
          <p:nvPicPr>
            <p:cNvPr id="847" name="3%20forces%20parallèles-2" descr=""/>
            <p:cNvPicPr/>
            <p:nvPr/>
          </p:nvPicPr>
          <p:blipFill>
            <a:blip r:embed="rId2"/>
            <a:srcRect l="0" t="8028" r="0" b="16550"/>
            <a:stretch/>
          </p:blipFill>
          <p:spPr>
            <a:xfrm>
              <a:off x="152280" y="1747800"/>
              <a:ext cx="533412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8" name=""/>
            <p:cNvSpPr/>
            <p:nvPr/>
          </p:nvSpPr>
          <p:spPr>
            <a:xfrm>
              <a:off x="1091880" y="3226680"/>
              <a:ext cx="219960" cy="387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309760" y="2914920"/>
              <a:ext cx="219960" cy="387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632120" y="3328200"/>
              <a:ext cx="221040" cy="387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1" name=""/>
          <p:cNvSpPr/>
          <p:nvPr/>
        </p:nvSpPr>
        <p:spPr>
          <a:xfrm>
            <a:off x="152280" y="12906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Comic Sans MS"/>
              </a:rPr>
              <a:t>Méthode de résolution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flipV="1">
            <a:off x="1371600" y="1899720"/>
            <a:ext cx="0" cy="4496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V="1">
            <a:off x="2533680" y="1899720"/>
            <a:ext cx="0" cy="4496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V="1">
            <a:off x="4495680" y="1899720"/>
            <a:ext cx="0" cy="4496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705720" y="3119400"/>
            <a:ext cx="0" cy="297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8229600" y="4262400"/>
            <a:ext cx="762120" cy="762120"/>
            <a:chOff x="8229600" y="4262400"/>
            <a:chExt cx="762120" cy="762120"/>
          </a:xfrm>
        </p:grpSpPr>
        <p:sp>
          <p:nvSpPr>
            <p:cNvPr id="857" name=""/>
            <p:cNvSpPr/>
            <p:nvPr/>
          </p:nvSpPr>
          <p:spPr>
            <a:xfrm>
              <a:off x="8229600" y="4643640"/>
              <a:ext cx="380880" cy="380880"/>
            </a:xfrm>
            <a:prstGeom prst="plus">
              <a:avLst>
                <a:gd name="adj" fmla="val 50000"/>
              </a:avLst>
            </a:prstGeom>
            <a:solidFill>
              <a:srgbClr val="00cc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8381880" y="426240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6553080" y="2968560"/>
            <a:ext cx="2133720" cy="2133720"/>
            <a:chOff x="6553080" y="2968560"/>
            <a:chExt cx="2133720" cy="2133720"/>
          </a:xfrm>
        </p:grpSpPr>
        <p:sp>
          <p:nvSpPr>
            <p:cNvPr id="860" name=""/>
            <p:cNvSpPr/>
            <p:nvPr/>
          </p:nvSpPr>
          <p:spPr>
            <a:xfrm>
              <a:off x="6553080" y="2968560"/>
              <a:ext cx="2133720" cy="21337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696080" y="39592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99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6553080" y="4642920"/>
            <a:ext cx="2133720" cy="1523880"/>
            <a:chOff x="6553080" y="4642920"/>
            <a:chExt cx="2133720" cy="1523880"/>
          </a:xfrm>
        </p:grpSpPr>
        <p:sp>
          <p:nvSpPr>
            <p:cNvPr id="863" name=""/>
            <p:cNvSpPr/>
            <p:nvPr/>
          </p:nvSpPr>
          <p:spPr>
            <a:xfrm flipV="1">
              <a:off x="6553080" y="4642920"/>
              <a:ext cx="2133720" cy="152388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543800" y="53290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5" name=""/>
          <p:cNvGrpSpPr/>
          <p:nvPr/>
        </p:nvGrpSpPr>
        <p:grpSpPr>
          <a:xfrm>
            <a:off x="1143000" y="4721400"/>
            <a:ext cx="2133720" cy="2133360"/>
            <a:chOff x="1143000" y="4721400"/>
            <a:chExt cx="2133720" cy="2133360"/>
          </a:xfrm>
        </p:grpSpPr>
        <p:sp>
          <p:nvSpPr>
            <p:cNvPr id="866" name=""/>
            <p:cNvSpPr/>
            <p:nvPr/>
          </p:nvSpPr>
          <p:spPr>
            <a:xfrm>
              <a:off x="1143000" y="4721400"/>
              <a:ext cx="2133720" cy="21333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286000" y="571176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99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2438280" y="4646160"/>
            <a:ext cx="2133720" cy="1523880"/>
            <a:chOff x="2438280" y="4646160"/>
            <a:chExt cx="2133720" cy="1523880"/>
          </a:xfrm>
        </p:grpSpPr>
        <p:sp>
          <p:nvSpPr>
            <p:cNvPr id="869" name=""/>
            <p:cNvSpPr/>
            <p:nvPr/>
          </p:nvSpPr>
          <p:spPr>
            <a:xfrm flipV="1">
              <a:off x="2438280" y="4646160"/>
              <a:ext cx="2133720" cy="152388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429000" y="53323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1" name=""/>
          <p:cNvSpPr/>
          <p:nvPr/>
        </p:nvSpPr>
        <p:spPr>
          <a:xfrm flipV="1">
            <a:off x="1371600" y="4722480"/>
            <a:ext cx="3124080" cy="22860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V="1">
            <a:off x="6705720" y="4798800"/>
            <a:ext cx="2133360" cy="15372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5486400" y="1447920"/>
            <a:ext cx="3657600" cy="16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9. Il suffit de mesurer et de convertir en fonction de l’échelle pour trouver l’intensité des deux v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V="1">
            <a:off x="6705720" y="4951080"/>
            <a:ext cx="0" cy="1143000"/>
          </a:xfrm>
          <a:prstGeom prst="line">
            <a:avLst/>
          </a:prstGeom>
          <a:ln w="7632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6705720" y="3122640"/>
            <a:ext cx="0" cy="1828800"/>
          </a:xfrm>
          <a:prstGeom prst="line">
            <a:avLst/>
          </a:prstGeom>
          <a:ln w="7632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4952880" y="4267080"/>
            <a:ext cx="1218960" cy="510120"/>
            <a:chOff x="4952880" y="4267080"/>
            <a:chExt cx="1218960" cy="510120"/>
          </a:xfrm>
        </p:grpSpPr>
        <p:sp>
          <p:nvSpPr>
            <p:cNvPr id="877" name=""/>
            <p:cNvSpPr/>
            <p:nvPr/>
          </p:nvSpPr>
          <p:spPr>
            <a:xfrm>
              <a:off x="4952880" y="4267080"/>
              <a:ext cx="1218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6600"/>
                  </a:solidFill>
                  <a:latin typeface="Comic Sans MS"/>
                </a:rPr>
                <a:t>C</a:t>
              </a:r>
              <a:r>
                <a:rPr b="1" lang="fr-FR" sz="2400" spc="-1" strike="noStrike" baseline="-25000">
                  <a:solidFill>
                    <a:srgbClr val="006600"/>
                  </a:solidFill>
                  <a:latin typeface="Comic Sans MS"/>
                </a:rPr>
                <a:t>pièce</a:t>
              </a:r>
              <a:r>
                <a:rPr b="1" lang="fr-FR" sz="2400" spc="-1" strike="noStrike" baseline="-25000">
                  <a:solidFill>
                    <a:srgbClr val="006600"/>
                  </a:solidFill>
                  <a:latin typeface="Symbol"/>
                  <a:ea typeface="Symbol"/>
                </a:rPr>
                <a:t></a:t>
              </a:r>
              <a:r>
                <a:rPr b="1" lang="fr-FR" sz="2400" spc="-1" strike="noStrike" baseline="-25000">
                  <a:solidFill>
                    <a:srgbClr val="0066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359320" y="4343400"/>
              <a:ext cx="812520" cy="0"/>
            </a:xfrm>
            <a:prstGeom prst="line">
              <a:avLst/>
            </a:prstGeom>
            <a:ln w="93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5181480" y="5562720"/>
            <a:ext cx="914400" cy="510120"/>
            <a:chOff x="5181480" y="5562720"/>
            <a:chExt cx="914400" cy="510120"/>
          </a:xfrm>
        </p:grpSpPr>
        <p:sp>
          <p:nvSpPr>
            <p:cNvPr id="880" name=""/>
            <p:cNvSpPr/>
            <p:nvPr/>
          </p:nvSpPr>
          <p:spPr>
            <a:xfrm>
              <a:off x="5181480" y="556272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Comic Sans MS"/>
                </a:rPr>
                <a:t>A</a:t>
              </a:r>
              <a:r>
                <a:rPr b="1" lang="en-US" sz="2400" spc="-1" strike="noStrike" baseline="-25000">
                  <a:solidFill>
                    <a:srgbClr val="660066"/>
                  </a:solidFill>
                  <a:latin typeface="Comic Sans MS"/>
                </a:rPr>
                <a:t>5</a:t>
              </a:r>
              <a:r>
                <a:rPr b="1" lang="en-US" sz="2400" spc="-1" strike="noStrike" baseline="-25000">
                  <a:solidFill>
                    <a:srgbClr val="660066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 baseline="-25000">
                  <a:solidFill>
                    <a:srgbClr val="660066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486400" y="5638680"/>
              <a:ext cx="609480" cy="0"/>
            </a:xfrm>
            <a:prstGeom prst="line">
              <a:avLst/>
            </a:prstGeom>
            <a:ln w="93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2" name=""/>
          <p:cNvSpPr/>
          <p:nvPr/>
        </p:nvSpPr>
        <p:spPr>
          <a:xfrm flipV="1">
            <a:off x="6629400" y="4952520"/>
            <a:ext cx="0" cy="1143000"/>
          </a:xfrm>
          <a:prstGeom prst="line">
            <a:avLst/>
          </a:prstGeom>
          <a:ln w="7632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 flipV="1">
            <a:off x="6553080" y="4952520"/>
            <a:ext cx="0" cy="1143000"/>
          </a:xfrm>
          <a:prstGeom prst="line">
            <a:avLst/>
          </a:prstGeom>
          <a:ln w="7632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V="1">
            <a:off x="6477120" y="4952520"/>
            <a:ext cx="0" cy="1143000"/>
          </a:xfrm>
          <a:prstGeom prst="line">
            <a:avLst/>
          </a:prstGeom>
          <a:ln w="7632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 flipV="1">
            <a:off x="6400800" y="4952520"/>
            <a:ext cx="0" cy="1143000"/>
          </a:xfrm>
          <a:prstGeom prst="line">
            <a:avLst/>
          </a:prstGeom>
          <a:ln w="7632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 flipV="1">
            <a:off x="6324480" y="4952520"/>
            <a:ext cx="0" cy="1143000"/>
          </a:xfrm>
          <a:prstGeom prst="line">
            <a:avLst/>
          </a:prstGeom>
          <a:ln w="7632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 flipV="1">
            <a:off x="6248520" y="4952520"/>
            <a:ext cx="0" cy="1143000"/>
          </a:xfrm>
          <a:prstGeom prst="line">
            <a:avLst/>
          </a:prstGeom>
          <a:ln w="7632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6171840" y="4952880"/>
            <a:ext cx="609480" cy="1143000"/>
            <a:chOff x="6171840" y="4952880"/>
            <a:chExt cx="609480" cy="1143000"/>
          </a:xfrm>
        </p:grpSpPr>
        <p:sp>
          <p:nvSpPr>
            <p:cNvPr id="889" name=""/>
            <p:cNvSpPr/>
            <p:nvPr/>
          </p:nvSpPr>
          <p:spPr>
            <a:xfrm flipH="1">
              <a:off x="6171840" y="609588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6171840" y="495288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1" name=""/>
          <p:cNvSpPr/>
          <p:nvPr/>
        </p:nvSpPr>
        <p:spPr>
          <a:xfrm flipV="1">
            <a:off x="6629400" y="3124080"/>
            <a:ext cx="0" cy="1828800"/>
          </a:xfrm>
          <a:prstGeom prst="line">
            <a:avLst/>
          </a:prstGeom>
          <a:ln w="7632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V="1">
            <a:off x="6553080" y="3124080"/>
            <a:ext cx="0" cy="1828800"/>
          </a:xfrm>
          <a:prstGeom prst="line">
            <a:avLst/>
          </a:prstGeom>
          <a:ln w="7632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V="1">
            <a:off x="6477120" y="3124080"/>
            <a:ext cx="0" cy="1828800"/>
          </a:xfrm>
          <a:prstGeom prst="line">
            <a:avLst/>
          </a:prstGeom>
          <a:ln w="7632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 flipV="1">
            <a:off x="6400800" y="3124080"/>
            <a:ext cx="0" cy="1828800"/>
          </a:xfrm>
          <a:prstGeom prst="line">
            <a:avLst/>
          </a:prstGeom>
          <a:ln w="7632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V="1">
            <a:off x="6324480" y="3124080"/>
            <a:ext cx="0" cy="1828800"/>
          </a:xfrm>
          <a:prstGeom prst="line">
            <a:avLst/>
          </a:prstGeom>
          <a:ln w="7632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V="1">
            <a:off x="6248520" y="3124080"/>
            <a:ext cx="0" cy="1828800"/>
          </a:xfrm>
          <a:prstGeom prst="line">
            <a:avLst/>
          </a:prstGeom>
          <a:ln w="7632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H="1">
            <a:off x="6171840" y="31240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6781680" y="4419720"/>
            <a:ext cx="914040" cy="510120"/>
            <a:chOff x="6781680" y="4419720"/>
            <a:chExt cx="914040" cy="510120"/>
          </a:xfrm>
        </p:grpSpPr>
        <p:sp>
          <p:nvSpPr>
            <p:cNvPr id="899" name=""/>
            <p:cNvSpPr/>
            <p:nvPr/>
          </p:nvSpPr>
          <p:spPr>
            <a:xfrm>
              <a:off x="6781680" y="4419720"/>
              <a:ext cx="91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864840" y="4528800"/>
              <a:ext cx="748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685800" y="147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RESOLUTION GRAPHIQUE D’UN PROBLEME DE STAT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28600" y="1290600"/>
            <a:ext cx="876312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>
            <a:hlinkClick r:id="" action="ppaction://hlinkshowjump?jump=nextslide"/>
          </p:cNvPr>
          <p:cNvSpPr/>
          <p:nvPr/>
        </p:nvSpPr>
        <p:spPr>
          <a:xfrm>
            <a:off x="8682120" y="6548400"/>
            <a:ext cx="457200" cy="304920"/>
          </a:xfrm>
          <a:custGeom>
            <a:avLst/>
            <a:gdLst>
              <a:gd name="textAreaLeft" fmla="*/ 65160 w 457200"/>
              <a:gd name="textAreaRight" fmla="*/ 392040 w 457200"/>
              <a:gd name="textAreaTop" fmla="*/ 65160 h 304920"/>
              <a:gd name="textAreaBottom" fmla="*/ 23976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7762" y="4613"/>
                </a:lnTo>
                <a:lnTo>
                  <a:pt x="4613" y="4613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7762" y="16987"/>
                </a:lnTo>
                <a:lnTo>
                  <a:pt x="27762" y="4613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613" y="16987"/>
                </a:lnTo>
                <a:lnTo>
                  <a:pt x="27762" y="16987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613" y="4613"/>
                </a:lnTo>
                <a:lnTo>
                  <a:pt x="4613" y="16987"/>
                </a:lnTo>
                <a:close/>
              </a:path>
              <a:path fill="darken" w="32375" h="21600">
                <a:moveTo>
                  <a:pt x="11576" y="6188"/>
                </a:moveTo>
                <a:lnTo>
                  <a:pt x="20799" y="10800"/>
                </a:lnTo>
                <a:lnTo>
                  <a:pt x="11576" y="15412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>
            <a:hlinkClick r:id="" action="ppaction://hlinkshowjump?jump=previousslide"/>
          </p:cNvPr>
          <p:cNvSpPr/>
          <p:nvPr/>
        </p:nvSpPr>
        <p:spPr>
          <a:xfrm>
            <a:off x="633240" y="6548400"/>
            <a:ext cx="457200" cy="304920"/>
          </a:xfrm>
          <a:custGeom>
            <a:avLst/>
            <a:gdLst>
              <a:gd name="textAreaLeft" fmla="*/ 60120 w 457200"/>
              <a:gd name="textAreaRight" fmla="*/ 397080 w 457200"/>
              <a:gd name="textAreaTop" fmla="*/ 60120 h 304920"/>
              <a:gd name="textAreaBottom" fmla="*/ 24480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8100" y="4275"/>
                </a:lnTo>
                <a:lnTo>
                  <a:pt x="4275" y="4275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8100" y="17325"/>
                </a:lnTo>
                <a:lnTo>
                  <a:pt x="28100" y="4275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275" y="17325"/>
                </a:lnTo>
                <a:lnTo>
                  <a:pt x="28100" y="17325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275" y="4275"/>
                </a:lnTo>
                <a:lnTo>
                  <a:pt x="4275" y="17325"/>
                </a:lnTo>
                <a:close/>
              </a:path>
              <a:path fill="darken" w="32375" h="21600">
                <a:moveTo>
                  <a:pt x="11324" y="10800"/>
                </a:moveTo>
                <a:lnTo>
                  <a:pt x="21051" y="5936"/>
                </a:lnTo>
                <a:lnTo>
                  <a:pt x="21051" y="15664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>
            <a:hlinkClick r:id="" action="ppaction://hlinkshowjump?jump=firstslide"/>
          </p:cNvPr>
          <p:cNvSpPr/>
          <p:nvPr/>
        </p:nvSpPr>
        <p:spPr>
          <a:xfrm>
            <a:off x="0" y="6548400"/>
            <a:ext cx="457200" cy="304920"/>
          </a:xfrm>
          <a:custGeom>
            <a:avLst/>
            <a:gdLst>
              <a:gd name="textAreaLeft" fmla="*/ 58680 w 457200"/>
              <a:gd name="textAreaRight" fmla="*/ 398520 w 457200"/>
              <a:gd name="textAreaTop" fmla="*/ 58680 h 304920"/>
              <a:gd name="textAreaBottom" fmla="*/ 24624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8212" y="4163"/>
                </a:lnTo>
                <a:lnTo>
                  <a:pt x="4163" y="4163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8212" y="17437"/>
                </a:lnTo>
                <a:lnTo>
                  <a:pt x="28212" y="4163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163" y="17437"/>
                </a:lnTo>
                <a:lnTo>
                  <a:pt x="28212" y="17437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163" y="4163"/>
                </a:lnTo>
                <a:lnTo>
                  <a:pt x="4163" y="17437"/>
                </a:lnTo>
                <a:close/>
              </a:path>
              <a:path fill="darken" w="32375" h="21600">
                <a:moveTo>
                  <a:pt x="13717" y="10800"/>
                </a:moveTo>
                <a:lnTo>
                  <a:pt x="21134" y="5853"/>
                </a:lnTo>
                <a:lnTo>
                  <a:pt x="21134" y="15747"/>
                </a:lnTo>
                <a:close/>
              </a:path>
              <a:path fill="darken" w="32375" h="21600">
                <a:moveTo>
                  <a:pt x="11240" y="5853"/>
                </a:moveTo>
                <a:lnTo>
                  <a:pt x="12414" y="5853"/>
                </a:lnTo>
                <a:lnTo>
                  <a:pt x="12414" y="15747"/>
                </a:lnTo>
                <a:lnTo>
                  <a:pt x="11240" y="15747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152280" y="1747800"/>
            <a:ext cx="5334120" cy="2438280"/>
            <a:chOff x="152280" y="1747800"/>
            <a:chExt cx="5334120" cy="2438280"/>
          </a:xfrm>
        </p:grpSpPr>
        <p:pic>
          <p:nvPicPr>
            <p:cNvPr id="907" name="3%20forces%20parallèles-2" descr=""/>
            <p:cNvPicPr/>
            <p:nvPr/>
          </p:nvPicPr>
          <p:blipFill>
            <a:blip r:embed="rId2"/>
            <a:srcRect l="0" t="8028" r="0" b="16550"/>
            <a:stretch/>
          </p:blipFill>
          <p:spPr>
            <a:xfrm>
              <a:off x="152280" y="1747800"/>
              <a:ext cx="533412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8" name=""/>
            <p:cNvSpPr/>
            <p:nvPr/>
          </p:nvSpPr>
          <p:spPr>
            <a:xfrm>
              <a:off x="1091880" y="3226680"/>
              <a:ext cx="219960" cy="387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309760" y="2914920"/>
              <a:ext cx="219960" cy="387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632120" y="3328200"/>
              <a:ext cx="221040" cy="387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152280" y="12906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Comic Sans MS"/>
              </a:rPr>
              <a:t>Méthode de résolution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flipV="1">
            <a:off x="1371600" y="1899720"/>
            <a:ext cx="0" cy="4496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 flipV="1">
            <a:off x="2533680" y="1899720"/>
            <a:ext cx="0" cy="4496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flipV="1">
            <a:off x="4495680" y="1899720"/>
            <a:ext cx="0" cy="4496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6705720" y="3119400"/>
            <a:ext cx="0" cy="297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6" name=""/>
          <p:cNvGrpSpPr/>
          <p:nvPr/>
        </p:nvGrpSpPr>
        <p:grpSpPr>
          <a:xfrm>
            <a:off x="8229600" y="4262400"/>
            <a:ext cx="762120" cy="762120"/>
            <a:chOff x="8229600" y="4262400"/>
            <a:chExt cx="762120" cy="762120"/>
          </a:xfrm>
        </p:grpSpPr>
        <p:sp>
          <p:nvSpPr>
            <p:cNvPr id="917" name=""/>
            <p:cNvSpPr/>
            <p:nvPr/>
          </p:nvSpPr>
          <p:spPr>
            <a:xfrm>
              <a:off x="8229600" y="4643640"/>
              <a:ext cx="380880" cy="380880"/>
            </a:xfrm>
            <a:prstGeom prst="plus">
              <a:avLst>
                <a:gd name="adj" fmla="val 50000"/>
              </a:avLst>
            </a:prstGeom>
            <a:solidFill>
              <a:srgbClr val="00cc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381880" y="426240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9" name=""/>
          <p:cNvGrpSpPr/>
          <p:nvPr/>
        </p:nvGrpSpPr>
        <p:grpSpPr>
          <a:xfrm>
            <a:off x="6553080" y="2968560"/>
            <a:ext cx="2133720" cy="2133720"/>
            <a:chOff x="6553080" y="2968560"/>
            <a:chExt cx="2133720" cy="2133720"/>
          </a:xfrm>
        </p:grpSpPr>
        <p:sp>
          <p:nvSpPr>
            <p:cNvPr id="920" name=""/>
            <p:cNvSpPr/>
            <p:nvPr/>
          </p:nvSpPr>
          <p:spPr>
            <a:xfrm>
              <a:off x="6553080" y="2968560"/>
              <a:ext cx="2133720" cy="21337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696080" y="39592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99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2" name=""/>
          <p:cNvGrpSpPr/>
          <p:nvPr/>
        </p:nvGrpSpPr>
        <p:grpSpPr>
          <a:xfrm>
            <a:off x="6553080" y="4642920"/>
            <a:ext cx="2133720" cy="1523880"/>
            <a:chOff x="6553080" y="4642920"/>
            <a:chExt cx="2133720" cy="1523880"/>
          </a:xfrm>
        </p:grpSpPr>
        <p:sp>
          <p:nvSpPr>
            <p:cNvPr id="923" name=""/>
            <p:cNvSpPr/>
            <p:nvPr/>
          </p:nvSpPr>
          <p:spPr>
            <a:xfrm flipV="1">
              <a:off x="6553080" y="4642920"/>
              <a:ext cx="2133720" cy="152388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543800" y="53290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1143000" y="4721400"/>
            <a:ext cx="2133720" cy="2133360"/>
            <a:chOff x="1143000" y="4721400"/>
            <a:chExt cx="2133720" cy="2133360"/>
          </a:xfrm>
        </p:grpSpPr>
        <p:sp>
          <p:nvSpPr>
            <p:cNvPr id="926" name=""/>
            <p:cNvSpPr/>
            <p:nvPr/>
          </p:nvSpPr>
          <p:spPr>
            <a:xfrm>
              <a:off x="1143000" y="4721400"/>
              <a:ext cx="2133720" cy="21333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286000" y="571176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99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8" name=""/>
          <p:cNvGrpSpPr/>
          <p:nvPr/>
        </p:nvGrpSpPr>
        <p:grpSpPr>
          <a:xfrm>
            <a:off x="2438280" y="4646160"/>
            <a:ext cx="2133720" cy="1523880"/>
            <a:chOff x="2438280" y="4646160"/>
            <a:chExt cx="2133720" cy="1523880"/>
          </a:xfrm>
        </p:grpSpPr>
        <p:sp>
          <p:nvSpPr>
            <p:cNvPr id="929" name=""/>
            <p:cNvSpPr/>
            <p:nvPr/>
          </p:nvSpPr>
          <p:spPr>
            <a:xfrm flipV="1">
              <a:off x="2438280" y="4646160"/>
              <a:ext cx="2133720" cy="152388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429000" y="53323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1" name=""/>
          <p:cNvSpPr/>
          <p:nvPr/>
        </p:nvSpPr>
        <p:spPr>
          <a:xfrm flipV="1">
            <a:off x="1371600" y="4722480"/>
            <a:ext cx="3124080" cy="22860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V="1">
            <a:off x="6705720" y="4798800"/>
            <a:ext cx="2133360" cy="15372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486400" y="1447920"/>
            <a:ext cx="1981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0033"/>
                </a:solidFill>
                <a:latin typeface="Comic Sans MS"/>
              </a:rPr>
              <a:t>10. On trou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4952880" y="4267080"/>
            <a:ext cx="1218960" cy="510120"/>
            <a:chOff x="4952880" y="4267080"/>
            <a:chExt cx="1218960" cy="510120"/>
          </a:xfrm>
        </p:grpSpPr>
        <p:sp>
          <p:nvSpPr>
            <p:cNvPr id="935" name=""/>
            <p:cNvSpPr/>
            <p:nvPr/>
          </p:nvSpPr>
          <p:spPr>
            <a:xfrm>
              <a:off x="4952880" y="4267080"/>
              <a:ext cx="1218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6600"/>
                  </a:solidFill>
                  <a:latin typeface="Comic Sans MS"/>
                </a:rPr>
                <a:t>C</a:t>
              </a:r>
              <a:r>
                <a:rPr b="1" lang="fr-FR" sz="2400" spc="-1" strike="noStrike" baseline="-25000">
                  <a:solidFill>
                    <a:srgbClr val="006600"/>
                  </a:solidFill>
                  <a:latin typeface="Comic Sans MS"/>
                </a:rPr>
                <a:t>pièce</a:t>
              </a:r>
              <a:r>
                <a:rPr b="1" lang="fr-FR" sz="2400" spc="-1" strike="noStrike" baseline="-25000">
                  <a:solidFill>
                    <a:srgbClr val="006600"/>
                  </a:solidFill>
                  <a:latin typeface="Symbol"/>
                  <a:ea typeface="Symbol"/>
                </a:rPr>
                <a:t></a:t>
              </a:r>
              <a:r>
                <a:rPr b="1" lang="fr-FR" sz="2400" spc="-1" strike="noStrike" baseline="-25000">
                  <a:solidFill>
                    <a:srgbClr val="0066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359320" y="4343400"/>
              <a:ext cx="812520" cy="0"/>
            </a:xfrm>
            <a:prstGeom prst="line">
              <a:avLst/>
            </a:prstGeom>
            <a:ln w="93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7" name=""/>
          <p:cNvGrpSpPr/>
          <p:nvPr/>
        </p:nvGrpSpPr>
        <p:grpSpPr>
          <a:xfrm>
            <a:off x="5181480" y="5562720"/>
            <a:ext cx="914400" cy="510120"/>
            <a:chOff x="5181480" y="5562720"/>
            <a:chExt cx="914400" cy="510120"/>
          </a:xfrm>
        </p:grpSpPr>
        <p:sp>
          <p:nvSpPr>
            <p:cNvPr id="938" name=""/>
            <p:cNvSpPr/>
            <p:nvPr/>
          </p:nvSpPr>
          <p:spPr>
            <a:xfrm>
              <a:off x="5181480" y="556272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Comic Sans MS"/>
                </a:rPr>
                <a:t>A</a:t>
              </a:r>
              <a:r>
                <a:rPr b="1" lang="en-US" sz="2400" spc="-1" strike="noStrike" baseline="-25000">
                  <a:solidFill>
                    <a:srgbClr val="660066"/>
                  </a:solidFill>
                  <a:latin typeface="Comic Sans MS"/>
                </a:rPr>
                <a:t>5</a:t>
              </a:r>
              <a:r>
                <a:rPr b="1" lang="en-US" sz="2400" spc="-1" strike="noStrike" baseline="-25000">
                  <a:solidFill>
                    <a:srgbClr val="660066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 baseline="-25000">
                  <a:solidFill>
                    <a:srgbClr val="660066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486400" y="5638680"/>
              <a:ext cx="609480" cy="0"/>
            </a:xfrm>
            <a:prstGeom prst="line">
              <a:avLst/>
            </a:prstGeom>
            <a:ln w="93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0" name=""/>
          <p:cNvSpPr/>
          <p:nvPr/>
        </p:nvSpPr>
        <p:spPr>
          <a:xfrm flipV="1">
            <a:off x="6248520" y="4952520"/>
            <a:ext cx="0" cy="1143000"/>
          </a:xfrm>
          <a:prstGeom prst="line">
            <a:avLst/>
          </a:prstGeom>
          <a:ln w="7632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1" name=""/>
          <p:cNvGrpSpPr/>
          <p:nvPr/>
        </p:nvGrpSpPr>
        <p:grpSpPr>
          <a:xfrm>
            <a:off x="6171840" y="4952880"/>
            <a:ext cx="609480" cy="1143000"/>
            <a:chOff x="6171840" y="4952880"/>
            <a:chExt cx="609480" cy="1143000"/>
          </a:xfrm>
        </p:grpSpPr>
        <p:sp>
          <p:nvSpPr>
            <p:cNvPr id="942" name=""/>
            <p:cNvSpPr/>
            <p:nvPr/>
          </p:nvSpPr>
          <p:spPr>
            <a:xfrm flipH="1">
              <a:off x="6171840" y="609588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 flipH="1">
              <a:off x="6171840" y="495288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4" name=""/>
          <p:cNvSpPr/>
          <p:nvPr/>
        </p:nvSpPr>
        <p:spPr>
          <a:xfrm flipV="1">
            <a:off x="6248520" y="3124080"/>
            <a:ext cx="0" cy="1828800"/>
          </a:xfrm>
          <a:prstGeom prst="line">
            <a:avLst/>
          </a:prstGeom>
          <a:ln w="7632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H="1">
            <a:off x="6171840" y="31240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6781680" y="4419720"/>
            <a:ext cx="914040" cy="510120"/>
            <a:chOff x="6781680" y="4419720"/>
            <a:chExt cx="914040" cy="510120"/>
          </a:xfrm>
        </p:grpSpPr>
        <p:sp>
          <p:nvSpPr>
            <p:cNvPr id="947" name=""/>
            <p:cNvSpPr/>
            <p:nvPr/>
          </p:nvSpPr>
          <p:spPr>
            <a:xfrm>
              <a:off x="6781680" y="4419720"/>
              <a:ext cx="91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864840" y="4528800"/>
              <a:ext cx="748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9" name=""/>
          <p:cNvGrpSpPr/>
          <p:nvPr/>
        </p:nvGrpSpPr>
        <p:grpSpPr>
          <a:xfrm>
            <a:off x="5943600" y="1905120"/>
            <a:ext cx="2895480" cy="510120"/>
            <a:chOff x="5943600" y="1905120"/>
            <a:chExt cx="2895480" cy="510120"/>
          </a:xfrm>
        </p:grpSpPr>
        <p:grpSp>
          <p:nvGrpSpPr>
            <p:cNvPr id="950" name=""/>
            <p:cNvGrpSpPr/>
            <p:nvPr/>
          </p:nvGrpSpPr>
          <p:grpSpPr>
            <a:xfrm>
              <a:off x="5943600" y="1905120"/>
              <a:ext cx="914400" cy="510120"/>
              <a:chOff x="5943600" y="1905120"/>
              <a:chExt cx="914400" cy="510120"/>
            </a:xfrm>
          </p:grpSpPr>
          <p:sp>
            <p:nvSpPr>
              <p:cNvPr id="951" name=""/>
              <p:cNvSpPr/>
              <p:nvPr/>
            </p:nvSpPr>
            <p:spPr>
              <a:xfrm>
                <a:off x="5943600" y="1905120"/>
                <a:ext cx="9144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660066"/>
                    </a:solidFill>
                    <a:latin typeface="Comic Sans MS"/>
                  </a:rPr>
                  <a:t>A</a:t>
                </a:r>
                <a:r>
                  <a:rPr b="1" lang="en-US" sz="2400" spc="-1" strike="noStrike" baseline="-25000">
                    <a:solidFill>
                      <a:srgbClr val="660066"/>
                    </a:solidFill>
                    <a:latin typeface="Comic Sans MS"/>
                  </a:rPr>
                  <a:t>5</a:t>
                </a:r>
                <a:r>
                  <a:rPr b="1" lang="en-US" sz="2400" spc="-1" strike="noStrike" baseline="-25000">
                    <a:solidFill>
                      <a:srgbClr val="660066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2400" spc="-1" strike="noStrike" baseline="-25000">
                    <a:solidFill>
                      <a:srgbClr val="660066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6248520" y="1981080"/>
                <a:ext cx="609480" cy="0"/>
              </a:xfrm>
              <a:prstGeom prst="line">
                <a:avLst/>
              </a:prstGeom>
              <a:ln w="9360">
                <a:solidFill>
                  <a:srgbClr val="66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3" name=""/>
            <p:cNvSpPr/>
            <p:nvPr/>
          </p:nvSpPr>
          <p:spPr>
            <a:xfrm>
              <a:off x="6781680" y="1981080"/>
              <a:ext cx="0" cy="304920"/>
            </a:xfrm>
            <a:prstGeom prst="line">
              <a:avLst/>
            </a:prstGeom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858000" y="1981080"/>
              <a:ext cx="0" cy="304920"/>
            </a:xfrm>
            <a:prstGeom prst="line">
              <a:avLst/>
            </a:prstGeom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019920" y="1981080"/>
              <a:ext cx="0" cy="304920"/>
            </a:xfrm>
            <a:prstGeom prst="line">
              <a:avLst/>
            </a:prstGeom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095880" y="1981080"/>
              <a:ext cx="0" cy="304920"/>
            </a:xfrm>
            <a:prstGeom prst="line">
              <a:avLst/>
            </a:prstGeom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858000" y="1905120"/>
              <a:ext cx="19810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66"/>
                  </a:solidFill>
                  <a:latin typeface="Comic Sans MS"/>
                </a:rPr>
                <a:t>= 70 N</a:t>
              </a:r>
              <a:r>
                <a:rPr b="1" lang="en-US" sz="2000" spc="-1" strike="noStrike">
                  <a:solidFill>
                    <a:srgbClr val="990033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"/>
          <p:cNvGrpSpPr/>
          <p:nvPr/>
        </p:nvGrpSpPr>
        <p:grpSpPr>
          <a:xfrm>
            <a:off x="6019920" y="2362320"/>
            <a:ext cx="2818800" cy="510120"/>
            <a:chOff x="6019920" y="2362320"/>
            <a:chExt cx="2818800" cy="510120"/>
          </a:xfrm>
        </p:grpSpPr>
        <p:grpSp>
          <p:nvGrpSpPr>
            <p:cNvPr id="959" name=""/>
            <p:cNvGrpSpPr/>
            <p:nvPr/>
          </p:nvGrpSpPr>
          <p:grpSpPr>
            <a:xfrm>
              <a:off x="6019920" y="2362320"/>
              <a:ext cx="1218960" cy="510120"/>
              <a:chOff x="6019920" y="2362320"/>
              <a:chExt cx="1218960" cy="510120"/>
            </a:xfrm>
          </p:grpSpPr>
          <p:sp>
            <p:nvSpPr>
              <p:cNvPr id="960" name=""/>
              <p:cNvSpPr/>
              <p:nvPr/>
            </p:nvSpPr>
            <p:spPr>
              <a:xfrm>
                <a:off x="6019920" y="2362320"/>
                <a:ext cx="1218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6600"/>
                    </a:solidFill>
                    <a:latin typeface="Comic Sans MS"/>
                  </a:rPr>
                  <a:t>C</a:t>
                </a:r>
                <a:r>
                  <a:rPr b="1" lang="fr-FR" sz="2400" spc="-1" strike="noStrike" baseline="-25000">
                    <a:solidFill>
                      <a:srgbClr val="006600"/>
                    </a:solidFill>
                    <a:latin typeface="Comic Sans MS"/>
                  </a:rPr>
                  <a:t>pièce</a:t>
                </a:r>
                <a:r>
                  <a:rPr b="1" lang="fr-FR" sz="2400" spc="-1" strike="noStrike" baseline="-25000">
                    <a:solidFill>
                      <a:srgbClr val="006600"/>
                    </a:solidFill>
                    <a:latin typeface="Symbol"/>
                    <a:ea typeface="Symbol"/>
                  </a:rPr>
                  <a:t></a:t>
                </a:r>
                <a:r>
                  <a:rPr b="1" lang="fr-FR" sz="2400" spc="-1" strike="noStrike" baseline="-25000">
                    <a:solidFill>
                      <a:srgbClr val="006600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6426360" y="2438640"/>
                <a:ext cx="81252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2" name=""/>
            <p:cNvSpPr/>
            <p:nvPr/>
          </p:nvSpPr>
          <p:spPr>
            <a:xfrm>
              <a:off x="6019920" y="2514960"/>
              <a:ext cx="0" cy="304560"/>
            </a:xfrm>
            <a:prstGeom prst="line">
              <a:avLst/>
            </a:prstGeom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095880" y="2514960"/>
              <a:ext cx="0" cy="304560"/>
            </a:xfrm>
            <a:prstGeom prst="line">
              <a:avLst/>
            </a:prstGeom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162560" y="2514960"/>
              <a:ext cx="0" cy="304560"/>
            </a:xfrm>
            <a:prstGeom prst="line">
              <a:avLst/>
            </a:prstGeom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238880" y="2514960"/>
              <a:ext cx="0" cy="304560"/>
            </a:xfrm>
            <a:prstGeom prst="line">
              <a:avLst/>
            </a:prstGeom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315200" y="2438640"/>
              <a:ext cx="15235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Comic Sans MS"/>
                </a:rPr>
                <a:t>= 130 N</a:t>
              </a:r>
              <a:r>
                <a:rPr b="1" lang="en-US" sz="2000" spc="-1" strike="noStrike">
                  <a:solidFill>
                    <a:srgbClr val="990033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7" name=""/>
          <p:cNvSpPr/>
          <p:nvPr/>
        </p:nvSpPr>
        <p:spPr>
          <a:xfrm rot="20415000">
            <a:off x="6020280" y="4343040"/>
            <a:ext cx="2438280" cy="100872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Cette figure s ’appelle le dynam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 rot="20415000">
            <a:off x="1295640" y="4648320"/>
            <a:ext cx="2438640" cy="100872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Cette figure s ’appelle le funicul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"/>
          <p:cNvSpPr/>
          <p:nvPr/>
        </p:nvSpPr>
        <p:spPr>
          <a:xfrm>
            <a:off x="685800" y="147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RESOLUTION GRAPHIQUE D’UN PROBLEME DE STAT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228600" y="1290600"/>
            <a:ext cx="876312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362320" y="1905120"/>
            <a:ext cx="441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Comic Sans MS"/>
              </a:rPr>
              <a:t>FIN DU DIAPOR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2209680" y="4800600"/>
            <a:ext cx="4648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Comic Sans MS"/>
              </a:rPr>
              <a:t>Merci de votre att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>
            <a:hlinkClick r:id="" action="ppaction://hlinkshowjump?jump=previousslide"/>
          </p:cNvPr>
          <p:cNvSpPr/>
          <p:nvPr/>
        </p:nvSpPr>
        <p:spPr>
          <a:xfrm>
            <a:off x="633240" y="6548400"/>
            <a:ext cx="457200" cy="304920"/>
          </a:xfrm>
          <a:custGeom>
            <a:avLst/>
            <a:gdLst>
              <a:gd name="textAreaLeft" fmla="*/ 60120 w 457200"/>
              <a:gd name="textAreaRight" fmla="*/ 397080 w 457200"/>
              <a:gd name="textAreaTop" fmla="*/ 60120 h 304920"/>
              <a:gd name="textAreaBottom" fmla="*/ 24480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8100" y="4275"/>
                </a:lnTo>
                <a:lnTo>
                  <a:pt x="4275" y="4275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8100" y="17325"/>
                </a:lnTo>
                <a:lnTo>
                  <a:pt x="28100" y="4275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275" y="17325"/>
                </a:lnTo>
                <a:lnTo>
                  <a:pt x="28100" y="17325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275" y="4275"/>
                </a:lnTo>
                <a:lnTo>
                  <a:pt x="4275" y="17325"/>
                </a:lnTo>
                <a:close/>
              </a:path>
              <a:path fill="darken" w="32375" h="21600">
                <a:moveTo>
                  <a:pt x="11324" y="10800"/>
                </a:moveTo>
                <a:lnTo>
                  <a:pt x="21051" y="5936"/>
                </a:lnTo>
                <a:lnTo>
                  <a:pt x="21051" y="15664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>
            <a:hlinkClick r:id="" action="ppaction://hlinkshowjump?jump=firstslide"/>
          </p:cNvPr>
          <p:cNvSpPr/>
          <p:nvPr/>
        </p:nvSpPr>
        <p:spPr>
          <a:xfrm>
            <a:off x="0" y="6548400"/>
            <a:ext cx="457200" cy="304920"/>
          </a:xfrm>
          <a:custGeom>
            <a:avLst/>
            <a:gdLst>
              <a:gd name="textAreaLeft" fmla="*/ 58680 w 457200"/>
              <a:gd name="textAreaRight" fmla="*/ 398520 w 457200"/>
              <a:gd name="textAreaTop" fmla="*/ 58680 h 304920"/>
              <a:gd name="textAreaBottom" fmla="*/ 24624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8212" y="4163"/>
                </a:lnTo>
                <a:lnTo>
                  <a:pt x="4163" y="4163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8212" y="17437"/>
                </a:lnTo>
                <a:lnTo>
                  <a:pt x="28212" y="4163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163" y="17437"/>
                </a:lnTo>
                <a:lnTo>
                  <a:pt x="28212" y="17437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163" y="4163"/>
                </a:lnTo>
                <a:lnTo>
                  <a:pt x="4163" y="17437"/>
                </a:lnTo>
                <a:close/>
              </a:path>
              <a:path fill="darken" w="32375" h="21600">
                <a:moveTo>
                  <a:pt x="13717" y="10800"/>
                </a:moveTo>
                <a:lnTo>
                  <a:pt x="21134" y="5853"/>
                </a:lnTo>
                <a:lnTo>
                  <a:pt x="21134" y="15747"/>
                </a:lnTo>
                <a:close/>
              </a:path>
              <a:path fill="darken" w="32375" h="21600">
                <a:moveTo>
                  <a:pt x="11240" y="5853"/>
                </a:moveTo>
                <a:lnTo>
                  <a:pt x="12414" y="5853"/>
                </a:lnTo>
                <a:lnTo>
                  <a:pt x="12414" y="15747"/>
                </a:lnTo>
                <a:lnTo>
                  <a:pt x="11240" y="15747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5" name="" descr=""/>
          <p:cNvPicPr/>
          <p:nvPr/>
        </p:nvPicPr>
        <p:blipFill>
          <a:blip r:embed="rId2"/>
          <a:stretch/>
        </p:blipFill>
        <p:spPr>
          <a:xfrm>
            <a:off x="3276720" y="2819520"/>
            <a:ext cx="236196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RESOLUTION GRAPHIQUE D’UN PROBLEME DE STAT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09680" y="1295280"/>
            <a:ext cx="4648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Comic Sans MS"/>
              </a:rPr>
              <a:t>HYPOTHE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1295280"/>
            <a:ext cx="876312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" action="ppaction://hlinkshowjump?jump=nextslide"/>
          </p:cNvPr>
          <p:cNvSpPr/>
          <p:nvPr/>
        </p:nvSpPr>
        <p:spPr>
          <a:xfrm>
            <a:off x="8682120" y="6553080"/>
            <a:ext cx="457200" cy="304920"/>
          </a:xfrm>
          <a:custGeom>
            <a:avLst/>
            <a:gdLst>
              <a:gd name="textAreaLeft" fmla="*/ 65160 w 457200"/>
              <a:gd name="textAreaRight" fmla="*/ 392040 w 457200"/>
              <a:gd name="textAreaTop" fmla="*/ 65160 h 304920"/>
              <a:gd name="textAreaBottom" fmla="*/ 23976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7762" y="4613"/>
                </a:lnTo>
                <a:lnTo>
                  <a:pt x="4613" y="4613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7762" y="16987"/>
                </a:lnTo>
                <a:lnTo>
                  <a:pt x="27762" y="4613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613" y="16987"/>
                </a:lnTo>
                <a:lnTo>
                  <a:pt x="27762" y="16987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613" y="4613"/>
                </a:lnTo>
                <a:lnTo>
                  <a:pt x="4613" y="16987"/>
                </a:lnTo>
                <a:close/>
              </a:path>
              <a:path fill="darken" w="32375" h="21600">
                <a:moveTo>
                  <a:pt x="11576" y="6188"/>
                </a:moveTo>
                <a:lnTo>
                  <a:pt x="20799" y="10800"/>
                </a:lnTo>
                <a:lnTo>
                  <a:pt x="11576" y="15412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" action="ppaction://hlinkshowjump?jump=previousslide"/>
          </p:cNvPr>
          <p:cNvSpPr/>
          <p:nvPr/>
        </p:nvSpPr>
        <p:spPr>
          <a:xfrm>
            <a:off x="696960" y="6553080"/>
            <a:ext cx="457200" cy="304920"/>
          </a:xfrm>
          <a:custGeom>
            <a:avLst/>
            <a:gdLst>
              <a:gd name="textAreaLeft" fmla="*/ 60120 w 457200"/>
              <a:gd name="textAreaRight" fmla="*/ 397080 w 457200"/>
              <a:gd name="textAreaTop" fmla="*/ 60120 h 304920"/>
              <a:gd name="textAreaBottom" fmla="*/ 24480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8100" y="4275"/>
                </a:lnTo>
                <a:lnTo>
                  <a:pt x="4275" y="4275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8100" y="17325"/>
                </a:lnTo>
                <a:lnTo>
                  <a:pt x="28100" y="4275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275" y="17325"/>
                </a:lnTo>
                <a:lnTo>
                  <a:pt x="28100" y="17325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275" y="4275"/>
                </a:lnTo>
                <a:lnTo>
                  <a:pt x="4275" y="17325"/>
                </a:lnTo>
                <a:close/>
              </a:path>
              <a:path fill="darken" w="32375" h="21600">
                <a:moveTo>
                  <a:pt x="11324" y="10800"/>
                </a:moveTo>
                <a:lnTo>
                  <a:pt x="21051" y="5936"/>
                </a:lnTo>
                <a:lnTo>
                  <a:pt x="21051" y="15664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2743200" y="1828800"/>
            <a:ext cx="5943600" cy="3840120"/>
            <a:chOff x="2743200" y="1828800"/>
            <a:chExt cx="5943600" cy="3840120"/>
          </a:xfrm>
        </p:grpSpPr>
        <p:pic>
          <p:nvPicPr>
            <p:cNvPr id="61" name="3%20forces%20parallèles" descr=""/>
            <p:cNvPicPr/>
            <p:nvPr/>
          </p:nvPicPr>
          <p:blipFill>
            <a:blip r:embed="rId2"/>
            <a:stretch/>
          </p:blipFill>
          <p:spPr>
            <a:xfrm>
              <a:off x="2743200" y="1828800"/>
              <a:ext cx="5943600" cy="384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4495680" y="3733920"/>
              <a:ext cx="304920" cy="387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19920" y="3276720"/>
              <a:ext cx="304560" cy="387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620120" y="3657600"/>
              <a:ext cx="304560" cy="387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1981080" y="5943600"/>
            <a:ext cx="4876920" cy="685800"/>
          </a:xfrm>
          <a:prstGeom prst="wedgeRoundRectCallout">
            <a:avLst>
              <a:gd name="adj1" fmla="val 19171"/>
              <a:gd name="adj2" fmla="val -407870"/>
              <a:gd name="adj3" fmla="val 16667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 poids des pièces est néglig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2280" y="1981080"/>
            <a:ext cx="2819520" cy="1295640"/>
          </a:xfrm>
          <a:prstGeom prst="wedgeRoundRectCallout">
            <a:avLst>
              <a:gd name="adj1" fmla="val 116722"/>
              <a:gd name="adj2" fmla="val 73652"/>
              <a:gd name="adj3" fmla="val 16667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 frotte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 niveau de la liai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 C est néglig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" action="ppaction://hlinkshowjump?jump=firstslide"/>
          </p:cNvPr>
          <p:cNvSpPr/>
          <p:nvPr/>
        </p:nvSpPr>
        <p:spPr>
          <a:xfrm>
            <a:off x="0" y="6553080"/>
            <a:ext cx="457200" cy="304920"/>
          </a:xfrm>
          <a:custGeom>
            <a:avLst/>
            <a:gdLst>
              <a:gd name="textAreaLeft" fmla="*/ 58680 w 457200"/>
              <a:gd name="textAreaRight" fmla="*/ 398520 w 457200"/>
              <a:gd name="textAreaTop" fmla="*/ 58680 h 304920"/>
              <a:gd name="textAreaBottom" fmla="*/ 24624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8212" y="4163"/>
                </a:lnTo>
                <a:lnTo>
                  <a:pt x="4163" y="4163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8212" y="17437"/>
                </a:lnTo>
                <a:lnTo>
                  <a:pt x="28212" y="4163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163" y="17437"/>
                </a:lnTo>
                <a:lnTo>
                  <a:pt x="28212" y="17437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163" y="4163"/>
                </a:lnTo>
                <a:lnTo>
                  <a:pt x="4163" y="17437"/>
                </a:lnTo>
                <a:close/>
              </a:path>
              <a:path fill="darken" w="32375" h="21600">
                <a:moveTo>
                  <a:pt x="13717" y="10800"/>
                </a:moveTo>
                <a:lnTo>
                  <a:pt x="21134" y="5853"/>
                </a:lnTo>
                <a:lnTo>
                  <a:pt x="21134" y="15747"/>
                </a:lnTo>
                <a:close/>
              </a:path>
              <a:path fill="darken" w="32375" h="21600">
                <a:moveTo>
                  <a:pt x="11240" y="5853"/>
                </a:moveTo>
                <a:lnTo>
                  <a:pt x="12414" y="5853"/>
                </a:lnTo>
                <a:lnTo>
                  <a:pt x="12414" y="15747"/>
                </a:lnTo>
                <a:lnTo>
                  <a:pt x="11240" y="15747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RESOLUTION GRAPHIQUE D’UN PROBLEME DE STAT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9680" y="1295280"/>
            <a:ext cx="4648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Comic Sans MS"/>
              </a:rPr>
              <a:t>DONN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1295280"/>
            <a:ext cx="876312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" action="ppaction://hlinkshowjump?jump=nextslide"/>
          </p:cNvPr>
          <p:cNvSpPr/>
          <p:nvPr/>
        </p:nvSpPr>
        <p:spPr>
          <a:xfrm>
            <a:off x="8682120" y="6553080"/>
            <a:ext cx="457200" cy="304920"/>
          </a:xfrm>
          <a:custGeom>
            <a:avLst/>
            <a:gdLst>
              <a:gd name="textAreaLeft" fmla="*/ 65160 w 457200"/>
              <a:gd name="textAreaRight" fmla="*/ 392040 w 457200"/>
              <a:gd name="textAreaTop" fmla="*/ 65160 h 304920"/>
              <a:gd name="textAreaBottom" fmla="*/ 23976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7762" y="4613"/>
                </a:lnTo>
                <a:lnTo>
                  <a:pt x="4613" y="4613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7762" y="16987"/>
                </a:lnTo>
                <a:lnTo>
                  <a:pt x="27762" y="4613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613" y="16987"/>
                </a:lnTo>
                <a:lnTo>
                  <a:pt x="27762" y="16987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613" y="4613"/>
                </a:lnTo>
                <a:lnTo>
                  <a:pt x="4613" y="16987"/>
                </a:lnTo>
                <a:close/>
              </a:path>
              <a:path fill="darken" w="32375" h="21600">
                <a:moveTo>
                  <a:pt x="11576" y="6188"/>
                </a:moveTo>
                <a:lnTo>
                  <a:pt x="20799" y="10800"/>
                </a:lnTo>
                <a:lnTo>
                  <a:pt x="11576" y="15412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" action="ppaction://hlinkshowjump?jump=previousslide"/>
          </p:cNvPr>
          <p:cNvSpPr/>
          <p:nvPr/>
        </p:nvSpPr>
        <p:spPr>
          <a:xfrm>
            <a:off x="735120" y="6553080"/>
            <a:ext cx="457200" cy="304920"/>
          </a:xfrm>
          <a:custGeom>
            <a:avLst/>
            <a:gdLst>
              <a:gd name="textAreaLeft" fmla="*/ 60120 w 457200"/>
              <a:gd name="textAreaRight" fmla="*/ 397080 w 457200"/>
              <a:gd name="textAreaTop" fmla="*/ 60120 h 304920"/>
              <a:gd name="textAreaBottom" fmla="*/ 24480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8100" y="4275"/>
                </a:lnTo>
                <a:lnTo>
                  <a:pt x="4275" y="4275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8100" y="17325"/>
                </a:lnTo>
                <a:lnTo>
                  <a:pt x="28100" y="4275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275" y="17325"/>
                </a:lnTo>
                <a:lnTo>
                  <a:pt x="28100" y="17325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275" y="4275"/>
                </a:lnTo>
                <a:lnTo>
                  <a:pt x="4275" y="17325"/>
                </a:lnTo>
                <a:close/>
              </a:path>
              <a:path fill="darken" w="32375" h="21600">
                <a:moveTo>
                  <a:pt x="11324" y="10800"/>
                </a:moveTo>
                <a:lnTo>
                  <a:pt x="21051" y="5936"/>
                </a:lnTo>
                <a:lnTo>
                  <a:pt x="21051" y="15664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3200" y="1828800"/>
            <a:ext cx="5943600" cy="3840120"/>
            <a:chOff x="2743200" y="1828800"/>
            <a:chExt cx="5943600" cy="3840120"/>
          </a:xfrm>
        </p:grpSpPr>
        <p:pic>
          <p:nvPicPr>
            <p:cNvPr id="74" name="3%20forces%20parallèles" descr=""/>
            <p:cNvPicPr/>
            <p:nvPr/>
          </p:nvPicPr>
          <p:blipFill>
            <a:blip r:embed="rId2"/>
            <a:stretch/>
          </p:blipFill>
          <p:spPr>
            <a:xfrm>
              <a:off x="2743200" y="1828800"/>
              <a:ext cx="5943600" cy="384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4495680" y="3733920"/>
              <a:ext cx="304920" cy="387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019920" y="3276720"/>
              <a:ext cx="304560" cy="387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620120" y="3657600"/>
              <a:ext cx="304560" cy="387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>
            <a:hlinkClick r:id="" action="ppaction://hlinkshowjump?jump=firstslide"/>
          </p:cNvPr>
          <p:cNvSpPr/>
          <p:nvPr/>
        </p:nvSpPr>
        <p:spPr>
          <a:xfrm>
            <a:off x="0" y="6553080"/>
            <a:ext cx="457200" cy="304920"/>
          </a:xfrm>
          <a:custGeom>
            <a:avLst/>
            <a:gdLst>
              <a:gd name="textAreaLeft" fmla="*/ 58680 w 457200"/>
              <a:gd name="textAreaRight" fmla="*/ 398520 w 457200"/>
              <a:gd name="textAreaTop" fmla="*/ 58680 h 304920"/>
              <a:gd name="textAreaBottom" fmla="*/ 24624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8212" y="4163"/>
                </a:lnTo>
                <a:lnTo>
                  <a:pt x="4163" y="4163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8212" y="17437"/>
                </a:lnTo>
                <a:lnTo>
                  <a:pt x="28212" y="4163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163" y="17437"/>
                </a:lnTo>
                <a:lnTo>
                  <a:pt x="28212" y="17437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163" y="4163"/>
                </a:lnTo>
                <a:lnTo>
                  <a:pt x="4163" y="17437"/>
                </a:lnTo>
                <a:close/>
              </a:path>
              <a:path fill="darken" w="32375" h="21600">
                <a:moveTo>
                  <a:pt x="13717" y="10800"/>
                </a:moveTo>
                <a:lnTo>
                  <a:pt x="21134" y="5853"/>
                </a:lnTo>
                <a:lnTo>
                  <a:pt x="21134" y="15747"/>
                </a:lnTo>
                <a:close/>
              </a:path>
              <a:path fill="darken" w="32375" h="21600">
                <a:moveTo>
                  <a:pt x="11240" y="5853"/>
                </a:moveTo>
                <a:lnTo>
                  <a:pt x="12414" y="5853"/>
                </a:lnTo>
                <a:lnTo>
                  <a:pt x="12414" y="15747"/>
                </a:lnTo>
                <a:lnTo>
                  <a:pt x="11240" y="15747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5334120"/>
            <a:ext cx="3047760" cy="1295280"/>
          </a:xfrm>
          <a:prstGeom prst="wedgeRoundRectCallout">
            <a:avLst>
              <a:gd name="adj1" fmla="val 80675"/>
              <a:gd name="adj2" fmla="val -218870"/>
              <a:gd name="adj3" fmla="val 16667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 ’effort de serrag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ercé par la vis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r la bride 2 au point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 égal à 200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RESOLUTION GRAPHIQUE D’UN PROBLEME DE STAT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1295280"/>
            <a:ext cx="5638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Comic Sans MS"/>
              </a:rPr>
              <a:t>OBJECTIF DE L ’ET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1295280"/>
            <a:ext cx="876312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" action="ppaction://hlinkshowjump?jump=nextslide"/>
          </p:cNvPr>
          <p:cNvSpPr/>
          <p:nvPr/>
        </p:nvSpPr>
        <p:spPr>
          <a:xfrm>
            <a:off x="8682120" y="6553080"/>
            <a:ext cx="457200" cy="304920"/>
          </a:xfrm>
          <a:custGeom>
            <a:avLst/>
            <a:gdLst>
              <a:gd name="textAreaLeft" fmla="*/ 65160 w 457200"/>
              <a:gd name="textAreaRight" fmla="*/ 392040 w 457200"/>
              <a:gd name="textAreaTop" fmla="*/ 65160 h 304920"/>
              <a:gd name="textAreaBottom" fmla="*/ 23976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7762" y="4613"/>
                </a:lnTo>
                <a:lnTo>
                  <a:pt x="4613" y="4613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7762" y="16987"/>
                </a:lnTo>
                <a:lnTo>
                  <a:pt x="27762" y="4613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613" y="16987"/>
                </a:lnTo>
                <a:lnTo>
                  <a:pt x="27762" y="16987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613" y="4613"/>
                </a:lnTo>
                <a:lnTo>
                  <a:pt x="4613" y="16987"/>
                </a:lnTo>
                <a:close/>
              </a:path>
              <a:path fill="darken" w="32375" h="21600">
                <a:moveTo>
                  <a:pt x="11576" y="6188"/>
                </a:moveTo>
                <a:lnTo>
                  <a:pt x="20799" y="10800"/>
                </a:lnTo>
                <a:lnTo>
                  <a:pt x="11576" y="15412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previousslide"/>
          </p:cNvPr>
          <p:cNvSpPr/>
          <p:nvPr/>
        </p:nvSpPr>
        <p:spPr>
          <a:xfrm>
            <a:off x="657360" y="6553080"/>
            <a:ext cx="457200" cy="304920"/>
          </a:xfrm>
          <a:custGeom>
            <a:avLst/>
            <a:gdLst>
              <a:gd name="textAreaLeft" fmla="*/ 60120 w 457200"/>
              <a:gd name="textAreaRight" fmla="*/ 397080 w 457200"/>
              <a:gd name="textAreaTop" fmla="*/ 60120 h 304920"/>
              <a:gd name="textAreaBottom" fmla="*/ 24480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8100" y="4275"/>
                </a:lnTo>
                <a:lnTo>
                  <a:pt x="4275" y="4275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8100" y="17325"/>
                </a:lnTo>
                <a:lnTo>
                  <a:pt x="28100" y="4275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275" y="17325"/>
                </a:lnTo>
                <a:lnTo>
                  <a:pt x="28100" y="17325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275" y="4275"/>
                </a:lnTo>
                <a:lnTo>
                  <a:pt x="4275" y="17325"/>
                </a:lnTo>
                <a:close/>
              </a:path>
              <a:path fill="darken" w="32375" h="21600">
                <a:moveTo>
                  <a:pt x="11324" y="10800"/>
                </a:moveTo>
                <a:lnTo>
                  <a:pt x="21051" y="5936"/>
                </a:lnTo>
                <a:lnTo>
                  <a:pt x="21051" y="15664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228600" y="2662200"/>
            <a:ext cx="5943600" cy="3840120"/>
            <a:chOff x="228600" y="2662200"/>
            <a:chExt cx="5943600" cy="3840120"/>
          </a:xfrm>
        </p:grpSpPr>
        <p:pic>
          <p:nvPicPr>
            <p:cNvPr id="86" name="3%20forces%20parallèles" descr=""/>
            <p:cNvPicPr/>
            <p:nvPr/>
          </p:nvPicPr>
          <p:blipFill>
            <a:blip r:embed="rId2"/>
            <a:stretch/>
          </p:blipFill>
          <p:spPr>
            <a:xfrm>
              <a:off x="228600" y="2662200"/>
              <a:ext cx="5943600" cy="384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1981080" y="4567320"/>
              <a:ext cx="304920" cy="387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05320" y="4110120"/>
              <a:ext cx="304560" cy="387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105520" y="4491000"/>
              <a:ext cx="304560" cy="387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>
            <a:hlinkClick r:id="" action="ppaction://hlinkshowjump?jump=firstslide"/>
          </p:cNvPr>
          <p:cNvSpPr/>
          <p:nvPr/>
        </p:nvSpPr>
        <p:spPr>
          <a:xfrm>
            <a:off x="0" y="6553080"/>
            <a:ext cx="457200" cy="304920"/>
          </a:xfrm>
          <a:custGeom>
            <a:avLst/>
            <a:gdLst>
              <a:gd name="textAreaLeft" fmla="*/ 58680 w 457200"/>
              <a:gd name="textAreaRight" fmla="*/ 398520 w 457200"/>
              <a:gd name="textAreaTop" fmla="*/ 58680 h 304920"/>
              <a:gd name="textAreaBottom" fmla="*/ 24624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8212" y="4163"/>
                </a:lnTo>
                <a:lnTo>
                  <a:pt x="4163" y="4163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8212" y="17437"/>
                </a:lnTo>
                <a:lnTo>
                  <a:pt x="28212" y="4163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163" y="17437"/>
                </a:lnTo>
                <a:lnTo>
                  <a:pt x="28212" y="17437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163" y="4163"/>
                </a:lnTo>
                <a:lnTo>
                  <a:pt x="4163" y="17437"/>
                </a:lnTo>
                <a:close/>
              </a:path>
              <a:path fill="darken" w="32375" h="21600">
                <a:moveTo>
                  <a:pt x="13717" y="10800"/>
                </a:moveTo>
                <a:lnTo>
                  <a:pt x="21134" y="5853"/>
                </a:lnTo>
                <a:lnTo>
                  <a:pt x="21134" y="15747"/>
                </a:lnTo>
                <a:close/>
              </a:path>
              <a:path fill="darken" w="32375" h="21600">
                <a:moveTo>
                  <a:pt x="11240" y="5853"/>
                </a:moveTo>
                <a:lnTo>
                  <a:pt x="12414" y="5853"/>
                </a:lnTo>
                <a:lnTo>
                  <a:pt x="12414" y="15747"/>
                </a:lnTo>
                <a:lnTo>
                  <a:pt x="11240" y="15747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171880" y="1787400"/>
            <a:ext cx="6781680" cy="762120"/>
          </a:xfrm>
          <a:prstGeom prst="wedgeRoundRectCallout">
            <a:avLst>
              <a:gd name="adj1" fmla="val -45342"/>
              <a:gd name="adj2" fmla="val 300208"/>
              <a:gd name="adj3" fmla="val 16667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éterminer par une méthode graph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’effort au point C entre la pièce1 et la br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24480" y="2738520"/>
            <a:ext cx="2819520" cy="2209680"/>
          </a:xfrm>
          <a:prstGeom prst="wedgeRoundRectCallout">
            <a:avLst>
              <a:gd name="adj1" fmla="val -92453"/>
              <a:gd name="adj2" fmla="val 28518"/>
              <a:gd name="adj3" fmla="val 16667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éterminer par u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éthode graph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’effort au point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re l’appui 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t la br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RESOLUTION GRAPHIQUE D’UN PROBLEME DE STAT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19320" y="1257480"/>
            <a:ext cx="7391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Comic Sans MS"/>
              </a:rPr>
              <a:t>Étudions l’équilibre de la bride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76312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" action="ppaction://hlinkshowjump?jump=nextslide"/>
          </p:cNvPr>
          <p:cNvSpPr/>
          <p:nvPr/>
        </p:nvSpPr>
        <p:spPr>
          <a:xfrm>
            <a:off x="8682120" y="6553080"/>
            <a:ext cx="457200" cy="304920"/>
          </a:xfrm>
          <a:custGeom>
            <a:avLst/>
            <a:gdLst>
              <a:gd name="textAreaLeft" fmla="*/ 65160 w 457200"/>
              <a:gd name="textAreaRight" fmla="*/ 392040 w 457200"/>
              <a:gd name="textAreaTop" fmla="*/ 65160 h 304920"/>
              <a:gd name="textAreaBottom" fmla="*/ 23976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7762" y="4613"/>
                </a:lnTo>
                <a:lnTo>
                  <a:pt x="4613" y="4613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7762" y="16987"/>
                </a:lnTo>
                <a:lnTo>
                  <a:pt x="27762" y="4613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613" y="16987"/>
                </a:lnTo>
                <a:lnTo>
                  <a:pt x="27762" y="16987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613" y="4613"/>
                </a:lnTo>
                <a:lnTo>
                  <a:pt x="4613" y="16987"/>
                </a:lnTo>
                <a:close/>
              </a:path>
              <a:path fill="darken" w="32375" h="21600">
                <a:moveTo>
                  <a:pt x="11576" y="6188"/>
                </a:moveTo>
                <a:lnTo>
                  <a:pt x="20799" y="10800"/>
                </a:lnTo>
                <a:lnTo>
                  <a:pt x="11576" y="15412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" action="ppaction://hlinkshowjump?jump=previousslide"/>
          </p:cNvPr>
          <p:cNvSpPr/>
          <p:nvPr/>
        </p:nvSpPr>
        <p:spPr>
          <a:xfrm>
            <a:off x="657360" y="6553080"/>
            <a:ext cx="457200" cy="304920"/>
          </a:xfrm>
          <a:custGeom>
            <a:avLst/>
            <a:gdLst>
              <a:gd name="textAreaLeft" fmla="*/ 60120 w 457200"/>
              <a:gd name="textAreaRight" fmla="*/ 397080 w 457200"/>
              <a:gd name="textAreaTop" fmla="*/ 60120 h 304920"/>
              <a:gd name="textAreaBottom" fmla="*/ 24480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8100" y="4275"/>
                </a:lnTo>
                <a:lnTo>
                  <a:pt x="4275" y="4275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8100" y="17325"/>
                </a:lnTo>
                <a:lnTo>
                  <a:pt x="28100" y="4275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275" y="17325"/>
                </a:lnTo>
                <a:lnTo>
                  <a:pt x="28100" y="17325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275" y="4275"/>
                </a:lnTo>
                <a:lnTo>
                  <a:pt x="4275" y="17325"/>
                </a:lnTo>
                <a:close/>
              </a:path>
              <a:path fill="darken" w="32375" h="21600">
                <a:moveTo>
                  <a:pt x="11324" y="10800"/>
                </a:moveTo>
                <a:lnTo>
                  <a:pt x="21051" y="5936"/>
                </a:lnTo>
                <a:lnTo>
                  <a:pt x="21051" y="15664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" action="ppaction://hlinkshowjump?jump=firstslide"/>
          </p:cNvPr>
          <p:cNvSpPr/>
          <p:nvPr/>
        </p:nvSpPr>
        <p:spPr>
          <a:xfrm>
            <a:off x="0" y="6553080"/>
            <a:ext cx="457200" cy="304920"/>
          </a:xfrm>
          <a:custGeom>
            <a:avLst/>
            <a:gdLst>
              <a:gd name="textAreaLeft" fmla="*/ 58680 w 457200"/>
              <a:gd name="textAreaRight" fmla="*/ 398520 w 457200"/>
              <a:gd name="textAreaTop" fmla="*/ 58680 h 304920"/>
              <a:gd name="textAreaBottom" fmla="*/ 24624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8212" y="4163"/>
                </a:lnTo>
                <a:lnTo>
                  <a:pt x="4163" y="4163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8212" y="17437"/>
                </a:lnTo>
                <a:lnTo>
                  <a:pt x="28212" y="4163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163" y="17437"/>
                </a:lnTo>
                <a:lnTo>
                  <a:pt x="28212" y="17437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163" y="4163"/>
                </a:lnTo>
                <a:lnTo>
                  <a:pt x="4163" y="17437"/>
                </a:lnTo>
                <a:close/>
              </a:path>
              <a:path fill="darken" w="32375" h="21600">
                <a:moveTo>
                  <a:pt x="13717" y="10800"/>
                </a:moveTo>
                <a:lnTo>
                  <a:pt x="21134" y="5853"/>
                </a:lnTo>
                <a:lnTo>
                  <a:pt x="21134" y="15747"/>
                </a:lnTo>
                <a:close/>
              </a:path>
              <a:path fill="darken" w="32375" h="21600">
                <a:moveTo>
                  <a:pt x="11240" y="5853"/>
                </a:moveTo>
                <a:lnTo>
                  <a:pt x="12414" y="5853"/>
                </a:lnTo>
                <a:lnTo>
                  <a:pt x="12414" y="15747"/>
                </a:lnTo>
                <a:lnTo>
                  <a:pt x="11240" y="15747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066680" y="1981080"/>
            <a:ext cx="7348680" cy="3581280"/>
            <a:chOff x="1066680" y="1981080"/>
            <a:chExt cx="7348680" cy="3581280"/>
          </a:xfrm>
        </p:grpSpPr>
        <p:pic>
          <p:nvPicPr>
            <p:cNvPr id="100" name="3%20forces%20parallèles-2" descr=""/>
            <p:cNvPicPr/>
            <p:nvPr/>
          </p:nvPicPr>
          <p:blipFill>
            <a:blip r:embed="rId2"/>
            <a:srcRect l="0" t="8028" r="0" b="16550"/>
            <a:stretch/>
          </p:blipFill>
          <p:spPr>
            <a:xfrm>
              <a:off x="1066680" y="1981080"/>
              <a:ext cx="7348680" cy="35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2362320" y="4152960"/>
              <a:ext cx="304560" cy="387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191120" y="3695760"/>
              <a:ext cx="304560" cy="387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238880" y="4305240"/>
              <a:ext cx="304920" cy="387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2209680" y="5943600"/>
            <a:ext cx="4419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Comic Sans MS"/>
              </a:rPr>
              <a:t>Elle est soumise à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RESOLUTION GRAPHIQUE D’UN PROBLEME DE STAT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1295280"/>
            <a:ext cx="876312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" action="ppaction://hlinkshowjump?jump=nextslide"/>
          </p:cNvPr>
          <p:cNvSpPr/>
          <p:nvPr/>
        </p:nvSpPr>
        <p:spPr>
          <a:xfrm>
            <a:off x="8682120" y="6553080"/>
            <a:ext cx="457200" cy="304920"/>
          </a:xfrm>
          <a:custGeom>
            <a:avLst/>
            <a:gdLst>
              <a:gd name="textAreaLeft" fmla="*/ 65160 w 457200"/>
              <a:gd name="textAreaRight" fmla="*/ 392040 w 457200"/>
              <a:gd name="textAreaTop" fmla="*/ 65160 h 304920"/>
              <a:gd name="textAreaBottom" fmla="*/ 23976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7762" y="4613"/>
                </a:lnTo>
                <a:lnTo>
                  <a:pt x="4613" y="4613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7762" y="16987"/>
                </a:lnTo>
                <a:lnTo>
                  <a:pt x="27762" y="4613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613" y="16987"/>
                </a:lnTo>
                <a:lnTo>
                  <a:pt x="27762" y="16987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613" y="4613"/>
                </a:lnTo>
                <a:lnTo>
                  <a:pt x="4613" y="16987"/>
                </a:lnTo>
                <a:close/>
              </a:path>
              <a:path fill="darken" w="32375" h="21600">
                <a:moveTo>
                  <a:pt x="11576" y="6188"/>
                </a:moveTo>
                <a:lnTo>
                  <a:pt x="20799" y="10800"/>
                </a:lnTo>
                <a:lnTo>
                  <a:pt x="11576" y="15412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previousslide"/>
          </p:cNvPr>
          <p:cNvSpPr/>
          <p:nvPr/>
        </p:nvSpPr>
        <p:spPr>
          <a:xfrm>
            <a:off x="633240" y="6553080"/>
            <a:ext cx="457200" cy="304920"/>
          </a:xfrm>
          <a:custGeom>
            <a:avLst/>
            <a:gdLst>
              <a:gd name="textAreaLeft" fmla="*/ 60120 w 457200"/>
              <a:gd name="textAreaRight" fmla="*/ 397080 w 457200"/>
              <a:gd name="textAreaTop" fmla="*/ 60120 h 304920"/>
              <a:gd name="textAreaBottom" fmla="*/ 24480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8100" y="4275"/>
                </a:lnTo>
                <a:lnTo>
                  <a:pt x="4275" y="4275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8100" y="17325"/>
                </a:lnTo>
                <a:lnTo>
                  <a:pt x="28100" y="4275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275" y="17325"/>
                </a:lnTo>
                <a:lnTo>
                  <a:pt x="28100" y="17325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275" y="4275"/>
                </a:lnTo>
                <a:lnTo>
                  <a:pt x="4275" y="17325"/>
                </a:lnTo>
                <a:close/>
              </a:path>
              <a:path fill="darken" w="32375" h="21600">
                <a:moveTo>
                  <a:pt x="11324" y="10800"/>
                </a:moveTo>
                <a:lnTo>
                  <a:pt x="21051" y="5936"/>
                </a:lnTo>
                <a:lnTo>
                  <a:pt x="21051" y="15664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" action="ppaction://hlinkshowjump?jump=firstslide"/>
          </p:cNvPr>
          <p:cNvSpPr/>
          <p:nvPr/>
        </p:nvSpPr>
        <p:spPr>
          <a:xfrm>
            <a:off x="0" y="6553080"/>
            <a:ext cx="457200" cy="304920"/>
          </a:xfrm>
          <a:custGeom>
            <a:avLst/>
            <a:gdLst>
              <a:gd name="textAreaLeft" fmla="*/ 58680 w 457200"/>
              <a:gd name="textAreaRight" fmla="*/ 398520 w 457200"/>
              <a:gd name="textAreaTop" fmla="*/ 58680 h 304920"/>
              <a:gd name="textAreaBottom" fmla="*/ 24624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8212" y="4163"/>
                </a:lnTo>
                <a:lnTo>
                  <a:pt x="4163" y="4163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8212" y="17437"/>
                </a:lnTo>
                <a:lnTo>
                  <a:pt x="28212" y="4163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163" y="17437"/>
                </a:lnTo>
                <a:lnTo>
                  <a:pt x="28212" y="17437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163" y="4163"/>
                </a:lnTo>
                <a:lnTo>
                  <a:pt x="4163" y="17437"/>
                </a:lnTo>
                <a:close/>
              </a:path>
              <a:path fill="darken" w="32375" h="21600">
                <a:moveTo>
                  <a:pt x="13717" y="10800"/>
                </a:moveTo>
                <a:lnTo>
                  <a:pt x="21134" y="5853"/>
                </a:lnTo>
                <a:lnTo>
                  <a:pt x="21134" y="15747"/>
                </a:lnTo>
                <a:close/>
              </a:path>
              <a:path fill="darken" w="32375" h="21600">
                <a:moveTo>
                  <a:pt x="11240" y="5853"/>
                </a:moveTo>
                <a:lnTo>
                  <a:pt x="12414" y="5853"/>
                </a:lnTo>
                <a:lnTo>
                  <a:pt x="12414" y="15747"/>
                </a:lnTo>
                <a:lnTo>
                  <a:pt x="11240" y="15747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057400" y="1371600"/>
            <a:ext cx="6891480" cy="3276720"/>
            <a:chOff x="2057400" y="1371600"/>
            <a:chExt cx="6891480" cy="3276720"/>
          </a:xfrm>
        </p:grpSpPr>
        <p:pic>
          <p:nvPicPr>
            <p:cNvPr id="111" name="3%20forces%20parallèles-2" descr=""/>
            <p:cNvPicPr/>
            <p:nvPr/>
          </p:nvPicPr>
          <p:blipFill>
            <a:blip r:embed="rId2"/>
            <a:srcRect l="0" t="8028" r="0" b="16550"/>
            <a:stretch/>
          </p:blipFill>
          <p:spPr>
            <a:xfrm>
              <a:off x="2057400" y="1371600"/>
              <a:ext cx="6891480" cy="32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3271680" y="3359160"/>
              <a:ext cx="285840" cy="387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844880" y="2940120"/>
              <a:ext cx="285840" cy="387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845480" y="3497400"/>
              <a:ext cx="285840" cy="387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5145120" y="2286000"/>
            <a:ext cx="1066320" cy="2057400"/>
            <a:chOff x="5145120" y="2286000"/>
            <a:chExt cx="1066320" cy="2057400"/>
          </a:xfrm>
        </p:grpSpPr>
        <p:sp>
          <p:nvSpPr>
            <p:cNvPr id="116" name=""/>
            <p:cNvSpPr/>
            <p:nvPr/>
          </p:nvSpPr>
          <p:spPr>
            <a:xfrm>
              <a:off x="5145120" y="2286000"/>
              <a:ext cx="0" cy="2057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5297400" y="3810240"/>
              <a:ext cx="914040" cy="510120"/>
              <a:chOff x="5297400" y="3810240"/>
              <a:chExt cx="914040" cy="510120"/>
            </a:xfrm>
          </p:grpSpPr>
          <p:sp>
            <p:nvSpPr>
              <p:cNvPr id="118" name=""/>
              <p:cNvSpPr/>
              <p:nvPr/>
            </p:nvSpPr>
            <p:spPr>
              <a:xfrm>
                <a:off x="5297400" y="3810240"/>
                <a:ext cx="914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O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Arial"/>
                  </a:rPr>
                  <a:t>3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380560" y="3886200"/>
                <a:ext cx="7480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0" name=""/>
          <p:cNvSpPr/>
          <p:nvPr/>
        </p:nvSpPr>
        <p:spPr>
          <a:xfrm>
            <a:off x="0" y="472428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Une action mécanique de la vis 3 sur la bride 2 au point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0" y="5791320"/>
            <a:ext cx="1219320" cy="609480"/>
            <a:chOff x="0" y="5791320"/>
            <a:chExt cx="1219320" cy="609480"/>
          </a:xfrm>
        </p:grpSpPr>
        <p:sp>
          <p:nvSpPr>
            <p:cNvPr id="122" name=""/>
            <p:cNvSpPr/>
            <p:nvPr/>
          </p:nvSpPr>
          <p:spPr>
            <a:xfrm>
              <a:off x="0" y="5791320"/>
              <a:ext cx="1219320" cy="6094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152280" y="5867280"/>
              <a:ext cx="914040" cy="510120"/>
              <a:chOff x="152280" y="5867280"/>
              <a:chExt cx="914040" cy="510120"/>
            </a:xfrm>
          </p:grpSpPr>
          <p:sp>
            <p:nvSpPr>
              <p:cNvPr id="124" name=""/>
              <p:cNvSpPr/>
              <p:nvPr/>
            </p:nvSpPr>
            <p:spPr>
              <a:xfrm>
                <a:off x="152280" y="5867280"/>
                <a:ext cx="914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O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Arial"/>
                  </a:rPr>
                  <a:t>3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35440" y="5943240"/>
                <a:ext cx="7480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6" name=""/>
          <p:cNvGrpSpPr/>
          <p:nvPr/>
        </p:nvGrpSpPr>
        <p:grpSpPr>
          <a:xfrm>
            <a:off x="1219320" y="5181480"/>
            <a:ext cx="1828800" cy="1219320"/>
            <a:chOff x="1219320" y="5181480"/>
            <a:chExt cx="1828800" cy="1219320"/>
          </a:xfrm>
        </p:grpSpPr>
        <p:grpSp>
          <p:nvGrpSpPr>
            <p:cNvPr id="127" name=""/>
            <p:cNvGrpSpPr/>
            <p:nvPr/>
          </p:nvGrpSpPr>
          <p:grpSpPr>
            <a:xfrm>
              <a:off x="1219320" y="5181480"/>
              <a:ext cx="1828800" cy="609840"/>
              <a:chOff x="1219320" y="5181480"/>
              <a:chExt cx="1828800" cy="609840"/>
            </a:xfrm>
          </p:grpSpPr>
          <p:sp>
            <p:nvSpPr>
              <p:cNvPr id="128" name=""/>
              <p:cNvSpPr/>
              <p:nvPr/>
            </p:nvSpPr>
            <p:spPr>
              <a:xfrm>
                <a:off x="1219320" y="5181480"/>
                <a:ext cx="1828800" cy="609840"/>
              </a:xfrm>
              <a:prstGeom prst="rect">
                <a:avLst/>
              </a:prstGeom>
              <a:solidFill>
                <a:srgbClr val="b2b2b2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371600" y="5257800"/>
                <a:ext cx="1524240" cy="4870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Point d ’applic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1219320" y="5791320"/>
              <a:ext cx="1828800" cy="6094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048120" y="5181480"/>
            <a:ext cx="1828800" cy="1219320"/>
            <a:chOff x="3048120" y="5181480"/>
            <a:chExt cx="1828800" cy="1219320"/>
          </a:xfrm>
        </p:grpSpPr>
        <p:grpSp>
          <p:nvGrpSpPr>
            <p:cNvPr id="132" name=""/>
            <p:cNvGrpSpPr/>
            <p:nvPr/>
          </p:nvGrpSpPr>
          <p:grpSpPr>
            <a:xfrm>
              <a:off x="3048120" y="5181480"/>
              <a:ext cx="1828800" cy="609840"/>
              <a:chOff x="3048120" y="5181480"/>
              <a:chExt cx="1828800" cy="609840"/>
            </a:xfrm>
          </p:grpSpPr>
          <p:sp>
            <p:nvSpPr>
              <p:cNvPr id="133" name=""/>
              <p:cNvSpPr/>
              <p:nvPr/>
            </p:nvSpPr>
            <p:spPr>
              <a:xfrm>
                <a:off x="3048120" y="5181480"/>
                <a:ext cx="1828800" cy="609840"/>
              </a:xfrm>
              <a:prstGeom prst="rect">
                <a:avLst/>
              </a:prstGeom>
              <a:solidFill>
                <a:srgbClr val="b2b2b2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276720" y="5334120"/>
                <a:ext cx="1523880" cy="3373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Dire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3048120" y="5791320"/>
              <a:ext cx="1828800" cy="6094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76920" y="5181480"/>
            <a:ext cx="1828800" cy="1219320"/>
            <a:chOff x="4876920" y="5181480"/>
            <a:chExt cx="1828800" cy="1219320"/>
          </a:xfrm>
        </p:grpSpPr>
        <p:grpSp>
          <p:nvGrpSpPr>
            <p:cNvPr id="137" name=""/>
            <p:cNvGrpSpPr/>
            <p:nvPr/>
          </p:nvGrpSpPr>
          <p:grpSpPr>
            <a:xfrm>
              <a:off x="4876920" y="5181480"/>
              <a:ext cx="1828800" cy="609840"/>
              <a:chOff x="4876920" y="5181480"/>
              <a:chExt cx="1828800" cy="6098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76920" y="5181480"/>
                <a:ext cx="1828800" cy="609840"/>
              </a:xfrm>
              <a:prstGeom prst="rect">
                <a:avLst/>
              </a:prstGeom>
              <a:solidFill>
                <a:srgbClr val="b2b2b2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105520" y="5334120"/>
                <a:ext cx="1523880" cy="3373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Sen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876920" y="5791320"/>
              <a:ext cx="1828800" cy="6094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6705720" y="5181480"/>
            <a:ext cx="1828800" cy="1219320"/>
            <a:chOff x="6705720" y="5181480"/>
            <a:chExt cx="1828800" cy="1219320"/>
          </a:xfrm>
        </p:grpSpPr>
        <p:grpSp>
          <p:nvGrpSpPr>
            <p:cNvPr id="142" name=""/>
            <p:cNvGrpSpPr/>
            <p:nvPr/>
          </p:nvGrpSpPr>
          <p:grpSpPr>
            <a:xfrm>
              <a:off x="6705720" y="5181480"/>
              <a:ext cx="1828800" cy="609840"/>
              <a:chOff x="6705720" y="5181480"/>
              <a:chExt cx="1828800" cy="609840"/>
            </a:xfrm>
          </p:grpSpPr>
          <p:sp>
            <p:nvSpPr>
              <p:cNvPr id="143" name=""/>
              <p:cNvSpPr/>
              <p:nvPr/>
            </p:nvSpPr>
            <p:spPr>
              <a:xfrm>
                <a:off x="6705720" y="5181480"/>
                <a:ext cx="1828800" cy="609840"/>
              </a:xfrm>
              <a:prstGeom prst="rect">
                <a:avLst/>
              </a:prstGeom>
              <a:solidFill>
                <a:srgbClr val="b2b2b2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934320" y="5334120"/>
                <a:ext cx="1523880" cy="3373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Intensité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6705720" y="5791320"/>
              <a:ext cx="1828800" cy="6094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1219320" y="5867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8120" y="58672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vertic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76920" y="58672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vers le b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05720" y="58672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200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RESOLUTION GRAPHIQUE D’UN PROBLEME DE STAT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1295280"/>
            <a:ext cx="876312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" action="ppaction://hlinkshowjump?jump=nextslide"/>
          </p:cNvPr>
          <p:cNvSpPr/>
          <p:nvPr/>
        </p:nvSpPr>
        <p:spPr>
          <a:xfrm>
            <a:off x="8682120" y="6553080"/>
            <a:ext cx="457200" cy="304920"/>
          </a:xfrm>
          <a:custGeom>
            <a:avLst/>
            <a:gdLst>
              <a:gd name="textAreaLeft" fmla="*/ 65160 w 457200"/>
              <a:gd name="textAreaRight" fmla="*/ 392040 w 457200"/>
              <a:gd name="textAreaTop" fmla="*/ 65160 h 304920"/>
              <a:gd name="textAreaBottom" fmla="*/ 23976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7762" y="4613"/>
                </a:lnTo>
                <a:lnTo>
                  <a:pt x="4613" y="4613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7762" y="16987"/>
                </a:lnTo>
                <a:lnTo>
                  <a:pt x="27762" y="4613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613" y="16987"/>
                </a:lnTo>
                <a:lnTo>
                  <a:pt x="27762" y="16987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613" y="4613"/>
                </a:lnTo>
                <a:lnTo>
                  <a:pt x="4613" y="16987"/>
                </a:lnTo>
                <a:close/>
              </a:path>
              <a:path fill="darken" w="32375" h="21600">
                <a:moveTo>
                  <a:pt x="11576" y="6188"/>
                </a:moveTo>
                <a:lnTo>
                  <a:pt x="20799" y="10800"/>
                </a:lnTo>
                <a:lnTo>
                  <a:pt x="11576" y="15412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previousslide"/>
          </p:cNvPr>
          <p:cNvSpPr/>
          <p:nvPr/>
        </p:nvSpPr>
        <p:spPr>
          <a:xfrm>
            <a:off x="633240" y="6553080"/>
            <a:ext cx="457200" cy="304920"/>
          </a:xfrm>
          <a:custGeom>
            <a:avLst/>
            <a:gdLst>
              <a:gd name="textAreaLeft" fmla="*/ 60120 w 457200"/>
              <a:gd name="textAreaRight" fmla="*/ 397080 w 457200"/>
              <a:gd name="textAreaTop" fmla="*/ 60120 h 304920"/>
              <a:gd name="textAreaBottom" fmla="*/ 24480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8100" y="4275"/>
                </a:lnTo>
                <a:lnTo>
                  <a:pt x="4275" y="4275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8100" y="17325"/>
                </a:lnTo>
                <a:lnTo>
                  <a:pt x="28100" y="4275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275" y="17325"/>
                </a:lnTo>
                <a:lnTo>
                  <a:pt x="28100" y="17325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275" y="4275"/>
                </a:lnTo>
                <a:lnTo>
                  <a:pt x="4275" y="17325"/>
                </a:lnTo>
                <a:close/>
              </a:path>
              <a:path fill="darken" w="32375" h="21600">
                <a:moveTo>
                  <a:pt x="11324" y="10800"/>
                </a:moveTo>
                <a:lnTo>
                  <a:pt x="21051" y="5936"/>
                </a:lnTo>
                <a:lnTo>
                  <a:pt x="21051" y="15664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" action="ppaction://hlinkshowjump?jump=firstslide"/>
          </p:cNvPr>
          <p:cNvSpPr/>
          <p:nvPr/>
        </p:nvSpPr>
        <p:spPr>
          <a:xfrm>
            <a:off x="0" y="6553080"/>
            <a:ext cx="457200" cy="304920"/>
          </a:xfrm>
          <a:custGeom>
            <a:avLst/>
            <a:gdLst>
              <a:gd name="textAreaLeft" fmla="*/ 58680 w 457200"/>
              <a:gd name="textAreaRight" fmla="*/ 398520 w 457200"/>
              <a:gd name="textAreaTop" fmla="*/ 58680 h 304920"/>
              <a:gd name="textAreaBottom" fmla="*/ 24624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8212" y="4163"/>
                </a:lnTo>
                <a:lnTo>
                  <a:pt x="4163" y="4163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8212" y="17437"/>
                </a:lnTo>
                <a:lnTo>
                  <a:pt x="28212" y="4163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163" y="17437"/>
                </a:lnTo>
                <a:lnTo>
                  <a:pt x="28212" y="17437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163" y="4163"/>
                </a:lnTo>
                <a:lnTo>
                  <a:pt x="4163" y="17437"/>
                </a:lnTo>
                <a:close/>
              </a:path>
              <a:path fill="darken" w="32375" h="21600">
                <a:moveTo>
                  <a:pt x="13717" y="10800"/>
                </a:moveTo>
                <a:lnTo>
                  <a:pt x="21134" y="5853"/>
                </a:lnTo>
                <a:lnTo>
                  <a:pt x="21134" y="15747"/>
                </a:lnTo>
                <a:close/>
              </a:path>
              <a:path fill="darken" w="32375" h="21600">
                <a:moveTo>
                  <a:pt x="11240" y="5853"/>
                </a:moveTo>
                <a:lnTo>
                  <a:pt x="12414" y="5853"/>
                </a:lnTo>
                <a:lnTo>
                  <a:pt x="12414" y="15747"/>
                </a:lnTo>
                <a:lnTo>
                  <a:pt x="11240" y="15747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2057400" y="1371600"/>
            <a:ext cx="6891480" cy="3276720"/>
            <a:chOff x="2057400" y="1371600"/>
            <a:chExt cx="6891480" cy="3276720"/>
          </a:xfrm>
        </p:grpSpPr>
        <p:pic>
          <p:nvPicPr>
            <p:cNvPr id="156" name="3%20forces%20parallèles-2" descr=""/>
            <p:cNvPicPr/>
            <p:nvPr/>
          </p:nvPicPr>
          <p:blipFill>
            <a:blip r:embed="rId2"/>
            <a:srcRect l="0" t="8028" r="0" b="16550"/>
            <a:stretch/>
          </p:blipFill>
          <p:spPr>
            <a:xfrm>
              <a:off x="2057400" y="1371600"/>
              <a:ext cx="6891480" cy="32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3271680" y="3359160"/>
              <a:ext cx="285840" cy="387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844880" y="2940120"/>
              <a:ext cx="285840" cy="387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845480" y="3497400"/>
              <a:ext cx="285840" cy="387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0" y="47242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Une action mécanique de la pièce 1 sur la bride 2 au point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0" y="5791320"/>
            <a:ext cx="1219320" cy="609480"/>
            <a:chOff x="0" y="5791320"/>
            <a:chExt cx="1219320" cy="609480"/>
          </a:xfrm>
        </p:grpSpPr>
        <p:sp>
          <p:nvSpPr>
            <p:cNvPr id="162" name=""/>
            <p:cNvSpPr/>
            <p:nvPr/>
          </p:nvSpPr>
          <p:spPr>
            <a:xfrm>
              <a:off x="0" y="5791320"/>
              <a:ext cx="1219320" cy="6094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152280" y="5867280"/>
              <a:ext cx="914040" cy="510120"/>
              <a:chOff x="152280" y="5867280"/>
              <a:chExt cx="914040" cy="510120"/>
            </a:xfrm>
          </p:grpSpPr>
          <p:sp>
            <p:nvSpPr>
              <p:cNvPr id="164" name=""/>
              <p:cNvSpPr/>
              <p:nvPr/>
            </p:nvSpPr>
            <p:spPr>
              <a:xfrm>
                <a:off x="152280" y="5867280"/>
                <a:ext cx="914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C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Arial"/>
                  </a:rPr>
                  <a:t>1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35440" y="5943240"/>
                <a:ext cx="7480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6" name=""/>
          <p:cNvGrpSpPr/>
          <p:nvPr/>
        </p:nvGrpSpPr>
        <p:grpSpPr>
          <a:xfrm>
            <a:off x="1219320" y="5181480"/>
            <a:ext cx="1828800" cy="1219320"/>
            <a:chOff x="1219320" y="5181480"/>
            <a:chExt cx="1828800" cy="1219320"/>
          </a:xfrm>
        </p:grpSpPr>
        <p:grpSp>
          <p:nvGrpSpPr>
            <p:cNvPr id="167" name=""/>
            <p:cNvGrpSpPr/>
            <p:nvPr/>
          </p:nvGrpSpPr>
          <p:grpSpPr>
            <a:xfrm>
              <a:off x="1219320" y="5181480"/>
              <a:ext cx="1828800" cy="609840"/>
              <a:chOff x="1219320" y="5181480"/>
              <a:chExt cx="1828800" cy="609840"/>
            </a:xfrm>
          </p:grpSpPr>
          <p:sp>
            <p:nvSpPr>
              <p:cNvPr id="168" name=""/>
              <p:cNvSpPr/>
              <p:nvPr/>
            </p:nvSpPr>
            <p:spPr>
              <a:xfrm>
                <a:off x="1219320" y="5181480"/>
                <a:ext cx="1828800" cy="609840"/>
              </a:xfrm>
              <a:prstGeom prst="rect">
                <a:avLst/>
              </a:prstGeom>
              <a:solidFill>
                <a:srgbClr val="b2b2b2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371600" y="5257800"/>
                <a:ext cx="1524240" cy="4870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Point d ’applic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1219320" y="5791320"/>
              <a:ext cx="1828800" cy="6094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3048120" y="5181480"/>
            <a:ext cx="1828800" cy="1219320"/>
            <a:chOff x="3048120" y="5181480"/>
            <a:chExt cx="1828800" cy="1219320"/>
          </a:xfrm>
        </p:grpSpPr>
        <p:grpSp>
          <p:nvGrpSpPr>
            <p:cNvPr id="172" name=""/>
            <p:cNvGrpSpPr/>
            <p:nvPr/>
          </p:nvGrpSpPr>
          <p:grpSpPr>
            <a:xfrm>
              <a:off x="3048120" y="5181480"/>
              <a:ext cx="1828800" cy="609840"/>
              <a:chOff x="3048120" y="5181480"/>
              <a:chExt cx="1828800" cy="609840"/>
            </a:xfrm>
          </p:grpSpPr>
          <p:sp>
            <p:nvSpPr>
              <p:cNvPr id="173" name=""/>
              <p:cNvSpPr/>
              <p:nvPr/>
            </p:nvSpPr>
            <p:spPr>
              <a:xfrm>
                <a:off x="3048120" y="5181480"/>
                <a:ext cx="1828800" cy="609840"/>
              </a:xfrm>
              <a:prstGeom prst="rect">
                <a:avLst/>
              </a:prstGeom>
              <a:solidFill>
                <a:srgbClr val="b2b2b2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276720" y="5334120"/>
                <a:ext cx="1523880" cy="3373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Dire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3048120" y="5791320"/>
              <a:ext cx="1828800" cy="6094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876920" y="5181480"/>
            <a:ext cx="1828800" cy="1219320"/>
            <a:chOff x="4876920" y="5181480"/>
            <a:chExt cx="1828800" cy="1219320"/>
          </a:xfrm>
        </p:grpSpPr>
        <p:grpSp>
          <p:nvGrpSpPr>
            <p:cNvPr id="177" name=""/>
            <p:cNvGrpSpPr/>
            <p:nvPr/>
          </p:nvGrpSpPr>
          <p:grpSpPr>
            <a:xfrm>
              <a:off x="4876920" y="5181480"/>
              <a:ext cx="1828800" cy="609840"/>
              <a:chOff x="4876920" y="5181480"/>
              <a:chExt cx="1828800" cy="609840"/>
            </a:xfrm>
          </p:grpSpPr>
          <p:sp>
            <p:nvSpPr>
              <p:cNvPr id="178" name=""/>
              <p:cNvSpPr/>
              <p:nvPr/>
            </p:nvSpPr>
            <p:spPr>
              <a:xfrm>
                <a:off x="4876920" y="5181480"/>
                <a:ext cx="1828800" cy="609840"/>
              </a:xfrm>
              <a:prstGeom prst="rect">
                <a:avLst/>
              </a:prstGeom>
              <a:solidFill>
                <a:srgbClr val="b2b2b2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105520" y="5334120"/>
                <a:ext cx="1523880" cy="3373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Sen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4876920" y="5791320"/>
              <a:ext cx="1828800" cy="6094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6705720" y="5181480"/>
            <a:ext cx="1828800" cy="1219320"/>
            <a:chOff x="6705720" y="5181480"/>
            <a:chExt cx="1828800" cy="1219320"/>
          </a:xfrm>
        </p:grpSpPr>
        <p:grpSp>
          <p:nvGrpSpPr>
            <p:cNvPr id="182" name=""/>
            <p:cNvGrpSpPr/>
            <p:nvPr/>
          </p:nvGrpSpPr>
          <p:grpSpPr>
            <a:xfrm>
              <a:off x="6705720" y="5181480"/>
              <a:ext cx="1828800" cy="609840"/>
              <a:chOff x="6705720" y="5181480"/>
              <a:chExt cx="1828800" cy="609840"/>
            </a:xfrm>
          </p:grpSpPr>
          <p:sp>
            <p:nvSpPr>
              <p:cNvPr id="183" name=""/>
              <p:cNvSpPr/>
              <p:nvPr/>
            </p:nvSpPr>
            <p:spPr>
              <a:xfrm>
                <a:off x="6705720" y="5181480"/>
                <a:ext cx="1828800" cy="609840"/>
              </a:xfrm>
              <a:prstGeom prst="rect">
                <a:avLst/>
              </a:prstGeom>
              <a:solidFill>
                <a:srgbClr val="b2b2b2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934320" y="5334120"/>
                <a:ext cx="1523880" cy="3373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Intensité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6705720" y="5791320"/>
              <a:ext cx="1828800" cy="6094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1219320" y="5867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8120" y="58672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vertic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76920" y="58672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vers le ha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05720" y="5867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3657600" y="1447920"/>
            <a:ext cx="0" cy="3124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RESOLUTION GRAPHIQUE D’UN PROBLEME DE STAT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1295280"/>
            <a:ext cx="876312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" action="ppaction://hlinkshowjump?jump=nextslide"/>
          </p:cNvPr>
          <p:cNvSpPr/>
          <p:nvPr/>
        </p:nvSpPr>
        <p:spPr>
          <a:xfrm>
            <a:off x="8682120" y="6553080"/>
            <a:ext cx="457200" cy="304920"/>
          </a:xfrm>
          <a:custGeom>
            <a:avLst/>
            <a:gdLst>
              <a:gd name="textAreaLeft" fmla="*/ 65160 w 457200"/>
              <a:gd name="textAreaRight" fmla="*/ 392040 w 457200"/>
              <a:gd name="textAreaTop" fmla="*/ 65160 h 304920"/>
              <a:gd name="textAreaBottom" fmla="*/ 23976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7762" y="4613"/>
                </a:lnTo>
                <a:lnTo>
                  <a:pt x="4613" y="4613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7762" y="16987"/>
                </a:lnTo>
                <a:lnTo>
                  <a:pt x="27762" y="4613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613" y="16987"/>
                </a:lnTo>
                <a:lnTo>
                  <a:pt x="27762" y="16987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613" y="4613"/>
                </a:lnTo>
                <a:lnTo>
                  <a:pt x="4613" y="16987"/>
                </a:lnTo>
                <a:close/>
              </a:path>
              <a:path fill="darken" w="32375" h="21600">
                <a:moveTo>
                  <a:pt x="11576" y="6188"/>
                </a:moveTo>
                <a:lnTo>
                  <a:pt x="20799" y="10800"/>
                </a:lnTo>
                <a:lnTo>
                  <a:pt x="11576" y="15412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" action="ppaction://hlinkshowjump?jump=previousslide"/>
          </p:cNvPr>
          <p:cNvSpPr/>
          <p:nvPr/>
        </p:nvSpPr>
        <p:spPr>
          <a:xfrm>
            <a:off x="633240" y="6553080"/>
            <a:ext cx="457200" cy="304920"/>
          </a:xfrm>
          <a:custGeom>
            <a:avLst/>
            <a:gdLst>
              <a:gd name="textAreaLeft" fmla="*/ 60120 w 457200"/>
              <a:gd name="textAreaRight" fmla="*/ 397080 w 457200"/>
              <a:gd name="textAreaTop" fmla="*/ 60120 h 304920"/>
              <a:gd name="textAreaBottom" fmla="*/ 24480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8100" y="4275"/>
                </a:lnTo>
                <a:lnTo>
                  <a:pt x="4275" y="4275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8100" y="17325"/>
                </a:lnTo>
                <a:lnTo>
                  <a:pt x="28100" y="4275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275" y="17325"/>
                </a:lnTo>
                <a:lnTo>
                  <a:pt x="28100" y="17325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275" y="4275"/>
                </a:lnTo>
                <a:lnTo>
                  <a:pt x="4275" y="17325"/>
                </a:lnTo>
                <a:close/>
              </a:path>
              <a:path fill="darken" w="32375" h="21600">
                <a:moveTo>
                  <a:pt x="11324" y="10800"/>
                </a:moveTo>
                <a:lnTo>
                  <a:pt x="21051" y="5936"/>
                </a:lnTo>
                <a:lnTo>
                  <a:pt x="21051" y="15664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" action="ppaction://hlinkshowjump?jump=firstslide"/>
          </p:cNvPr>
          <p:cNvSpPr/>
          <p:nvPr/>
        </p:nvSpPr>
        <p:spPr>
          <a:xfrm>
            <a:off x="0" y="6553080"/>
            <a:ext cx="457200" cy="304920"/>
          </a:xfrm>
          <a:custGeom>
            <a:avLst/>
            <a:gdLst>
              <a:gd name="textAreaLeft" fmla="*/ 58680 w 457200"/>
              <a:gd name="textAreaRight" fmla="*/ 398520 w 457200"/>
              <a:gd name="textAreaTop" fmla="*/ 58680 h 304920"/>
              <a:gd name="textAreaBottom" fmla="*/ 24624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8212" y="4163"/>
                </a:lnTo>
                <a:lnTo>
                  <a:pt x="4163" y="4163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8212" y="17437"/>
                </a:lnTo>
                <a:lnTo>
                  <a:pt x="28212" y="4163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163" y="17437"/>
                </a:lnTo>
                <a:lnTo>
                  <a:pt x="28212" y="17437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163" y="4163"/>
                </a:lnTo>
                <a:lnTo>
                  <a:pt x="4163" y="17437"/>
                </a:lnTo>
                <a:close/>
              </a:path>
              <a:path fill="darken" w="32375" h="21600">
                <a:moveTo>
                  <a:pt x="13717" y="10800"/>
                </a:moveTo>
                <a:lnTo>
                  <a:pt x="21134" y="5853"/>
                </a:lnTo>
                <a:lnTo>
                  <a:pt x="21134" y="15747"/>
                </a:lnTo>
                <a:close/>
              </a:path>
              <a:path fill="darken" w="32375" h="21600">
                <a:moveTo>
                  <a:pt x="11240" y="5853"/>
                </a:moveTo>
                <a:lnTo>
                  <a:pt x="12414" y="5853"/>
                </a:lnTo>
                <a:lnTo>
                  <a:pt x="12414" y="15747"/>
                </a:lnTo>
                <a:lnTo>
                  <a:pt x="11240" y="15747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2057400" y="1371600"/>
            <a:ext cx="6891480" cy="3276720"/>
            <a:chOff x="2057400" y="1371600"/>
            <a:chExt cx="6891480" cy="3276720"/>
          </a:xfrm>
        </p:grpSpPr>
        <p:pic>
          <p:nvPicPr>
            <p:cNvPr id="197" name="3%20forces%20parallèles-2" descr=""/>
            <p:cNvPicPr/>
            <p:nvPr/>
          </p:nvPicPr>
          <p:blipFill>
            <a:blip r:embed="rId2"/>
            <a:srcRect l="0" t="8028" r="0" b="16550"/>
            <a:stretch/>
          </p:blipFill>
          <p:spPr>
            <a:xfrm>
              <a:off x="2057400" y="1371600"/>
              <a:ext cx="6891480" cy="32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3271680" y="3359160"/>
              <a:ext cx="285840" cy="387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844880" y="2940120"/>
              <a:ext cx="285840" cy="387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845480" y="3497400"/>
              <a:ext cx="285840" cy="387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0" y="47242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Une action mécanique de l’appui 5 sur la bride 2 au point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0" y="5791320"/>
            <a:ext cx="1219320" cy="609480"/>
            <a:chOff x="0" y="5791320"/>
            <a:chExt cx="1219320" cy="609480"/>
          </a:xfrm>
        </p:grpSpPr>
        <p:sp>
          <p:nvSpPr>
            <p:cNvPr id="203" name=""/>
            <p:cNvSpPr/>
            <p:nvPr/>
          </p:nvSpPr>
          <p:spPr>
            <a:xfrm>
              <a:off x="0" y="5791320"/>
              <a:ext cx="1219320" cy="6094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152280" y="5867280"/>
              <a:ext cx="914040" cy="510120"/>
              <a:chOff x="152280" y="5867280"/>
              <a:chExt cx="914040" cy="510120"/>
            </a:xfrm>
          </p:grpSpPr>
          <p:sp>
            <p:nvSpPr>
              <p:cNvPr id="205" name=""/>
              <p:cNvSpPr/>
              <p:nvPr/>
            </p:nvSpPr>
            <p:spPr>
              <a:xfrm>
                <a:off x="152280" y="5867280"/>
                <a:ext cx="914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A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Arial"/>
                  </a:rPr>
                  <a:t>5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35440" y="5943240"/>
                <a:ext cx="7480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7" name=""/>
          <p:cNvGrpSpPr/>
          <p:nvPr/>
        </p:nvGrpSpPr>
        <p:grpSpPr>
          <a:xfrm>
            <a:off x="1219320" y="5181480"/>
            <a:ext cx="1828800" cy="1219320"/>
            <a:chOff x="1219320" y="5181480"/>
            <a:chExt cx="1828800" cy="1219320"/>
          </a:xfrm>
        </p:grpSpPr>
        <p:grpSp>
          <p:nvGrpSpPr>
            <p:cNvPr id="208" name=""/>
            <p:cNvGrpSpPr/>
            <p:nvPr/>
          </p:nvGrpSpPr>
          <p:grpSpPr>
            <a:xfrm>
              <a:off x="1219320" y="5181480"/>
              <a:ext cx="1828800" cy="609840"/>
              <a:chOff x="1219320" y="5181480"/>
              <a:chExt cx="1828800" cy="609840"/>
            </a:xfrm>
          </p:grpSpPr>
          <p:sp>
            <p:nvSpPr>
              <p:cNvPr id="209" name=""/>
              <p:cNvSpPr/>
              <p:nvPr/>
            </p:nvSpPr>
            <p:spPr>
              <a:xfrm>
                <a:off x="1219320" y="5181480"/>
                <a:ext cx="1828800" cy="609840"/>
              </a:xfrm>
              <a:prstGeom prst="rect">
                <a:avLst/>
              </a:prstGeom>
              <a:solidFill>
                <a:srgbClr val="b2b2b2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371600" y="5257800"/>
                <a:ext cx="1524240" cy="4870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Point d ’applic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1219320" y="5791320"/>
              <a:ext cx="1828800" cy="6094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3048120" y="5181480"/>
            <a:ext cx="1828800" cy="1219320"/>
            <a:chOff x="3048120" y="5181480"/>
            <a:chExt cx="1828800" cy="1219320"/>
          </a:xfrm>
        </p:grpSpPr>
        <p:grpSp>
          <p:nvGrpSpPr>
            <p:cNvPr id="213" name=""/>
            <p:cNvGrpSpPr/>
            <p:nvPr/>
          </p:nvGrpSpPr>
          <p:grpSpPr>
            <a:xfrm>
              <a:off x="3048120" y="5181480"/>
              <a:ext cx="1828800" cy="609840"/>
              <a:chOff x="3048120" y="5181480"/>
              <a:chExt cx="1828800" cy="609840"/>
            </a:xfrm>
          </p:grpSpPr>
          <p:sp>
            <p:nvSpPr>
              <p:cNvPr id="214" name=""/>
              <p:cNvSpPr/>
              <p:nvPr/>
            </p:nvSpPr>
            <p:spPr>
              <a:xfrm>
                <a:off x="3048120" y="5181480"/>
                <a:ext cx="1828800" cy="609840"/>
              </a:xfrm>
              <a:prstGeom prst="rect">
                <a:avLst/>
              </a:prstGeom>
              <a:solidFill>
                <a:srgbClr val="b2b2b2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276720" y="5334120"/>
                <a:ext cx="1523880" cy="3373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Dire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6" name=""/>
            <p:cNvSpPr/>
            <p:nvPr/>
          </p:nvSpPr>
          <p:spPr>
            <a:xfrm>
              <a:off x="3048120" y="5791320"/>
              <a:ext cx="1828800" cy="6094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4876920" y="5181480"/>
            <a:ext cx="1828800" cy="1219320"/>
            <a:chOff x="4876920" y="5181480"/>
            <a:chExt cx="1828800" cy="1219320"/>
          </a:xfrm>
        </p:grpSpPr>
        <p:grpSp>
          <p:nvGrpSpPr>
            <p:cNvPr id="218" name=""/>
            <p:cNvGrpSpPr/>
            <p:nvPr/>
          </p:nvGrpSpPr>
          <p:grpSpPr>
            <a:xfrm>
              <a:off x="4876920" y="5181480"/>
              <a:ext cx="1828800" cy="609840"/>
              <a:chOff x="4876920" y="5181480"/>
              <a:chExt cx="1828800" cy="609840"/>
            </a:xfrm>
          </p:grpSpPr>
          <p:sp>
            <p:nvSpPr>
              <p:cNvPr id="219" name=""/>
              <p:cNvSpPr/>
              <p:nvPr/>
            </p:nvSpPr>
            <p:spPr>
              <a:xfrm>
                <a:off x="4876920" y="5181480"/>
                <a:ext cx="1828800" cy="609840"/>
              </a:xfrm>
              <a:prstGeom prst="rect">
                <a:avLst/>
              </a:prstGeom>
              <a:solidFill>
                <a:srgbClr val="b2b2b2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105520" y="5334120"/>
                <a:ext cx="1523880" cy="3373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Sen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4876920" y="5791320"/>
              <a:ext cx="1828800" cy="6094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6705720" y="5181480"/>
            <a:ext cx="1828800" cy="1219320"/>
            <a:chOff x="6705720" y="5181480"/>
            <a:chExt cx="1828800" cy="1219320"/>
          </a:xfrm>
        </p:grpSpPr>
        <p:grpSp>
          <p:nvGrpSpPr>
            <p:cNvPr id="223" name=""/>
            <p:cNvGrpSpPr/>
            <p:nvPr/>
          </p:nvGrpSpPr>
          <p:grpSpPr>
            <a:xfrm>
              <a:off x="6705720" y="5181480"/>
              <a:ext cx="1828800" cy="609840"/>
              <a:chOff x="6705720" y="5181480"/>
              <a:chExt cx="1828800" cy="609840"/>
            </a:xfrm>
          </p:grpSpPr>
          <p:sp>
            <p:nvSpPr>
              <p:cNvPr id="224" name=""/>
              <p:cNvSpPr/>
              <p:nvPr/>
            </p:nvSpPr>
            <p:spPr>
              <a:xfrm>
                <a:off x="6705720" y="5181480"/>
                <a:ext cx="1828800" cy="609840"/>
              </a:xfrm>
              <a:prstGeom prst="rect">
                <a:avLst/>
              </a:prstGeom>
              <a:solidFill>
                <a:srgbClr val="b2b2b2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934320" y="5334120"/>
                <a:ext cx="1523880" cy="3373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Intensité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6705720" y="5791320"/>
              <a:ext cx="1828800" cy="6094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1219320" y="5867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705720" y="5867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962520" y="5867280"/>
            <a:ext cx="1828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7187040" y="2678400"/>
            <a:ext cx="1095840" cy="1867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7219800" y="2660040"/>
            <a:ext cx="1029960" cy="190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 flipV="1">
            <a:off x="7253280" y="2642760"/>
            <a:ext cx="963000" cy="1938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 flipV="1">
            <a:off x="7287480" y="2626200"/>
            <a:ext cx="894600" cy="1971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7322040" y="2611440"/>
            <a:ext cx="825480" cy="2001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7357320" y="2597400"/>
            <a:ext cx="754920" cy="2029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 flipV="1">
            <a:off x="7392960" y="2585160"/>
            <a:ext cx="683640" cy="2054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 flipV="1">
            <a:off x="7428960" y="2573640"/>
            <a:ext cx="611640" cy="2076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 flipV="1">
            <a:off x="7465320" y="2563560"/>
            <a:ext cx="538920" cy="2097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 flipV="1">
            <a:off x="7502040" y="2554920"/>
            <a:ext cx="465480" cy="2114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flipV="1">
            <a:off x="7539120" y="2547360"/>
            <a:ext cx="391320" cy="2129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7576560" y="2541240"/>
            <a:ext cx="316440" cy="2142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7614000" y="2536200"/>
            <a:ext cx="241560" cy="2151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flipV="1">
            <a:off x="7651800" y="2532600"/>
            <a:ext cx="166320" cy="2158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flipV="1">
            <a:off x="7689240" y="2530440"/>
            <a:ext cx="91080" cy="2163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7727040" y="2529720"/>
            <a:ext cx="15480" cy="2165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7704720" y="2530080"/>
            <a:ext cx="60120" cy="2164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7666920" y="2531520"/>
            <a:ext cx="135720" cy="2161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629480" y="2534760"/>
            <a:ext cx="210960" cy="2154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7591680" y="2539080"/>
            <a:ext cx="286200" cy="2145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7554600" y="2544840"/>
            <a:ext cx="360720" cy="2134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7517160" y="2551680"/>
            <a:ext cx="435240" cy="2120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7480440" y="2559960"/>
            <a:ext cx="508680" cy="2104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7449120" y="2575800"/>
            <a:ext cx="581760" cy="2085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7412760" y="2586600"/>
            <a:ext cx="654480" cy="2064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7377120" y="2598840"/>
            <a:ext cx="725760" cy="2039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341840" y="2611800"/>
            <a:ext cx="796320" cy="2013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7306920" y="2626560"/>
            <a:ext cx="866160" cy="1984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7272360" y="2642040"/>
            <a:ext cx="935280" cy="1953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7238520" y="2658960"/>
            <a:ext cx="1002960" cy="1919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7205400" y="2677320"/>
            <a:ext cx="1069200" cy="1882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543800" y="3505320"/>
            <a:ext cx="114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705720" y="3505320"/>
            <a:ext cx="114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0" y="2438280"/>
            <a:ext cx="114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391520" y="2438280"/>
            <a:ext cx="114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3T17:08:23Z</dcterms:created>
  <dc:creator>Philippe Jeannerod</dc:creator>
  <dc:description/>
  <dc:language>en-US</dc:language>
  <cp:lastModifiedBy>BTS Microtechniques</cp:lastModifiedBy>
  <dcterms:modified xsi:type="dcterms:W3CDTF">2003-04-09T14:22:01Z</dcterms:modified>
  <cp:revision>20</cp:revision>
  <dc:subject>Méthode de résolution de problèmes 3 forces parallèles</dc:subject>
  <dc:title>STATIQUE</dc:title>
</cp:coreProperties>
</file>