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38080"/>
            <a:ext cx="762012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TS µ 2000 - Carott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7254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.JEANNE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EF-Monochrome" descr=""/>
          <p:cNvPicPr/>
          <p:nvPr/>
        </p:nvPicPr>
        <p:blipFill>
          <a:blip r:embed="rId3"/>
          <a:stretch/>
        </p:blipFill>
        <p:spPr>
          <a:xfrm>
            <a:off x="7972560" y="0"/>
            <a:ext cx="117144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Question%20Limiteur%20de%20couple.ppt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 3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tation fonctionnel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990720" y="3200400"/>
            <a:ext cx="6247800" cy="914400"/>
            <a:chOff x="990720" y="3200400"/>
            <a:chExt cx="6247800" cy="914400"/>
          </a:xfrm>
        </p:grpSpPr>
        <p:grpSp>
          <p:nvGrpSpPr>
            <p:cNvPr id="44" name=""/>
            <p:cNvGrpSpPr/>
            <p:nvPr/>
          </p:nvGrpSpPr>
          <p:grpSpPr>
            <a:xfrm>
              <a:off x="990720" y="3200400"/>
              <a:ext cx="1981080" cy="914400"/>
              <a:chOff x="990720" y="3200400"/>
              <a:chExt cx="1981080" cy="914400"/>
            </a:xfrm>
          </p:grpSpPr>
          <p:sp>
            <p:nvSpPr>
              <p:cNvPr id="45" name=""/>
              <p:cNvSpPr/>
              <p:nvPr/>
            </p:nvSpPr>
            <p:spPr>
              <a:xfrm>
                <a:off x="990720" y="3200400"/>
                <a:ext cx="1828800" cy="914400"/>
              </a:xfrm>
              <a:custGeom>
                <a:avLst/>
                <a:gdLst/>
                <a:ahLst/>
                <a:rect l="l" t="t" r="r" b="b"/>
                <a:pathLst>
                  <a:path w="1152" h="576">
                    <a:moveTo>
                      <a:pt x="48" y="0"/>
                    </a:moveTo>
                    <a:lnTo>
                      <a:pt x="432" y="0"/>
                    </a:lnTo>
                    <a:lnTo>
                      <a:pt x="432" y="288"/>
                    </a:lnTo>
                    <a:lnTo>
                      <a:pt x="1152" y="288"/>
                    </a:lnTo>
                    <a:lnTo>
                      <a:pt x="1152" y="576"/>
                    </a:lnTo>
                    <a:lnTo>
                      <a:pt x="48" y="576"/>
                    </a:lnTo>
                    <a:lnTo>
                      <a:pt x="96" y="432"/>
                    </a:lnTo>
                    <a:lnTo>
                      <a:pt x="0" y="192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819520" y="4114800"/>
                <a:ext cx="152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" name=""/>
            <p:cNvGrpSpPr/>
            <p:nvPr/>
          </p:nvGrpSpPr>
          <p:grpSpPr>
            <a:xfrm>
              <a:off x="5257800" y="3200400"/>
              <a:ext cx="1980720" cy="914400"/>
              <a:chOff x="5257800" y="3200400"/>
              <a:chExt cx="1980720" cy="914400"/>
            </a:xfrm>
          </p:grpSpPr>
          <p:sp>
            <p:nvSpPr>
              <p:cNvPr id="48" name=""/>
              <p:cNvSpPr/>
              <p:nvPr/>
            </p:nvSpPr>
            <p:spPr>
              <a:xfrm flipH="1">
                <a:off x="5409720" y="3200400"/>
                <a:ext cx="1828440" cy="914400"/>
              </a:xfrm>
              <a:custGeom>
                <a:avLst/>
                <a:gdLst/>
                <a:ahLst/>
                <a:rect l="l" t="t" r="r" b="b"/>
                <a:pathLst>
                  <a:path w="1152" h="576">
                    <a:moveTo>
                      <a:pt x="48" y="0"/>
                    </a:moveTo>
                    <a:lnTo>
                      <a:pt x="432" y="0"/>
                    </a:lnTo>
                    <a:lnTo>
                      <a:pt x="432" y="288"/>
                    </a:lnTo>
                    <a:lnTo>
                      <a:pt x="1152" y="288"/>
                    </a:lnTo>
                    <a:lnTo>
                      <a:pt x="1152" y="576"/>
                    </a:lnTo>
                    <a:lnTo>
                      <a:pt x="48" y="576"/>
                    </a:lnTo>
                    <a:lnTo>
                      <a:pt x="96" y="432"/>
                    </a:lnTo>
                    <a:lnTo>
                      <a:pt x="0" y="192"/>
                    </a:lnTo>
                    <a:lnTo>
                      <a:pt x="48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>
                <a:off x="5257800" y="4114800"/>
                <a:ext cx="15228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" name=""/>
          <p:cNvSpPr/>
          <p:nvPr/>
        </p:nvSpPr>
        <p:spPr>
          <a:xfrm>
            <a:off x="4572000" y="6172200"/>
            <a:ext cx="45720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d’ensemble do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143000"/>
            <a:ext cx="3613320" cy="61020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22 : Maintenir l ’élément fixe sur le carter à l’aide de 4 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2286000"/>
            <a:ext cx="0" cy="358128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352320" y="2819520"/>
            <a:ext cx="1524600" cy="2582640"/>
            <a:chOff x="3352320" y="2819520"/>
            <a:chExt cx="1524600" cy="2582640"/>
          </a:xfrm>
        </p:grpSpPr>
        <p:grpSp>
          <p:nvGrpSpPr>
            <p:cNvPr id="54" name=""/>
            <p:cNvGrpSpPr/>
            <p:nvPr/>
          </p:nvGrpSpPr>
          <p:grpSpPr>
            <a:xfrm>
              <a:off x="3352320" y="2819520"/>
              <a:ext cx="762480" cy="2582640"/>
              <a:chOff x="3352320" y="2819520"/>
              <a:chExt cx="762480" cy="2582640"/>
            </a:xfrm>
          </p:grpSpPr>
          <p:sp>
            <p:nvSpPr>
              <p:cNvPr id="55" name=""/>
              <p:cNvSpPr/>
              <p:nvPr/>
            </p:nvSpPr>
            <p:spPr>
              <a:xfrm>
                <a:off x="3657600" y="281952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3504960" y="41148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3352320" y="47242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3505320" y="41144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3352680" y="47242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62400" y="5208480"/>
                <a:ext cx="741240" cy="193680"/>
              </a:xfrm>
              <a:custGeom>
                <a:avLst/>
                <a:gdLst/>
                <a:ahLst/>
                <a:rect l="l" t="t" r="r" b="b"/>
                <a:pathLst>
                  <a:path w="467" h="122">
                    <a:moveTo>
                      <a:pt x="0" y="66"/>
                    </a:moveTo>
                    <a:cubicBezTo>
                      <a:pt x="56" y="122"/>
                      <a:pt x="86" y="94"/>
                      <a:pt x="186" y="89"/>
                    </a:cubicBezTo>
                    <a:cubicBezTo>
                      <a:pt x="210" y="80"/>
                      <a:pt x="228" y="67"/>
                      <a:pt x="252" y="59"/>
                    </a:cubicBezTo>
                    <a:cubicBezTo>
                      <a:pt x="298" y="29"/>
                      <a:pt x="340" y="12"/>
                      <a:pt x="393" y="0"/>
                    </a:cubicBezTo>
                    <a:cubicBezTo>
                      <a:pt x="421" y="5"/>
                      <a:pt x="442" y="10"/>
                      <a:pt x="467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668760" y="2832120"/>
                <a:ext cx="446040" cy="84240"/>
              </a:xfrm>
              <a:custGeom>
                <a:avLst/>
                <a:gdLst/>
                <a:ahLst/>
                <a:rect l="l" t="t" r="r" b="b"/>
                <a:pathLst>
                  <a:path w="281" h="53">
                    <a:moveTo>
                      <a:pt x="0" y="0"/>
                    </a:moveTo>
                    <a:cubicBezTo>
                      <a:pt x="37" y="3"/>
                      <a:pt x="74" y="4"/>
                      <a:pt x="111" y="8"/>
                    </a:cubicBezTo>
                    <a:cubicBezTo>
                      <a:pt x="136" y="11"/>
                      <a:pt x="157" y="27"/>
                      <a:pt x="178" y="37"/>
                    </a:cubicBezTo>
                    <a:cubicBezTo>
                      <a:pt x="212" y="53"/>
                      <a:pt x="244" y="52"/>
                      <a:pt x="281" y="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4114440" y="2819520"/>
              <a:ext cx="762480" cy="2582640"/>
              <a:chOff x="4114440" y="2819520"/>
              <a:chExt cx="762480" cy="2582640"/>
            </a:xfrm>
          </p:grpSpPr>
          <p:sp>
            <p:nvSpPr>
              <p:cNvPr id="63" name=""/>
              <p:cNvSpPr/>
              <p:nvPr/>
            </p:nvSpPr>
            <p:spPr>
              <a:xfrm>
                <a:off x="4571640" y="281952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114800" y="411480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14800" y="4724280"/>
                <a:ext cx="76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723920" y="41144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876560" y="472428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4125240" y="5208480"/>
                <a:ext cx="741240" cy="193680"/>
              </a:xfrm>
              <a:custGeom>
                <a:avLst/>
                <a:gdLst/>
                <a:ahLst/>
                <a:rect l="l" t="t" r="r" b="b"/>
                <a:pathLst>
                  <a:path w="467" h="122">
                    <a:moveTo>
                      <a:pt x="0" y="66"/>
                    </a:moveTo>
                    <a:cubicBezTo>
                      <a:pt x="56" y="122"/>
                      <a:pt x="86" y="94"/>
                      <a:pt x="186" y="89"/>
                    </a:cubicBezTo>
                    <a:cubicBezTo>
                      <a:pt x="210" y="80"/>
                      <a:pt x="228" y="67"/>
                      <a:pt x="252" y="59"/>
                    </a:cubicBezTo>
                    <a:cubicBezTo>
                      <a:pt x="298" y="29"/>
                      <a:pt x="340" y="12"/>
                      <a:pt x="393" y="0"/>
                    </a:cubicBezTo>
                    <a:cubicBezTo>
                      <a:pt x="421" y="5"/>
                      <a:pt x="442" y="10"/>
                      <a:pt x="467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4114080" y="2832120"/>
                <a:ext cx="446040" cy="84240"/>
              </a:xfrm>
              <a:custGeom>
                <a:avLst/>
                <a:gdLst/>
                <a:ahLst/>
                <a:rect l="l" t="t" r="r" b="b"/>
                <a:pathLst>
                  <a:path w="281" h="53">
                    <a:moveTo>
                      <a:pt x="0" y="0"/>
                    </a:moveTo>
                    <a:cubicBezTo>
                      <a:pt x="37" y="3"/>
                      <a:pt x="74" y="4"/>
                      <a:pt x="111" y="8"/>
                    </a:cubicBezTo>
                    <a:cubicBezTo>
                      <a:pt x="136" y="11"/>
                      <a:pt x="157" y="27"/>
                      <a:pt x="178" y="37"/>
                    </a:cubicBezTo>
                    <a:cubicBezTo>
                      <a:pt x="212" y="53"/>
                      <a:pt x="244" y="52"/>
                      <a:pt x="281" y="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1676520" y="2971800"/>
            <a:ext cx="4876200" cy="685800"/>
            <a:chOff x="1676520" y="2971800"/>
            <a:chExt cx="4876200" cy="685800"/>
          </a:xfrm>
        </p:grpSpPr>
        <p:grpSp>
          <p:nvGrpSpPr>
            <p:cNvPr id="71" name=""/>
            <p:cNvGrpSpPr/>
            <p:nvPr/>
          </p:nvGrpSpPr>
          <p:grpSpPr>
            <a:xfrm>
              <a:off x="1676520" y="2971800"/>
              <a:ext cx="1981080" cy="685800"/>
              <a:chOff x="1676520" y="2971800"/>
              <a:chExt cx="1981080" cy="685800"/>
            </a:xfrm>
          </p:grpSpPr>
          <p:sp>
            <p:nvSpPr>
              <p:cNvPr id="72" name=""/>
              <p:cNvSpPr/>
              <p:nvPr/>
            </p:nvSpPr>
            <p:spPr>
              <a:xfrm>
                <a:off x="2590920" y="2971800"/>
                <a:ext cx="990360" cy="685800"/>
              </a:xfrm>
              <a:custGeom>
                <a:avLst/>
                <a:gdLst/>
                <a:ahLst/>
                <a:rect l="l" t="t" r="r" b="b"/>
                <a:pathLst>
                  <a:path w="624" h="432">
                    <a:moveTo>
                      <a:pt x="96" y="0"/>
                    </a:moveTo>
                    <a:lnTo>
                      <a:pt x="624" y="0"/>
                    </a:lnTo>
                    <a:lnTo>
                      <a:pt x="624" y="432"/>
                    </a:lnTo>
                    <a:lnTo>
                      <a:pt x="480" y="432"/>
                    </a:lnTo>
                    <a:lnTo>
                      <a:pt x="480" y="192"/>
                    </a:lnTo>
                    <a:lnTo>
                      <a:pt x="192" y="192"/>
                    </a:lnTo>
                    <a:lnTo>
                      <a:pt x="192" y="432"/>
                    </a:lnTo>
                    <a:lnTo>
                      <a:pt x="0" y="432"/>
                    </a:lnTo>
                    <a:lnTo>
                      <a:pt x="0" y="144"/>
                    </a:lnTo>
                    <a:lnTo>
                      <a:pt x="96" y="144"/>
                    </a:lnTo>
                    <a:lnTo>
                      <a:pt x="96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76520" y="2971800"/>
                <a:ext cx="380880" cy="685800"/>
              </a:xfrm>
              <a:custGeom>
                <a:avLst/>
                <a:gdLst/>
                <a:ahLst/>
                <a:rect l="l" t="t" r="r" b="b"/>
                <a:pathLst>
                  <a:path w="240" h="432">
                    <a:moveTo>
                      <a:pt x="240" y="432"/>
                    </a:moveTo>
                    <a:lnTo>
                      <a:pt x="240" y="144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0"/>
                    </a:lnTo>
                    <a:lnTo>
                      <a:pt x="0" y="432"/>
                    </a:lnTo>
                    <a:lnTo>
                      <a:pt x="240" y="432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57400" y="365760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905120" y="2971800"/>
                <a:ext cx="838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895480" y="3657600"/>
                <a:ext cx="762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581280" y="2971800"/>
                <a:ext cx="7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057400" y="320040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4571640" y="2971800"/>
              <a:ext cx="1981080" cy="685800"/>
              <a:chOff x="4571640" y="2971800"/>
              <a:chExt cx="1981080" cy="685800"/>
            </a:xfrm>
          </p:grpSpPr>
          <p:sp>
            <p:nvSpPr>
              <p:cNvPr id="80" name=""/>
              <p:cNvSpPr/>
              <p:nvPr/>
            </p:nvSpPr>
            <p:spPr>
              <a:xfrm flipH="1">
                <a:off x="4647600" y="2971800"/>
                <a:ext cx="990360" cy="685800"/>
              </a:xfrm>
              <a:custGeom>
                <a:avLst/>
                <a:gdLst/>
                <a:ahLst/>
                <a:rect l="l" t="t" r="r" b="b"/>
                <a:pathLst>
                  <a:path w="624" h="432">
                    <a:moveTo>
                      <a:pt x="96" y="0"/>
                    </a:moveTo>
                    <a:lnTo>
                      <a:pt x="624" y="0"/>
                    </a:lnTo>
                    <a:lnTo>
                      <a:pt x="624" y="432"/>
                    </a:lnTo>
                    <a:lnTo>
                      <a:pt x="480" y="432"/>
                    </a:lnTo>
                    <a:lnTo>
                      <a:pt x="480" y="192"/>
                    </a:lnTo>
                    <a:lnTo>
                      <a:pt x="192" y="192"/>
                    </a:lnTo>
                    <a:lnTo>
                      <a:pt x="192" y="432"/>
                    </a:lnTo>
                    <a:lnTo>
                      <a:pt x="0" y="432"/>
                    </a:lnTo>
                    <a:lnTo>
                      <a:pt x="0" y="144"/>
                    </a:lnTo>
                    <a:lnTo>
                      <a:pt x="96" y="144"/>
                    </a:lnTo>
                    <a:lnTo>
                      <a:pt x="96" y="0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6171840" y="2971800"/>
                <a:ext cx="380880" cy="685800"/>
              </a:xfrm>
              <a:custGeom>
                <a:avLst/>
                <a:gdLst/>
                <a:ahLst/>
                <a:rect l="l" t="t" r="r" b="b"/>
                <a:pathLst>
                  <a:path w="240" h="432">
                    <a:moveTo>
                      <a:pt x="240" y="432"/>
                    </a:moveTo>
                    <a:lnTo>
                      <a:pt x="240" y="144"/>
                    </a:lnTo>
                    <a:lnTo>
                      <a:pt x="144" y="144"/>
                    </a:lnTo>
                    <a:lnTo>
                      <a:pt x="144" y="0"/>
                    </a:lnTo>
                    <a:lnTo>
                      <a:pt x="0" y="0"/>
                    </a:lnTo>
                    <a:lnTo>
                      <a:pt x="0" y="432"/>
                    </a:lnTo>
                    <a:lnTo>
                      <a:pt x="240" y="432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5638320" y="365760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5486040" y="2971800"/>
                <a:ext cx="838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4571640" y="3657600"/>
                <a:ext cx="762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4571640" y="2971800"/>
                <a:ext cx="76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5638320" y="3200400"/>
                <a:ext cx="5335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" name=""/>
          <p:cNvGrpSpPr/>
          <p:nvPr/>
        </p:nvGrpSpPr>
        <p:grpSpPr>
          <a:xfrm>
            <a:off x="2971800" y="3352680"/>
            <a:ext cx="2285640" cy="762120"/>
            <a:chOff x="2971800" y="3352680"/>
            <a:chExt cx="2285640" cy="762120"/>
          </a:xfrm>
        </p:grpSpPr>
        <p:sp>
          <p:nvSpPr>
            <p:cNvPr id="88" name=""/>
            <p:cNvSpPr/>
            <p:nvPr/>
          </p:nvSpPr>
          <p:spPr>
            <a:xfrm>
              <a:off x="2971800" y="3352680"/>
              <a:ext cx="685800" cy="76212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432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432" y="192"/>
                  </a:lnTo>
                  <a:lnTo>
                    <a:pt x="432" y="384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4571280" y="3352680"/>
              <a:ext cx="685800" cy="762120"/>
            </a:xfrm>
            <a:custGeom>
              <a:avLst/>
              <a:gdLst/>
              <a:ahLst/>
              <a:rect l="l" t="t" r="r" b="b"/>
              <a:pathLst>
                <a:path w="432" h="384">
                  <a:moveTo>
                    <a:pt x="432" y="384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92"/>
                  </a:lnTo>
                  <a:lnTo>
                    <a:pt x="432" y="192"/>
                  </a:lnTo>
                  <a:lnTo>
                    <a:pt x="432" y="384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981080" y="2743200"/>
            <a:ext cx="685800" cy="1600200"/>
            <a:chOff x="1981080" y="2743200"/>
            <a:chExt cx="685800" cy="1600200"/>
          </a:xfrm>
        </p:grpSpPr>
        <p:grpSp>
          <p:nvGrpSpPr>
            <p:cNvPr id="91" name=""/>
            <p:cNvGrpSpPr/>
            <p:nvPr/>
          </p:nvGrpSpPr>
          <p:grpSpPr>
            <a:xfrm>
              <a:off x="1981080" y="2975040"/>
              <a:ext cx="685800" cy="1143000"/>
              <a:chOff x="1981080" y="2975040"/>
              <a:chExt cx="685800" cy="1143000"/>
            </a:xfrm>
          </p:grpSpPr>
          <p:sp>
            <p:nvSpPr>
              <p:cNvPr id="92" name=""/>
              <p:cNvSpPr/>
              <p:nvPr/>
            </p:nvSpPr>
            <p:spPr>
              <a:xfrm>
                <a:off x="1981080" y="2975040"/>
                <a:ext cx="685800" cy="11430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336" y="144"/>
                    </a:moveTo>
                    <a:lnTo>
                      <a:pt x="336" y="672"/>
                    </a:lnTo>
                    <a:lnTo>
                      <a:pt x="288" y="720"/>
                    </a:lnTo>
                    <a:lnTo>
                      <a:pt x="144" y="720"/>
                    </a:lnTo>
                    <a:lnTo>
                      <a:pt x="96" y="672"/>
                    </a:lnTo>
                    <a:lnTo>
                      <a:pt x="96" y="144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432" y="0"/>
                    </a:lnTo>
                    <a:lnTo>
                      <a:pt x="432" y="144"/>
                    </a:lnTo>
                    <a:lnTo>
                      <a:pt x="336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" name=""/>
              <p:cNvGrpSpPr/>
              <p:nvPr/>
            </p:nvGrpSpPr>
            <p:grpSpPr>
              <a:xfrm>
                <a:off x="2133720" y="2975040"/>
                <a:ext cx="380880" cy="1142640"/>
                <a:chOff x="2133720" y="2975040"/>
                <a:chExt cx="380880" cy="11426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133720" y="32036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133720" y="4041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133720" y="33559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V="1">
                  <a:off x="2209680" y="335556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2438280" y="335556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286000" y="2975040"/>
                  <a:ext cx="76320" cy="152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0" name=""/>
            <p:cNvSpPr/>
            <p:nvPr/>
          </p:nvSpPr>
          <p:spPr>
            <a:xfrm>
              <a:off x="2327400" y="27432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562720" y="2743200"/>
            <a:ext cx="685800" cy="1600200"/>
            <a:chOff x="5562720" y="2743200"/>
            <a:chExt cx="685800" cy="1600200"/>
          </a:xfrm>
        </p:grpSpPr>
        <p:grpSp>
          <p:nvGrpSpPr>
            <p:cNvPr id="102" name=""/>
            <p:cNvGrpSpPr/>
            <p:nvPr/>
          </p:nvGrpSpPr>
          <p:grpSpPr>
            <a:xfrm>
              <a:off x="5562720" y="2975040"/>
              <a:ext cx="685800" cy="1143000"/>
              <a:chOff x="5562720" y="2975040"/>
              <a:chExt cx="685800" cy="1143000"/>
            </a:xfrm>
          </p:grpSpPr>
          <p:sp>
            <p:nvSpPr>
              <p:cNvPr id="103" name=""/>
              <p:cNvSpPr/>
              <p:nvPr/>
            </p:nvSpPr>
            <p:spPr>
              <a:xfrm>
                <a:off x="5562720" y="2975040"/>
                <a:ext cx="685800" cy="11430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336" y="144"/>
                    </a:moveTo>
                    <a:lnTo>
                      <a:pt x="336" y="672"/>
                    </a:lnTo>
                    <a:lnTo>
                      <a:pt x="288" y="720"/>
                    </a:lnTo>
                    <a:lnTo>
                      <a:pt x="144" y="720"/>
                    </a:lnTo>
                    <a:lnTo>
                      <a:pt x="96" y="672"/>
                    </a:lnTo>
                    <a:lnTo>
                      <a:pt x="96" y="144"/>
                    </a:lnTo>
                    <a:lnTo>
                      <a:pt x="0" y="144"/>
                    </a:lnTo>
                    <a:lnTo>
                      <a:pt x="0" y="0"/>
                    </a:lnTo>
                    <a:lnTo>
                      <a:pt x="432" y="0"/>
                    </a:lnTo>
                    <a:lnTo>
                      <a:pt x="432" y="144"/>
                    </a:lnTo>
                    <a:lnTo>
                      <a:pt x="336" y="144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5715360" y="2975040"/>
                <a:ext cx="380880" cy="1142640"/>
                <a:chOff x="5715360" y="2975040"/>
                <a:chExt cx="380880" cy="11426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715360" y="320364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715360" y="40417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715360" y="3355920"/>
                  <a:ext cx="380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5791320" y="335556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V="1">
                  <a:off x="6019920" y="3355560"/>
                  <a:ext cx="0" cy="76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867640" y="2975040"/>
                  <a:ext cx="76320" cy="152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5909040" y="27432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562720" y="4834080"/>
            <a:ext cx="3352680" cy="610200"/>
          </a:xfrm>
          <a:noFill/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3 : Respecter un jeu entre l ’arbre et l ’élément fi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0" y="6172200"/>
            <a:ext cx="4572000" cy="4597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de la pièce fixe don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85800" y="1600200"/>
            <a:ext cx="3047040" cy="1295280"/>
            <a:chOff x="685800" y="1600200"/>
            <a:chExt cx="3047040" cy="1295280"/>
          </a:xfrm>
        </p:grpSpPr>
        <p:sp>
          <p:nvSpPr>
            <p:cNvPr id="115" name=""/>
            <p:cNvSpPr/>
            <p:nvPr/>
          </p:nvSpPr>
          <p:spPr>
            <a:xfrm>
              <a:off x="2209680" y="16002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85800" y="1981080"/>
              <a:ext cx="3047040" cy="533520"/>
              <a:chOff x="685800" y="1981080"/>
              <a:chExt cx="3047040" cy="5335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85800" y="1981080"/>
                <a:ext cx="1238040" cy="533520"/>
                <a:chOff x="685800" y="1981080"/>
                <a:chExt cx="1238040" cy="53352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257120" y="1981080"/>
                  <a:ext cx="618840" cy="533520"/>
                </a:xfrm>
                <a:custGeom>
                  <a:avLst/>
                  <a:gdLst/>
                  <a:ahLst/>
                  <a:rect l="l" t="t" r="r" b="b"/>
                  <a:pathLst>
                    <a:path w="624" h="432">
                      <a:moveTo>
                        <a:pt x="96" y="0"/>
                      </a:moveTo>
                      <a:lnTo>
                        <a:pt x="624" y="0"/>
                      </a:lnTo>
                      <a:lnTo>
                        <a:pt x="624" y="432"/>
                      </a:lnTo>
                      <a:lnTo>
                        <a:pt x="480" y="432"/>
                      </a:lnTo>
                      <a:lnTo>
                        <a:pt x="480" y="192"/>
                      </a:lnTo>
                      <a:lnTo>
                        <a:pt x="192" y="192"/>
                      </a:lnTo>
                      <a:lnTo>
                        <a:pt x="192" y="432"/>
                      </a:lnTo>
                      <a:lnTo>
                        <a:pt x="0" y="432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85800" y="1981080"/>
                  <a:ext cx="23796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432">
                      <a:moveTo>
                        <a:pt x="240" y="432"/>
                      </a:moveTo>
                      <a:lnTo>
                        <a:pt x="240" y="144"/>
                      </a:lnTo>
                      <a:lnTo>
                        <a:pt x="144" y="144"/>
                      </a:ln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40" y="43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923760" y="251460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28360" y="1981080"/>
                  <a:ext cx="523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447560" y="2514600"/>
                  <a:ext cx="476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875960" y="1981080"/>
                  <a:ext cx="475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923760" y="215892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494800" y="1981080"/>
                <a:ext cx="1238040" cy="533520"/>
                <a:chOff x="2494800" y="1981080"/>
                <a:chExt cx="1238040" cy="533520"/>
              </a:xfrm>
            </p:grpSpPr>
            <p:sp>
              <p:nvSpPr>
                <p:cNvPr id="126" name=""/>
                <p:cNvSpPr/>
                <p:nvPr/>
              </p:nvSpPr>
              <p:spPr>
                <a:xfrm flipH="1">
                  <a:off x="2542320" y="1981080"/>
                  <a:ext cx="618840" cy="533520"/>
                </a:xfrm>
                <a:custGeom>
                  <a:avLst/>
                  <a:gdLst/>
                  <a:ahLst/>
                  <a:rect l="l" t="t" r="r" b="b"/>
                  <a:pathLst>
                    <a:path w="624" h="432">
                      <a:moveTo>
                        <a:pt x="96" y="0"/>
                      </a:moveTo>
                      <a:lnTo>
                        <a:pt x="624" y="0"/>
                      </a:lnTo>
                      <a:lnTo>
                        <a:pt x="624" y="432"/>
                      </a:lnTo>
                      <a:lnTo>
                        <a:pt x="480" y="432"/>
                      </a:lnTo>
                      <a:lnTo>
                        <a:pt x="480" y="192"/>
                      </a:lnTo>
                      <a:lnTo>
                        <a:pt x="192" y="192"/>
                      </a:lnTo>
                      <a:lnTo>
                        <a:pt x="192" y="432"/>
                      </a:lnTo>
                      <a:lnTo>
                        <a:pt x="0" y="432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3494520" y="1981080"/>
                  <a:ext cx="23796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432">
                      <a:moveTo>
                        <a:pt x="240" y="432"/>
                      </a:moveTo>
                      <a:lnTo>
                        <a:pt x="240" y="144"/>
                      </a:lnTo>
                      <a:lnTo>
                        <a:pt x="144" y="144"/>
                      </a:ln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40" y="43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3161520" y="251460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3066480" y="1981080"/>
                  <a:ext cx="523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2494800" y="2514600"/>
                  <a:ext cx="476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>
                  <a:off x="2495160" y="1981080"/>
                  <a:ext cx="475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>
                  <a:off x="3161520" y="215892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1066680" y="18288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18288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04760" y="198108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04760" y="251460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0" y="914400"/>
            <a:ext cx="739152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22 : Maintenir l’élément fixe sur le carter à l’aide de 4 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676520"/>
            <a:ext cx="762120" cy="106668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1752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4 perçages et lam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85800" y="3276720"/>
            <a:ext cx="3048120" cy="3047760"/>
            <a:chOff x="685800" y="3276720"/>
            <a:chExt cx="3048120" cy="3047760"/>
          </a:xfrm>
        </p:grpSpPr>
        <p:sp>
          <p:nvSpPr>
            <p:cNvPr id="141" name=""/>
            <p:cNvSpPr/>
            <p:nvPr/>
          </p:nvSpPr>
          <p:spPr>
            <a:xfrm>
              <a:off x="685800" y="3276720"/>
              <a:ext cx="3048120" cy="30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4648320"/>
              <a:ext cx="304920" cy="30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2120" y="4495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00400" y="4648320"/>
              <a:ext cx="304920" cy="3045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48120" y="4495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8800" y="4419720"/>
              <a:ext cx="762120" cy="7617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57400" y="5791320"/>
              <a:ext cx="304920" cy="3045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5120" y="5638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7400" y="3505320"/>
              <a:ext cx="304920" cy="3045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05120" y="3352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66680" y="3657600"/>
              <a:ext cx="2286000" cy="22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40080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our loger les vis M1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tués à 9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2666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r un rayon de 7 m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1371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ution technolog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480060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31240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4419720"/>
            <a:ext cx="1066680" cy="76176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88620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ffectuer la cotation relative à cette solution techn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914400"/>
            <a:ext cx="6629400" cy="3988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3 : Respecter un jeu entre l’arbre et l’élément fi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1752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Un alésage de Ø 5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00800" y="20574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vec du jeu / à l’arbr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0800" y="23623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ontraint à être perpendiculaire à la surface de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3200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t situé au centre du Ø extérieur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1371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lution technologique 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85800" y="1600200"/>
            <a:ext cx="3047040" cy="1295280"/>
            <a:chOff x="685800" y="1600200"/>
            <a:chExt cx="3047040" cy="1295280"/>
          </a:xfrm>
        </p:grpSpPr>
        <p:sp>
          <p:nvSpPr>
            <p:cNvPr id="167" name=""/>
            <p:cNvSpPr/>
            <p:nvPr/>
          </p:nvSpPr>
          <p:spPr>
            <a:xfrm>
              <a:off x="2209680" y="1600200"/>
              <a:ext cx="0" cy="129528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685800" y="1981080"/>
              <a:ext cx="3047040" cy="533520"/>
              <a:chOff x="685800" y="1981080"/>
              <a:chExt cx="3047040" cy="53352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685800" y="1981080"/>
                <a:ext cx="1238040" cy="533520"/>
                <a:chOff x="685800" y="1981080"/>
                <a:chExt cx="1238040" cy="5335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257120" y="1981080"/>
                  <a:ext cx="618840" cy="533520"/>
                </a:xfrm>
                <a:custGeom>
                  <a:avLst/>
                  <a:gdLst/>
                  <a:ahLst/>
                  <a:rect l="l" t="t" r="r" b="b"/>
                  <a:pathLst>
                    <a:path w="624" h="432">
                      <a:moveTo>
                        <a:pt x="96" y="0"/>
                      </a:moveTo>
                      <a:lnTo>
                        <a:pt x="624" y="0"/>
                      </a:lnTo>
                      <a:lnTo>
                        <a:pt x="624" y="432"/>
                      </a:lnTo>
                      <a:lnTo>
                        <a:pt x="480" y="432"/>
                      </a:lnTo>
                      <a:lnTo>
                        <a:pt x="480" y="192"/>
                      </a:lnTo>
                      <a:lnTo>
                        <a:pt x="192" y="192"/>
                      </a:lnTo>
                      <a:lnTo>
                        <a:pt x="192" y="432"/>
                      </a:lnTo>
                      <a:lnTo>
                        <a:pt x="0" y="432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85800" y="1981080"/>
                  <a:ext cx="23796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432">
                      <a:moveTo>
                        <a:pt x="240" y="432"/>
                      </a:moveTo>
                      <a:lnTo>
                        <a:pt x="240" y="144"/>
                      </a:lnTo>
                      <a:lnTo>
                        <a:pt x="144" y="144"/>
                      </a:ln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40" y="43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923760" y="251460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28360" y="1981080"/>
                  <a:ext cx="523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447560" y="2514600"/>
                  <a:ext cx="476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875960" y="1981080"/>
                  <a:ext cx="475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923760" y="215892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494800" y="1981080"/>
                <a:ext cx="1238040" cy="533520"/>
                <a:chOff x="2494800" y="1981080"/>
                <a:chExt cx="1238040" cy="53352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2542320" y="1981080"/>
                  <a:ext cx="618840" cy="533520"/>
                </a:xfrm>
                <a:custGeom>
                  <a:avLst/>
                  <a:gdLst/>
                  <a:ahLst/>
                  <a:rect l="l" t="t" r="r" b="b"/>
                  <a:pathLst>
                    <a:path w="624" h="432">
                      <a:moveTo>
                        <a:pt x="96" y="0"/>
                      </a:moveTo>
                      <a:lnTo>
                        <a:pt x="624" y="0"/>
                      </a:lnTo>
                      <a:lnTo>
                        <a:pt x="624" y="432"/>
                      </a:lnTo>
                      <a:lnTo>
                        <a:pt x="480" y="432"/>
                      </a:lnTo>
                      <a:lnTo>
                        <a:pt x="480" y="192"/>
                      </a:lnTo>
                      <a:lnTo>
                        <a:pt x="192" y="192"/>
                      </a:lnTo>
                      <a:lnTo>
                        <a:pt x="192" y="432"/>
                      </a:lnTo>
                      <a:lnTo>
                        <a:pt x="0" y="432"/>
                      </a:lnTo>
                      <a:lnTo>
                        <a:pt x="0" y="144"/>
                      </a:lnTo>
                      <a:lnTo>
                        <a:pt x="96" y="144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3494520" y="1981080"/>
                  <a:ext cx="237960" cy="533520"/>
                </a:xfrm>
                <a:custGeom>
                  <a:avLst/>
                  <a:gdLst/>
                  <a:ahLst/>
                  <a:rect l="l" t="t" r="r" b="b"/>
                  <a:pathLst>
                    <a:path w="240" h="432">
                      <a:moveTo>
                        <a:pt x="240" y="432"/>
                      </a:moveTo>
                      <a:lnTo>
                        <a:pt x="240" y="144"/>
                      </a:lnTo>
                      <a:lnTo>
                        <a:pt x="144" y="144"/>
                      </a:lnTo>
                      <a:lnTo>
                        <a:pt x="144" y="0"/>
                      </a:lnTo>
                      <a:lnTo>
                        <a:pt x="0" y="0"/>
                      </a:lnTo>
                      <a:lnTo>
                        <a:pt x="0" y="432"/>
                      </a:lnTo>
                      <a:lnTo>
                        <a:pt x="240" y="43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3161520" y="251460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3066480" y="1981080"/>
                  <a:ext cx="5238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>
                  <a:off x="2494800" y="2514600"/>
                  <a:ext cx="4762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H="1">
                  <a:off x="2495160" y="1981080"/>
                  <a:ext cx="475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161520" y="2158920"/>
                  <a:ext cx="33336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5" name=""/>
            <p:cNvSpPr/>
            <p:nvPr/>
          </p:nvSpPr>
          <p:spPr>
            <a:xfrm>
              <a:off x="1066680" y="18288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2680" y="182880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04760" y="198108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4760" y="2514600"/>
              <a:ext cx="609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85800" y="3276720"/>
            <a:ext cx="3048120" cy="3047760"/>
            <a:chOff x="685800" y="3276720"/>
            <a:chExt cx="3048120" cy="3047760"/>
          </a:xfrm>
        </p:grpSpPr>
        <p:sp>
          <p:nvSpPr>
            <p:cNvPr id="190" name=""/>
            <p:cNvSpPr/>
            <p:nvPr/>
          </p:nvSpPr>
          <p:spPr>
            <a:xfrm>
              <a:off x="685800" y="3276720"/>
              <a:ext cx="3048120" cy="3047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4648320"/>
              <a:ext cx="304920" cy="3045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120" y="4495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4648320"/>
              <a:ext cx="304920" cy="3045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4495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28800" y="4419720"/>
              <a:ext cx="762120" cy="7617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57400" y="5791320"/>
              <a:ext cx="304920" cy="3045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05120" y="5638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57400" y="3505320"/>
              <a:ext cx="304920" cy="30456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05120" y="3352680"/>
              <a:ext cx="60948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3657600"/>
              <a:ext cx="2286000" cy="2286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33520" y="4800600"/>
            <a:ext cx="3352680" cy="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124080"/>
            <a:ext cx="0" cy="3353040"/>
          </a:xfrm>
          <a:prstGeom prst="line">
            <a:avLst/>
          </a:prstGeom>
          <a:ln w="190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4191120"/>
            <a:ext cx="1066680" cy="114300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52480" y="1752480"/>
            <a:ext cx="914400" cy="1067040"/>
          </a:xfrm>
          <a:prstGeom prst="ellipse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396252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Effectuer la cotation relative à cette solution technolog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1371600"/>
            <a:ext cx="9144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 du diaporama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asser à la ques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548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Flch_H4" descr=""/>
          <p:cNvPicPr/>
          <p:nvPr/>
        </p:nvPicPr>
        <p:blipFill>
          <a:blip r:embed="rId3"/>
          <a:stretch/>
        </p:blipFill>
        <p:spPr>
          <a:xfrm>
            <a:off x="3505320" y="2286000"/>
            <a:ext cx="205560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09:14:55Z</dcterms:created>
  <dc:creator>Philippe Jeannerod</dc:creator>
  <dc:description/>
  <dc:language>en-US</dc:language>
  <cp:lastModifiedBy>BTS Microtechniques</cp:lastModifiedBy>
  <dcterms:modified xsi:type="dcterms:W3CDTF">2003-02-02T11:17:29Z</dcterms:modified>
  <cp:revision>20</cp:revision>
  <dc:subject>BTS00</dc:subject>
  <dc:title>CONSTRUCTION</dc:title>
</cp:coreProperties>
</file>