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76201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TS µ 2000 - Carotte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25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.JEANNE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EF-Monochrome" descr=""/>
          <p:cNvPicPr/>
          <p:nvPr/>
        </p:nvPicPr>
        <p:blipFill>
          <a:blip r:embed="rId3"/>
          <a:stretch/>
        </p:blipFill>
        <p:spPr>
          <a:xfrm>
            <a:off x="7972560" y="0"/>
            <a:ext cx="117144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Question%20Cotation.ppt" TargetMode="External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 2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osition de solutions constructive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ématis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4495680"/>
            <a:ext cx="624852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19320" y="4495680"/>
            <a:ext cx="121896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828800" y="40384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733920" y="2057400"/>
            <a:ext cx="1980360" cy="1828800"/>
            <a:chOff x="3733920" y="2057400"/>
            <a:chExt cx="1980360" cy="1828800"/>
          </a:xfrm>
        </p:grpSpPr>
        <p:grpSp>
          <p:nvGrpSpPr>
            <p:cNvPr id="47" name=""/>
            <p:cNvGrpSpPr/>
            <p:nvPr/>
          </p:nvGrpSpPr>
          <p:grpSpPr>
            <a:xfrm>
              <a:off x="3733920" y="2819520"/>
              <a:ext cx="1980360" cy="304560"/>
              <a:chOff x="3733920" y="2819520"/>
              <a:chExt cx="1980360" cy="304560"/>
            </a:xfrm>
          </p:grpSpPr>
          <p:sp>
            <p:nvSpPr>
              <p:cNvPr id="48" name=""/>
              <p:cNvSpPr/>
              <p:nvPr/>
            </p:nvSpPr>
            <p:spPr>
              <a:xfrm>
                <a:off x="3733920" y="2971440"/>
                <a:ext cx="1980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73392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571428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 flipV="1">
              <a:off x="4724280" y="29718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267080" y="20574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0" y="1600200"/>
            <a:ext cx="1066320" cy="762120"/>
            <a:chOff x="2286000" y="1600200"/>
            <a:chExt cx="1066320" cy="762120"/>
          </a:xfrm>
        </p:grpSpPr>
        <p:grpSp>
          <p:nvGrpSpPr>
            <p:cNvPr id="54" name=""/>
            <p:cNvGrpSpPr/>
            <p:nvPr/>
          </p:nvGrpSpPr>
          <p:grpSpPr>
            <a:xfrm>
              <a:off x="2286000" y="2057400"/>
              <a:ext cx="1066320" cy="304920"/>
              <a:chOff x="2286000" y="2057400"/>
              <a:chExt cx="1066320" cy="304920"/>
            </a:xfrm>
          </p:grpSpPr>
          <p:sp>
            <p:nvSpPr>
              <p:cNvPr id="55" name=""/>
              <p:cNvSpPr/>
              <p:nvPr/>
            </p:nvSpPr>
            <p:spPr>
              <a:xfrm>
                <a:off x="2286000" y="2209680"/>
                <a:ext cx="106632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600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35232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2438280" y="1600200"/>
              <a:ext cx="762120" cy="228600"/>
            </a:xfrm>
            <a:prstGeom prst="rect">
              <a:avLst/>
            </a:prstGeom>
            <a:noFill/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819520" y="1828800"/>
              <a:ext cx="0" cy="3808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352320" y="2209680"/>
            <a:ext cx="3124440" cy="1067040"/>
            <a:chOff x="3352320" y="2209680"/>
            <a:chExt cx="3124440" cy="1067040"/>
          </a:xfrm>
        </p:grpSpPr>
        <p:sp>
          <p:nvSpPr>
            <p:cNvPr id="61" name=""/>
            <p:cNvSpPr/>
            <p:nvPr/>
          </p:nvSpPr>
          <p:spPr>
            <a:xfrm flipH="1">
              <a:off x="3352320" y="2209680"/>
              <a:ext cx="8384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4343040" y="2209680"/>
              <a:ext cx="21337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095880" y="2209680"/>
              <a:ext cx="0" cy="1067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371600" y="3352680"/>
            <a:ext cx="914400" cy="457200"/>
            <a:chOff x="1371600" y="3352680"/>
            <a:chExt cx="914400" cy="457200"/>
          </a:xfrm>
        </p:grpSpPr>
        <p:sp>
          <p:nvSpPr>
            <p:cNvPr id="65" name=""/>
            <p:cNvSpPr/>
            <p:nvPr/>
          </p:nvSpPr>
          <p:spPr>
            <a:xfrm flipV="1">
              <a:off x="1828800" y="35053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371600" y="3352680"/>
              <a:ext cx="914400" cy="304920"/>
              <a:chOff x="1371600" y="3352680"/>
              <a:chExt cx="914400" cy="304920"/>
            </a:xfrm>
          </p:grpSpPr>
          <p:sp>
            <p:nvSpPr>
              <p:cNvPr id="67" name=""/>
              <p:cNvSpPr/>
              <p:nvPr/>
            </p:nvSpPr>
            <p:spPr>
              <a:xfrm>
                <a:off x="1371600" y="350496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3716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2286000" y="2666880"/>
            <a:ext cx="1828440" cy="1067040"/>
            <a:chOff x="2286000" y="2666880"/>
            <a:chExt cx="1828440" cy="1067040"/>
          </a:xfrm>
        </p:grpSpPr>
        <p:grpSp>
          <p:nvGrpSpPr>
            <p:cNvPr id="71" name=""/>
            <p:cNvGrpSpPr/>
            <p:nvPr/>
          </p:nvGrpSpPr>
          <p:grpSpPr>
            <a:xfrm>
              <a:off x="2286000" y="3352680"/>
              <a:ext cx="1828440" cy="304920"/>
              <a:chOff x="2286000" y="3352680"/>
              <a:chExt cx="1828440" cy="304920"/>
            </a:xfrm>
          </p:grpSpPr>
          <p:sp>
            <p:nvSpPr>
              <p:cNvPr id="72" name=""/>
              <p:cNvSpPr/>
              <p:nvPr/>
            </p:nvSpPr>
            <p:spPr>
              <a:xfrm>
                <a:off x="2286000" y="3504960"/>
                <a:ext cx="1828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11444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 flipV="1">
              <a:off x="3200400" y="2666880"/>
              <a:ext cx="0" cy="10670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2666880" y="2819520"/>
              <a:ext cx="1066680" cy="304560"/>
              <a:chOff x="2666880" y="2819520"/>
              <a:chExt cx="1066680" cy="304560"/>
            </a:xfrm>
          </p:grpSpPr>
          <p:sp>
            <p:nvSpPr>
              <p:cNvPr id="77" name=""/>
              <p:cNvSpPr/>
              <p:nvPr/>
            </p:nvSpPr>
            <p:spPr>
              <a:xfrm>
                <a:off x="2666880" y="2971440"/>
                <a:ext cx="106668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66688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3356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/>
          <p:cNvSpPr/>
          <p:nvPr/>
        </p:nvSpPr>
        <p:spPr>
          <a:xfrm>
            <a:off x="4800600" y="6172200"/>
            <a:ext cx="43434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éma donné à compl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78000" y="5929200"/>
            <a:ext cx="116856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4879800"/>
            <a:ext cx="116856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2680" y="3938760"/>
            <a:ext cx="116856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e O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3944880"/>
            <a:ext cx="116856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e O7-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19880" y="3944880"/>
            <a:ext cx="116820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e O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3429000"/>
            <a:ext cx="99072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e O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6800" y="2492280"/>
            <a:ext cx="116820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e O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376280"/>
            <a:ext cx="1168560" cy="61020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ur de co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5800" y="4038480"/>
            <a:ext cx="6248520" cy="2590920"/>
            <a:chOff x="685800" y="4038480"/>
            <a:chExt cx="6248520" cy="2590920"/>
          </a:xfrm>
        </p:grpSpPr>
        <p:sp>
          <p:nvSpPr>
            <p:cNvPr id="90" name=""/>
            <p:cNvSpPr/>
            <p:nvPr/>
          </p:nvSpPr>
          <p:spPr>
            <a:xfrm>
              <a:off x="685800" y="4495680"/>
              <a:ext cx="6248520" cy="2133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19320" y="4495680"/>
              <a:ext cx="1218960" cy="175284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403848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371600" y="1600200"/>
            <a:ext cx="5105160" cy="2286000"/>
            <a:chOff x="1371600" y="1600200"/>
            <a:chExt cx="5105160" cy="2286000"/>
          </a:xfrm>
        </p:grpSpPr>
        <p:grpSp>
          <p:nvGrpSpPr>
            <p:cNvPr id="94" name=""/>
            <p:cNvGrpSpPr/>
            <p:nvPr/>
          </p:nvGrpSpPr>
          <p:grpSpPr>
            <a:xfrm>
              <a:off x="3733920" y="2057400"/>
              <a:ext cx="1980360" cy="1828800"/>
              <a:chOff x="3733920" y="2057400"/>
              <a:chExt cx="1980360" cy="182880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733920" y="2819520"/>
                <a:ext cx="1980360" cy="304560"/>
                <a:chOff x="3733920" y="2819520"/>
                <a:chExt cx="1980360" cy="3045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733920" y="2971440"/>
                  <a:ext cx="1980360" cy="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733920" y="2819520"/>
                  <a:ext cx="0" cy="30456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714280" y="2819520"/>
                  <a:ext cx="0" cy="304560"/>
                </a:xfrm>
                <a:prstGeom prst="line">
                  <a:avLst/>
                </a:prstGeom>
                <a:ln w="572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 flipV="1">
                <a:off x="4724280" y="2971800"/>
                <a:ext cx="0" cy="9144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4267080" y="2057400"/>
                <a:ext cx="0" cy="91440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86000" y="1600200"/>
              <a:ext cx="1066320" cy="762120"/>
              <a:chOff x="2286000" y="1600200"/>
              <a:chExt cx="1066320" cy="76212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286000" y="2057400"/>
                <a:ext cx="1066320" cy="304920"/>
                <a:chOff x="2286000" y="2057400"/>
                <a:chExt cx="1066320" cy="3049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286000" y="2209680"/>
                  <a:ext cx="1066320" cy="0"/>
                </a:xfrm>
                <a:prstGeom prst="line">
                  <a:avLst/>
                </a:prstGeom>
                <a:ln w="5724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86000" y="2057400"/>
                  <a:ext cx="0" cy="304920"/>
                </a:xfrm>
                <a:prstGeom prst="line">
                  <a:avLst/>
                </a:prstGeom>
                <a:ln w="5724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352320" y="2057400"/>
                  <a:ext cx="0" cy="304920"/>
                </a:xfrm>
                <a:prstGeom prst="line">
                  <a:avLst/>
                </a:prstGeom>
                <a:ln w="5724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"/>
              <p:cNvSpPr/>
              <p:nvPr/>
            </p:nvSpPr>
            <p:spPr>
              <a:xfrm>
                <a:off x="2438280" y="1600200"/>
                <a:ext cx="762120" cy="228600"/>
              </a:xfrm>
              <a:prstGeom prst="rect">
                <a:avLst/>
              </a:prstGeom>
              <a:noFill/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819520" y="1828800"/>
                <a:ext cx="0" cy="38088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3352320" y="2209680"/>
              <a:ext cx="3124440" cy="1067040"/>
              <a:chOff x="3352320" y="2209680"/>
              <a:chExt cx="3124440" cy="1067040"/>
            </a:xfrm>
          </p:grpSpPr>
          <p:sp>
            <p:nvSpPr>
              <p:cNvPr id="109" name=""/>
              <p:cNvSpPr/>
              <p:nvPr/>
            </p:nvSpPr>
            <p:spPr>
              <a:xfrm flipH="1">
                <a:off x="3352320" y="2209680"/>
                <a:ext cx="83844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4343040" y="2209680"/>
                <a:ext cx="2133720" cy="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095880" y="2209680"/>
                <a:ext cx="0" cy="106704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1371600" y="3352680"/>
              <a:ext cx="914400" cy="457200"/>
              <a:chOff x="1371600" y="3352680"/>
              <a:chExt cx="914400" cy="45720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1828800" y="3505320"/>
                <a:ext cx="0" cy="3045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371600" y="3352680"/>
                <a:ext cx="914400" cy="304920"/>
                <a:chOff x="1371600" y="3352680"/>
                <a:chExt cx="914400" cy="3049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371600" y="3504960"/>
                  <a:ext cx="9144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371600" y="3352680"/>
                  <a:ext cx="0" cy="30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286000" y="3352680"/>
                  <a:ext cx="0" cy="30492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2286000" y="2666880"/>
              <a:ext cx="1828440" cy="1067040"/>
              <a:chOff x="2286000" y="2666880"/>
              <a:chExt cx="1828440" cy="10670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2286000" y="3352680"/>
                <a:ext cx="1828440" cy="304920"/>
                <a:chOff x="2286000" y="3352680"/>
                <a:chExt cx="1828440" cy="3049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86000" y="3504960"/>
                  <a:ext cx="1828440" cy="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286000" y="335268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114440" y="3352680"/>
                  <a:ext cx="0" cy="30492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 flipV="1">
                <a:off x="3200400" y="2666880"/>
                <a:ext cx="0" cy="106704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2666880" y="2819520"/>
                <a:ext cx="1066680" cy="304560"/>
                <a:chOff x="2666880" y="2819520"/>
                <a:chExt cx="1066680" cy="3045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666880" y="297144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66880" y="2819520"/>
                  <a:ext cx="0" cy="30456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733560" y="2819520"/>
                  <a:ext cx="0" cy="30456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8" name=""/>
          <p:cNvSpPr/>
          <p:nvPr/>
        </p:nvSpPr>
        <p:spPr>
          <a:xfrm>
            <a:off x="3429000" y="5791320"/>
            <a:ext cx="571500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3 : Réaliser un sous-ensemble entre 2 platines fixées par trois pi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5029200"/>
            <a:ext cx="571500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ter le schéma pour réaliser la fonction techn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4495680"/>
            <a:ext cx="624852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95680"/>
            <a:ext cx="121896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828800" y="40384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33920" y="2057400"/>
            <a:ext cx="1980360" cy="1828800"/>
            <a:chOff x="3733920" y="2057400"/>
            <a:chExt cx="1980360" cy="1828800"/>
          </a:xfrm>
        </p:grpSpPr>
        <p:grpSp>
          <p:nvGrpSpPr>
            <p:cNvPr id="134" name=""/>
            <p:cNvGrpSpPr/>
            <p:nvPr/>
          </p:nvGrpSpPr>
          <p:grpSpPr>
            <a:xfrm>
              <a:off x="3733920" y="2819520"/>
              <a:ext cx="1980360" cy="304560"/>
              <a:chOff x="3733920" y="2819520"/>
              <a:chExt cx="1980360" cy="304560"/>
            </a:xfrm>
          </p:grpSpPr>
          <p:sp>
            <p:nvSpPr>
              <p:cNvPr id="135" name=""/>
              <p:cNvSpPr/>
              <p:nvPr/>
            </p:nvSpPr>
            <p:spPr>
              <a:xfrm>
                <a:off x="3733920" y="2971440"/>
                <a:ext cx="1980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73392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71428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 flipV="1">
              <a:off x="4724280" y="29718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267080" y="20574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286000" y="1600200"/>
            <a:ext cx="1066320" cy="762120"/>
            <a:chOff x="2286000" y="1600200"/>
            <a:chExt cx="1066320" cy="762120"/>
          </a:xfrm>
        </p:grpSpPr>
        <p:grpSp>
          <p:nvGrpSpPr>
            <p:cNvPr id="141" name=""/>
            <p:cNvGrpSpPr/>
            <p:nvPr/>
          </p:nvGrpSpPr>
          <p:grpSpPr>
            <a:xfrm>
              <a:off x="2286000" y="2057400"/>
              <a:ext cx="1066320" cy="304920"/>
              <a:chOff x="2286000" y="2057400"/>
              <a:chExt cx="106632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286000" y="2209680"/>
                <a:ext cx="106632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8600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35232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438280" y="1600200"/>
              <a:ext cx="762120" cy="228600"/>
            </a:xfrm>
            <a:prstGeom prst="rect">
              <a:avLst/>
            </a:prstGeom>
            <a:noFill/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819520" y="1828800"/>
              <a:ext cx="0" cy="3808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3352320" y="2209680"/>
            <a:ext cx="3124440" cy="1067040"/>
            <a:chOff x="3352320" y="2209680"/>
            <a:chExt cx="3124440" cy="1067040"/>
          </a:xfrm>
        </p:grpSpPr>
        <p:sp>
          <p:nvSpPr>
            <p:cNvPr id="148" name=""/>
            <p:cNvSpPr/>
            <p:nvPr/>
          </p:nvSpPr>
          <p:spPr>
            <a:xfrm flipH="1">
              <a:off x="3352320" y="2209680"/>
              <a:ext cx="8384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343040" y="2209680"/>
              <a:ext cx="21337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095880" y="2209680"/>
              <a:ext cx="0" cy="1067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371600" y="3352680"/>
            <a:ext cx="914400" cy="457200"/>
            <a:chOff x="1371600" y="3352680"/>
            <a:chExt cx="914400" cy="457200"/>
          </a:xfrm>
        </p:grpSpPr>
        <p:sp>
          <p:nvSpPr>
            <p:cNvPr id="152" name=""/>
            <p:cNvSpPr/>
            <p:nvPr/>
          </p:nvSpPr>
          <p:spPr>
            <a:xfrm flipV="1">
              <a:off x="1828800" y="35053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371600" y="3352680"/>
              <a:ext cx="914400" cy="304920"/>
              <a:chOff x="1371600" y="3352680"/>
              <a:chExt cx="914400" cy="304920"/>
            </a:xfrm>
          </p:grpSpPr>
          <p:sp>
            <p:nvSpPr>
              <p:cNvPr id="154" name=""/>
              <p:cNvSpPr/>
              <p:nvPr/>
            </p:nvSpPr>
            <p:spPr>
              <a:xfrm>
                <a:off x="1371600" y="350496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716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2286000" y="2666880"/>
            <a:ext cx="1828440" cy="1067040"/>
            <a:chOff x="2286000" y="2666880"/>
            <a:chExt cx="1828440" cy="1067040"/>
          </a:xfrm>
        </p:grpSpPr>
        <p:grpSp>
          <p:nvGrpSpPr>
            <p:cNvPr id="158" name=""/>
            <p:cNvGrpSpPr/>
            <p:nvPr/>
          </p:nvGrpSpPr>
          <p:grpSpPr>
            <a:xfrm>
              <a:off x="2286000" y="3352680"/>
              <a:ext cx="1828440" cy="304920"/>
              <a:chOff x="2286000" y="3352680"/>
              <a:chExt cx="1828440" cy="304920"/>
            </a:xfrm>
          </p:grpSpPr>
          <p:sp>
            <p:nvSpPr>
              <p:cNvPr id="159" name=""/>
              <p:cNvSpPr/>
              <p:nvPr/>
            </p:nvSpPr>
            <p:spPr>
              <a:xfrm>
                <a:off x="2286000" y="3504960"/>
                <a:ext cx="1828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11444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 flipV="1">
              <a:off x="3200400" y="2666880"/>
              <a:ext cx="0" cy="10670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666880" y="2819520"/>
              <a:ext cx="1066680" cy="304560"/>
              <a:chOff x="2666880" y="2819520"/>
              <a:chExt cx="1066680" cy="30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2666880" y="2971440"/>
                <a:ext cx="106668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66688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73356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3809880" y="579132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r le sous-ensemble cage dans le car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02920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ter le schéma pour réaliser la fonction techn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4495680"/>
            <a:ext cx="624852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4495680"/>
            <a:ext cx="121896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828800" y="40384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733920" y="2057400"/>
            <a:ext cx="1980360" cy="1828800"/>
            <a:chOff x="3733920" y="2057400"/>
            <a:chExt cx="1980360" cy="1828800"/>
          </a:xfrm>
        </p:grpSpPr>
        <p:grpSp>
          <p:nvGrpSpPr>
            <p:cNvPr id="173" name=""/>
            <p:cNvGrpSpPr/>
            <p:nvPr/>
          </p:nvGrpSpPr>
          <p:grpSpPr>
            <a:xfrm>
              <a:off x="3733920" y="2819520"/>
              <a:ext cx="1980360" cy="304560"/>
              <a:chOff x="3733920" y="2819520"/>
              <a:chExt cx="1980360" cy="304560"/>
            </a:xfrm>
          </p:grpSpPr>
          <p:sp>
            <p:nvSpPr>
              <p:cNvPr id="174" name=""/>
              <p:cNvSpPr/>
              <p:nvPr/>
            </p:nvSpPr>
            <p:spPr>
              <a:xfrm>
                <a:off x="3733920" y="2971440"/>
                <a:ext cx="1980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3392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1428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 flipV="1">
              <a:off x="4724280" y="29718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4267080" y="20574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286000" y="1600200"/>
            <a:ext cx="1066320" cy="762120"/>
            <a:chOff x="2286000" y="1600200"/>
            <a:chExt cx="1066320" cy="762120"/>
          </a:xfrm>
        </p:grpSpPr>
        <p:grpSp>
          <p:nvGrpSpPr>
            <p:cNvPr id="180" name=""/>
            <p:cNvGrpSpPr/>
            <p:nvPr/>
          </p:nvGrpSpPr>
          <p:grpSpPr>
            <a:xfrm>
              <a:off x="2286000" y="2057400"/>
              <a:ext cx="1066320" cy="304920"/>
              <a:chOff x="2286000" y="2057400"/>
              <a:chExt cx="106632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2286000" y="2209680"/>
                <a:ext cx="106632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8600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35232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438280" y="1600200"/>
              <a:ext cx="762120" cy="228600"/>
            </a:xfrm>
            <a:prstGeom prst="rect">
              <a:avLst/>
            </a:prstGeom>
            <a:noFill/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19520" y="1828800"/>
              <a:ext cx="0" cy="3808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352320" y="2209680"/>
            <a:ext cx="3124440" cy="1067040"/>
            <a:chOff x="3352320" y="2209680"/>
            <a:chExt cx="3124440" cy="1067040"/>
          </a:xfrm>
        </p:grpSpPr>
        <p:sp>
          <p:nvSpPr>
            <p:cNvPr id="187" name=""/>
            <p:cNvSpPr/>
            <p:nvPr/>
          </p:nvSpPr>
          <p:spPr>
            <a:xfrm flipH="1">
              <a:off x="3352320" y="2209680"/>
              <a:ext cx="8384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343040" y="2209680"/>
              <a:ext cx="21337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095880" y="2209680"/>
              <a:ext cx="0" cy="1067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371600" y="3352680"/>
            <a:ext cx="914400" cy="457200"/>
            <a:chOff x="1371600" y="3352680"/>
            <a:chExt cx="914400" cy="457200"/>
          </a:xfrm>
        </p:grpSpPr>
        <p:sp>
          <p:nvSpPr>
            <p:cNvPr id="191" name=""/>
            <p:cNvSpPr/>
            <p:nvPr/>
          </p:nvSpPr>
          <p:spPr>
            <a:xfrm flipV="1">
              <a:off x="1828800" y="35053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1371600" y="3352680"/>
              <a:ext cx="914400" cy="304920"/>
              <a:chOff x="1371600" y="3352680"/>
              <a:chExt cx="914400" cy="304920"/>
            </a:xfrm>
          </p:grpSpPr>
          <p:sp>
            <p:nvSpPr>
              <p:cNvPr id="193" name=""/>
              <p:cNvSpPr/>
              <p:nvPr/>
            </p:nvSpPr>
            <p:spPr>
              <a:xfrm>
                <a:off x="1371600" y="350496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3716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"/>
          <p:cNvGrpSpPr/>
          <p:nvPr/>
        </p:nvGrpSpPr>
        <p:grpSpPr>
          <a:xfrm>
            <a:off x="2286000" y="2666880"/>
            <a:ext cx="1828440" cy="1067040"/>
            <a:chOff x="2286000" y="2666880"/>
            <a:chExt cx="1828440" cy="1067040"/>
          </a:xfrm>
        </p:grpSpPr>
        <p:grpSp>
          <p:nvGrpSpPr>
            <p:cNvPr id="197" name=""/>
            <p:cNvGrpSpPr/>
            <p:nvPr/>
          </p:nvGrpSpPr>
          <p:grpSpPr>
            <a:xfrm>
              <a:off x="2286000" y="3352680"/>
              <a:ext cx="1828440" cy="304920"/>
              <a:chOff x="2286000" y="3352680"/>
              <a:chExt cx="1828440" cy="304920"/>
            </a:xfrm>
          </p:grpSpPr>
          <p:sp>
            <p:nvSpPr>
              <p:cNvPr id="198" name=""/>
              <p:cNvSpPr/>
              <p:nvPr/>
            </p:nvSpPr>
            <p:spPr>
              <a:xfrm>
                <a:off x="2286000" y="3504960"/>
                <a:ext cx="1828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11444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 flipV="1">
              <a:off x="3200400" y="2666880"/>
              <a:ext cx="0" cy="10670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666880" y="2819520"/>
              <a:ext cx="1066680" cy="304560"/>
              <a:chOff x="2666880" y="2819520"/>
              <a:chExt cx="1066680" cy="304560"/>
            </a:xfrm>
          </p:grpSpPr>
          <p:sp>
            <p:nvSpPr>
              <p:cNvPr id="203" name=""/>
              <p:cNvSpPr/>
              <p:nvPr/>
            </p:nvSpPr>
            <p:spPr>
              <a:xfrm>
                <a:off x="2666880" y="2971440"/>
                <a:ext cx="106668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66688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73356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3809880" y="579132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32122 : Guider le pignon 4 dans les deux pla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502920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ter le schéma pour réaliser la fonction techn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4495680"/>
            <a:ext cx="624852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4495680"/>
            <a:ext cx="121896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828800" y="40384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733920" y="2057400"/>
            <a:ext cx="1980360" cy="1828800"/>
            <a:chOff x="3733920" y="2057400"/>
            <a:chExt cx="1980360" cy="1828800"/>
          </a:xfrm>
        </p:grpSpPr>
        <p:grpSp>
          <p:nvGrpSpPr>
            <p:cNvPr id="212" name=""/>
            <p:cNvGrpSpPr/>
            <p:nvPr/>
          </p:nvGrpSpPr>
          <p:grpSpPr>
            <a:xfrm>
              <a:off x="3733920" y="2819520"/>
              <a:ext cx="1980360" cy="304560"/>
              <a:chOff x="3733920" y="2819520"/>
              <a:chExt cx="1980360" cy="304560"/>
            </a:xfrm>
          </p:grpSpPr>
          <p:sp>
            <p:nvSpPr>
              <p:cNvPr id="213" name=""/>
              <p:cNvSpPr/>
              <p:nvPr/>
            </p:nvSpPr>
            <p:spPr>
              <a:xfrm>
                <a:off x="3733920" y="2971440"/>
                <a:ext cx="1980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3392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1428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" name=""/>
            <p:cNvSpPr/>
            <p:nvPr/>
          </p:nvSpPr>
          <p:spPr>
            <a:xfrm flipV="1">
              <a:off x="4724280" y="29718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267080" y="20574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286000" y="1600200"/>
            <a:ext cx="1066320" cy="762120"/>
            <a:chOff x="2286000" y="1600200"/>
            <a:chExt cx="1066320" cy="762120"/>
          </a:xfrm>
        </p:grpSpPr>
        <p:grpSp>
          <p:nvGrpSpPr>
            <p:cNvPr id="219" name=""/>
            <p:cNvGrpSpPr/>
            <p:nvPr/>
          </p:nvGrpSpPr>
          <p:grpSpPr>
            <a:xfrm>
              <a:off x="2286000" y="2057400"/>
              <a:ext cx="1066320" cy="304920"/>
              <a:chOff x="2286000" y="2057400"/>
              <a:chExt cx="1066320" cy="304920"/>
            </a:xfrm>
          </p:grpSpPr>
          <p:sp>
            <p:nvSpPr>
              <p:cNvPr id="220" name=""/>
              <p:cNvSpPr/>
              <p:nvPr/>
            </p:nvSpPr>
            <p:spPr>
              <a:xfrm>
                <a:off x="2286000" y="2209680"/>
                <a:ext cx="106632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28600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5232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438280" y="1600200"/>
              <a:ext cx="762120" cy="228600"/>
            </a:xfrm>
            <a:prstGeom prst="rect">
              <a:avLst/>
            </a:prstGeom>
            <a:noFill/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819520" y="1828800"/>
              <a:ext cx="0" cy="3808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352320" y="2209680"/>
            <a:ext cx="3124440" cy="1067040"/>
            <a:chOff x="3352320" y="2209680"/>
            <a:chExt cx="3124440" cy="1067040"/>
          </a:xfrm>
        </p:grpSpPr>
        <p:sp>
          <p:nvSpPr>
            <p:cNvPr id="226" name=""/>
            <p:cNvSpPr/>
            <p:nvPr/>
          </p:nvSpPr>
          <p:spPr>
            <a:xfrm flipH="1">
              <a:off x="3352320" y="2209680"/>
              <a:ext cx="8384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4343040" y="2209680"/>
              <a:ext cx="21337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095880" y="2209680"/>
              <a:ext cx="0" cy="1067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371600" y="3352680"/>
            <a:ext cx="914400" cy="457200"/>
            <a:chOff x="1371600" y="3352680"/>
            <a:chExt cx="914400" cy="457200"/>
          </a:xfrm>
        </p:grpSpPr>
        <p:sp>
          <p:nvSpPr>
            <p:cNvPr id="230" name=""/>
            <p:cNvSpPr/>
            <p:nvPr/>
          </p:nvSpPr>
          <p:spPr>
            <a:xfrm flipV="1">
              <a:off x="1828800" y="35053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1371600" y="3352680"/>
              <a:ext cx="914400" cy="304920"/>
              <a:chOff x="1371600" y="3352680"/>
              <a:chExt cx="914400" cy="304920"/>
            </a:xfrm>
          </p:grpSpPr>
          <p:sp>
            <p:nvSpPr>
              <p:cNvPr id="232" name=""/>
              <p:cNvSpPr/>
              <p:nvPr/>
            </p:nvSpPr>
            <p:spPr>
              <a:xfrm>
                <a:off x="1371600" y="350496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3716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" name=""/>
          <p:cNvGrpSpPr/>
          <p:nvPr/>
        </p:nvGrpSpPr>
        <p:grpSpPr>
          <a:xfrm>
            <a:off x="2286000" y="2666880"/>
            <a:ext cx="1828440" cy="1067040"/>
            <a:chOff x="2286000" y="2666880"/>
            <a:chExt cx="1828440" cy="1067040"/>
          </a:xfrm>
        </p:grpSpPr>
        <p:grpSp>
          <p:nvGrpSpPr>
            <p:cNvPr id="236" name=""/>
            <p:cNvGrpSpPr/>
            <p:nvPr/>
          </p:nvGrpSpPr>
          <p:grpSpPr>
            <a:xfrm>
              <a:off x="2286000" y="3352680"/>
              <a:ext cx="1828440" cy="304920"/>
              <a:chOff x="2286000" y="3352680"/>
              <a:chExt cx="1828440" cy="304920"/>
            </a:xfrm>
          </p:grpSpPr>
          <p:sp>
            <p:nvSpPr>
              <p:cNvPr id="237" name=""/>
              <p:cNvSpPr/>
              <p:nvPr/>
            </p:nvSpPr>
            <p:spPr>
              <a:xfrm>
                <a:off x="2286000" y="3504960"/>
                <a:ext cx="1828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1444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 flipV="1">
              <a:off x="3200400" y="2666880"/>
              <a:ext cx="0" cy="10670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2666880" y="2819520"/>
              <a:ext cx="1066680" cy="304560"/>
              <a:chOff x="2666880" y="2819520"/>
              <a:chExt cx="1066680" cy="304560"/>
            </a:xfrm>
          </p:grpSpPr>
          <p:sp>
            <p:nvSpPr>
              <p:cNvPr id="242" name=""/>
              <p:cNvSpPr/>
              <p:nvPr/>
            </p:nvSpPr>
            <p:spPr>
              <a:xfrm>
                <a:off x="2666880" y="2971440"/>
                <a:ext cx="106668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688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3356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3809880" y="579132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32121 : Réaliser la liaison du pignon moteur sur l ’arbre mo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880" y="502920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ter le schéma pour réaliser la fonction techn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4495680"/>
            <a:ext cx="624852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4495680"/>
            <a:ext cx="121896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1828800" y="40384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733920" y="2057400"/>
            <a:ext cx="1980360" cy="1828800"/>
            <a:chOff x="3733920" y="2057400"/>
            <a:chExt cx="1980360" cy="1828800"/>
          </a:xfrm>
        </p:grpSpPr>
        <p:grpSp>
          <p:nvGrpSpPr>
            <p:cNvPr id="251" name=""/>
            <p:cNvGrpSpPr/>
            <p:nvPr/>
          </p:nvGrpSpPr>
          <p:grpSpPr>
            <a:xfrm>
              <a:off x="3733920" y="2819520"/>
              <a:ext cx="1980360" cy="304560"/>
              <a:chOff x="3733920" y="2819520"/>
              <a:chExt cx="1980360" cy="304560"/>
            </a:xfrm>
          </p:grpSpPr>
          <p:sp>
            <p:nvSpPr>
              <p:cNvPr id="252" name=""/>
              <p:cNvSpPr/>
              <p:nvPr/>
            </p:nvSpPr>
            <p:spPr>
              <a:xfrm>
                <a:off x="3733920" y="2971440"/>
                <a:ext cx="1980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3392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1428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V="1">
              <a:off x="4724280" y="29718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267080" y="20574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6000" y="1600200"/>
            <a:ext cx="1066320" cy="762120"/>
            <a:chOff x="2286000" y="1600200"/>
            <a:chExt cx="1066320" cy="762120"/>
          </a:xfrm>
        </p:grpSpPr>
        <p:grpSp>
          <p:nvGrpSpPr>
            <p:cNvPr id="258" name=""/>
            <p:cNvGrpSpPr/>
            <p:nvPr/>
          </p:nvGrpSpPr>
          <p:grpSpPr>
            <a:xfrm>
              <a:off x="2286000" y="2057400"/>
              <a:ext cx="1066320" cy="304920"/>
              <a:chOff x="2286000" y="2057400"/>
              <a:chExt cx="1066320" cy="304920"/>
            </a:xfrm>
          </p:grpSpPr>
          <p:sp>
            <p:nvSpPr>
              <p:cNvPr id="259" name=""/>
              <p:cNvSpPr/>
              <p:nvPr/>
            </p:nvSpPr>
            <p:spPr>
              <a:xfrm>
                <a:off x="2286000" y="2209680"/>
                <a:ext cx="106632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8600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35232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438280" y="1600200"/>
              <a:ext cx="762120" cy="228600"/>
            </a:xfrm>
            <a:prstGeom prst="rect">
              <a:avLst/>
            </a:prstGeom>
            <a:noFill/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819520" y="1828800"/>
              <a:ext cx="0" cy="3808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352320" y="2209680"/>
            <a:ext cx="3124440" cy="1067040"/>
            <a:chOff x="3352320" y="2209680"/>
            <a:chExt cx="3124440" cy="1067040"/>
          </a:xfrm>
        </p:grpSpPr>
        <p:sp>
          <p:nvSpPr>
            <p:cNvPr id="265" name=""/>
            <p:cNvSpPr/>
            <p:nvPr/>
          </p:nvSpPr>
          <p:spPr>
            <a:xfrm flipH="1">
              <a:off x="3352320" y="2209680"/>
              <a:ext cx="8384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343040" y="2209680"/>
              <a:ext cx="21337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095880" y="2209680"/>
              <a:ext cx="0" cy="1067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371600" y="3352680"/>
            <a:ext cx="914400" cy="457200"/>
            <a:chOff x="1371600" y="3352680"/>
            <a:chExt cx="914400" cy="457200"/>
          </a:xfrm>
        </p:grpSpPr>
        <p:sp>
          <p:nvSpPr>
            <p:cNvPr id="269" name=""/>
            <p:cNvSpPr/>
            <p:nvPr/>
          </p:nvSpPr>
          <p:spPr>
            <a:xfrm flipV="1">
              <a:off x="1828800" y="35053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1371600" y="3352680"/>
              <a:ext cx="914400" cy="304920"/>
              <a:chOff x="1371600" y="3352680"/>
              <a:chExt cx="914400" cy="304920"/>
            </a:xfrm>
          </p:grpSpPr>
          <p:sp>
            <p:nvSpPr>
              <p:cNvPr id="271" name=""/>
              <p:cNvSpPr/>
              <p:nvPr/>
            </p:nvSpPr>
            <p:spPr>
              <a:xfrm>
                <a:off x="1371600" y="350496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2286000" y="2666880"/>
            <a:ext cx="1828440" cy="1067040"/>
            <a:chOff x="2286000" y="2666880"/>
            <a:chExt cx="1828440" cy="1067040"/>
          </a:xfrm>
        </p:grpSpPr>
        <p:grpSp>
          <p:nvGrpSpPr>
            <p:cNvPr id="275" name=""/>
            <p:cNvGrpSpPr/>
            <p:nvPr/>
          </p:nvGrpSpPr>
          <p:grpSpPr>
            <a:xfrm>
              <a:off x="2286000" y="3352680"/>
              <a:ext cx="1828440" cy="304920"/>
              <a:chOff x="2286000" y="3352680"/>
              <a:chExt cx="1828440" cy="30492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000" y="3504960"/>
                <a:ext cx="1828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11444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 flipV="1">
              <a:off x="3200400" y="2666880"/>
              <a:ext cx="0" cy="10670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2666880" y="2819520"/>
              <a:ext cx="1066680" cy="304560"/>
              <a:chOff x="2666880" y="2819520"/>
              <a:chExt cx="1066680" cy="304560"/>
            </a:xfrm>
          </p:grpSpPr>
          <p:sp>
            <p:nvSpPr>
              <p:cNvPr id="281" name=""/>
              <p:cNvSpPr/>
              <p:nvPr/>
            </p:nvSpPr>
            <p:spPr>
              <a:xfrm>
                <a:off x="2666880" y="2971440"/>
                <a:ext cx="106668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6688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3356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>
            <a:off x="3809880" y="579132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3... : Réaliser le guidage des mobiles entre les deux plat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502920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ter le schéma pour réaliser les fonctions techniqu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4495680"/>
            <a:ext cx="6248520" cy="2133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4495680"/>
            <a:ext cx="1218960" cy="1752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828800" y="4038480"/>
            <a:ext cx="0" cy="4572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733920" y="2057400"/>
            <a:ext cx="1980360" cy="1828800"/>
            <a:chOff x="3733920" y="2057400"/>
            <a:chExt cx="1980360" cy="1828800"/>
          </a:xfrm>
        </p:grpSpPr>
        <p:grpSp>
          <p:nvGrpSpPr>
            <p:cNvPr id="290" name=""/>
            <p:cNvGrpSpPr/>
            <p:nvPr/>
          </p:nvGrpSpPr>
          <p:grpSpPr>
            <a:xfrm>
              <a:off x="3733920" y="2819520"/>
              <a:ext cx="1980360" cy="304560"/>
              <a:chOff x="3733920" y="2819520"/>
              <a:chExt cx="1980360" cy="30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3733920" y="2971440"/>
                <a:ext cx="1980360" cy="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73392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14280" y="2819520"/>
                <a:ext cx="0" cy="304560"/>
              </a:xfrm>
              <a:prstGeom prst="line">
                <a:avLst/>
              </a:prstGeom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 flipV="1">
              <a:off x="4724280" y="29718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267080" y="2057400"/>
              <a:ext cx="0" cy="9144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286000" y="1600200"/>
            <a:ext cx="1066320" cy="762120"/>
            <a:chOff x="2286000" y="1600200"/>
            <a:chExt cx="1066320" cy="762120"/>
          </a:xfrm>
        </p:grpSpPr>
        <p:grpSp>
          <p:nvGrpSpPr>
            <p:cNvPr id="297" name=""/>
            <p:cNvGrpSpPr/>
            <p:nvPr/>
          </p:nvGrpSpPr>
          <p:grpSpPr>
            <a:xfrm>
              <a:off x="2286000" y="2057400"/>
              <a:ext cx="1066320" cy="304920"/>
              <a:chOff x="2286000" y="2057400"/>
              <a:chExt cx="1066320" cy="304920"/>
            </a:xfrm>
          </p:grpSpPr>
          <p:sp>
            <p:nvSpPr>
              <p:cNvPr id="298" name=""/>
              <p:cNvSpPr/>
              <p:nvPr/>
            </p:nvSpPr>
            <p:spPr>
              <a:xfrm>
                <a:off x="2286000" y="2209680"/>
                <a:ext cx="1066320" cy="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8600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352320" y="2057400"/>
                <a:ext cx="0" cy="304920"/>
              </a:xfrm>
              <a:prstGeom prst="line">
                <a:avLst/>
              </a:prstGeom>
              <a:ln w="5724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2438280" y="1600200"/>
              <a:ext cx="762120" cy="228600"/>
            </a:xfrm>
            <a:prstGeom prst="rect">
              <a:avLst/>
            </a:prstGeom>
            <a:noFill/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819520" y="1828800"/>
              <a:ext cx="0" cy="38088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352320" y="2209680"/>
            <a:ext cx="3124440" cy="1067040"/>
            <a:chOff x="3352320" y="2209680"/>
            <a:chExt cx="3124440" cy="1067040"/>
          </a:xfrm>
        </p:grpSpPr>
        <p:sp>
          <p:nvSpPr>
            <p:cNvPr id="304" name=""/>
            <p:cNvSpPr/>
            <p:nvPr/>
          </p:nvSpPr>
          <p:spPr>
            <a:xfrm flipH="1">
              <a:off x="3352320" y="2209680"/>
              <a:ext cx="8384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343040" y="2209680"/>
              <a:ext cx="213372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095880" y="2209680"/>
              <a:ext cx="0" cy="106704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371600" y="3352680"/>
            <a:ext cx="914400" cy="457200"/>
            <a:chOff x="1371600" y="3352680"/>
            <a:chExt cx="914400" cy="457200"/>
          </a:xfrm>
        </p:grpSpPr>
        <p:sp>
          <p:nvSpPr>
            <p:cNvPr id="308" name=""/>
            <p:cNvSpPr/>
            <p:nvPr/>
          </p:nvSpPr>
          <p:spPr>
            <a:xfrm flipV="1">
              <a:off x="1828800" y="3505320"/>
              <a:ext cx="0" cy="30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371600" y="3352680"/>
              <a:ext cx="914400" cy="304920"/>
              <a:chOff x="1371600" y="3352680"/>
              <a:chExt cx="914400" cy="304920"/>
            </a:xfrm>
          </p:grpSpPr>
          <p:sp>
            <p:nvSpPr>
              <p:cNvPr id="310" name=""/>
              <p:cNvSpPr/>
              <p:nvPr/>
            </p:nvSpPr>
            <p:spPr>
              <a:xfrm>
                <a:off x="1371600" y="3504960"/>
                <a:ext cx="914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716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2286000" y="2666880"/>
            <a:ext cx="1828440" cy="1067040"/>
            <a:chOff x="2286000" y="2666880"/>
            <a:chExt cx="1828440" cy="1067040"/>
          </a:xfrm>
        </p:grpSpPr>
        <p:grpSp>
          <p:nvGrpSpPr>
            <p:cNvPr id="314" name=""/>
            <p:cNvGrpSpPr/>
            <p:nvPr/>
          </p:nvGrpSpPr>
          <p:grpSpPr>
            <a:xfrm>
              <a:off x="2286000" y="3352680"/>
              <a:ext cx="1828440" cy="304920"/>
              <a:chOff x="2286000" y="3352680"/>
              <a:chExt cx="1828440" cy="304920"/>
            </a:xfrm>
          </p:grpSpPr>
          <p:sp>
            <p:nvSpPr>
              <p:cNvPr id="315" name=""/>
              <p:cNvSpPr/>
              <p:nvPr/>
            </p:nvSpPr>
            <p:spPr>
              <a:xfrm>
                <a:off x="2286000" y="3504960"/>
                <a:ext cx="182844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28600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14440" y="3352680"/>
                <a:ext cx="0" cy="30492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 flipV="1">
              <a:off x="3200400" y="2666880"/>
              <a:ext cx="0" cy="106704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666880" y="2819520"/>
              <a:ext cx="1066680" cy="304560"/>
              <a:chOff x="2666880" y="2819520"/>
              <a:chExt cx="10666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2666880" y="2971440"/>
                <a:ext cx="106668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66688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2819520"/>
                <a:ext cx="0" cy="30456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1 : Fabriquer le car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5029200"/>
            <a:ext cx="5334120" cy="825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éter le schéma pour réaliser la fonction techniqu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1371600"/>
            <a:ext cx="914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 du diaporama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asser à la ques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548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Flch_H4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205596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09:14:55Z</dcterms:created>
  <dc:creator>Philippe Jeannerod</dc:creator>
  <dc:description/>
  <dc:language>en-US</dc:language>
  <cp:lastModifiedBy>BTS Microtechniques</cp:lastModifiedBy>
  <dcterms:modified xsi:type="dcterms:W3CDTF">2003-02-02T11:17:30Z</dcterms:modified>
  <cp:revision>10</cp:revision>
  <dc:subject>BTS00</dc:subject>
  <dc:title>CONSTRUCTION</dc:title>
</cp:coreProperties>
</file>