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TS µ 2000 - Carott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 4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sin à main levé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1143000"/>
            <a:ext cx="0" cy="52578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362320" y="3962520"/>
            <a:ext cx="2895480" cy="457200"/>
            <a:chOff x="2362320" y="3962520"/>
            <a:chExt cx="2895480" cy="457200"/>
          </a:xfrm>
        </p:grpSpPr>
        <p:sp>
          <p:nvSpPr>
            <p:cNvPr id="43" name=""/>
            <p:cNvSpPr/>
            <p:nvPr/>
          </p:nvSpPr>
          <p:spPr>
            <a:xfrm>
              <a:off x="2362320" y="4267440"/>
              <a:ext cx="28954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3657600" y="3962520"/>
              <a:ext cx="30420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4800600" y="6172200"/>
            <a:ext cx="43434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e du schéma do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3754440"/>
            <a:ext cx="1168560" cy="610200"/>
          </a:xfrm>
          <a:noFill/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Rondelles res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2600" y="2362320"/>
            <a:ext cx="1295280" cy="610200"/>
          </a:xfrm>
          <a:noFill/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ondelles frot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1168560" cy="30528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gn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239840"/>
            <a:ext cx="1676520" cy="305280"/>
          </a:xfrm>
          <a:noFill/>
          <a:ln w="190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x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581280" y="2666880"/>
            <a:ext cx="457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657600" y="1828800"/>
            <a:ext cx="304560" cy="685800"/>
            <a:chOff x="3657600" y="1828800"/>
            <a:chExt cx="304560" cy="685800"/>
          </a:xfrm>
        </p:grpSpPr>
        <p:sp>
          <p:nvSpPr>
            <p:cNvPr id="52" name=""/>
            <p:cNvSpPr/>
            <p:nvPr/>
          </p:nvSpPr>
          <p:spPr>
            <a:xfrm>
              <a:off x="3657600" y="182880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62160" y="182880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981080" y="2971800"/>
            <a:ext cx="3657240" cy="304920"/>
            <a:chOff x="1981080" y="2971800"/>
            <a:chExt cx="3657240" cy="304920"/>
          </a:xfrm>
        </p:grpSpPr>
        <p:grpSp>
          <p:nvGrpSpPr>
            <p:cNvPr id="55" name=""/>
            <p:cNvGrpSpPr/>
            <p:nvPr/>
          </p:nvGrpSpPr>
          <p:grpSpPr>
            <a:xfrm>
              <a:off x="1981080" y="2971800"/>
              <a:ext cx="1523520" cy="304920"/>
              <a:chOff x="1981080" y="2971800"/>
              <a:chExt cx="1523520" cy="3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1981080" y="3124080"/>
                <a:ext cx="1523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981080" y="29718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4114800" y="2971800"/>
              <a:ext cx="1523520" cy="304920"/>
              <a:chOff x="4114800" y="2971800"/>
              <a:chExt cx="1523520" cy="30492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4114800" y="3124080"/>
                <a:ext cx="1523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38320" y="29718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"/>
          <p:cNvSpPr/>
          <p:nvPr/>
        </p:nvSpPr>
        <p:spPr>
          <a:xfrm>
            <a:off x="2362320" y="2895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62320" y="3200400"/>
            <a:ext cx="2895480" cy="457200"/>
            <a:chOff x="2362320" y="3200400"/>
            <a:chExt cx="2895480" cy="457200"/>
          </a:xfrm>
        </p:grpSpPr>
        <p:sp>
          <p:nvSpPr>
            <p:cNvPr id="63" name=""/>
            <p:cNvSpPr/>
            <p:nvPr/>
          </p:nvSpPr>
          <p:spPr>
            <a:xfrm>
              <a:off x="2362320" y="3352680"/>
              <a:ext cx="2895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57600" y="3200400"/>
              <a:ext cx="30420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66520" y="3352680"/>
            <a:ext cx="2286360" cy="228600"/>
            <a:chOff x="2666520" y="3352680"/>
            <a:chExt cx="2286360" cy="228600"/>
          </a:xfrm>
        </p:grpSpPr>
        <p:sp>
          <p:nvSpPr>
            <p:cNvPr id="66" name=""/>
            <p:cNvSpPr/>
            <p:nvPr/>
          </p:nvSpPr>
          <p:spPr>
            <a:xfrm flipH="1">
              <a:off x="2666520" y="33526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33526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666880" y="3581280"/>
            <a:ext cx="2285640" cy="228600"/>
            <a:chOff x="2666880" y="3581280"/>
            <a:chExt cx="2285640" cy="228600"/>
          </a:xfrm>
        </p:grpSpPr>
        <p:sp>
          <p:nvSpPr>
            <p:cNvPr id="69" name=""/>
            <p:cNvSpPr/>
            <p:nvPr/>
          </p:nvSpPr>
          <p:spPr>
            <a:xfrm flipH="1">
              <a:off x="4266720" y="35812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35812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66520" y="3809880"/>
            <a:ext cx="2286360" cy="228600"/>
            <a:chOff x="2666520" y="3809880"/>
            <a:chExt cx="2286360" cy="228600"/>
          </a:xfrm>
        </p:grpSpPr>
        <p:sp>
          <p:nvSpPr>
            <p:cNvPr id="72" name=""/>
            <p:cNvSpPr/>
            <p:nvPr/>
          </p:nvSpPr>
          <p:spPr>
            <a:xfrm flipH="1">
              <a:off x="2666520" y="38098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67080" y="38098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666880" y="4038480"/>
            <a:ext cx="2285640" cy="228600"/>
            <a:chOff x="2666880" y="4038480"/>
            <a:chExt cx="2285640" cy="228600"/>
          </a:xfrm>
        </p:grpSpPr>
        <p:sp>
          <p:nvSpPr>
            <p:cNvPr id="75" name=""/>
            <p:cNvSpPr/>
            <p:nvPr/>
          </p:nvSpPr>
          <p:spPr>
            <a:xfrm flipH="1">
              <a:off x="4266720" y="40384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66880" y="40384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4343040"/>
            <a:ext cx="2437920" cy="838440"/>
            <a:chOff x="2590920" y="4343040"/>
            <a:chExt cx="2437920" cy="838440"/>
          </a:xfrm>
        </p:grpSpPr>
        <p:grpSp>
          <p:nvGrpSpPr>
            <p:cNvPr id="78" name=""/>
            <p:cNvGrpSpPr/>
            <p:nvPr/>
          </p:nvGrpSpPr>
          <p:grpSpPr>
            <a:xfrm>
              <a:off x="2743200" y="4724280"/>
              <a:ext cx="2133000" cy="457200"/>
              <a:chOff x="2743200" y="4724280"/>
              <a:chExt cx="2133000" cy="457200"/>
            </a:xfrm>
          </p:grpSpPr>
          <p:sp>
            <p:nvSpPr>
              <p:cNvPr id="79" name=""/>
              <p:cNvSpPr/>
              <p:nvPr/>
            </p:nvSpPr>
            <p:spPr>
              <a:xfrm>
                <a:off x="2743200" y="5029200"/>
                <a:ext cx="21330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3657240" y="4724280"/>
                <a:ext cx="304200" cy="457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590920" y="4343040"/>
              <a:ext cx="304560" cy="685800"/>
              <a:chOff x="2590920" y="4343040"/>
              <a:chExt cx="304560" cy="68580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743200" y="4343040"/>
                <a:ext cx="0" cy="6858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590920" y="43434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4724280" y="4343040"/>
              <a:ext cx="304560" cy="685800"/>
              <a:chOff x="4724280" y="4343040"/>
              <a:chExt cx="304560" cy="68580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4876560" y="4343040"/>
                <a:ext cx="0" cy="6858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724280" y="43434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"/>
          <p:cNvSpPr/>
          <p:nvPr/>
        </p:nvSpPr>
        <p:spPr>
          <a:xfrm flipH="1">
            <a:off x="3581280" y="5562720"/>
            <a:ext cx="457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657600" y="5638680"/>
            <a:ext cx="304560" cy="685800"/>
            <a:chOff x="3657600" y="5638680"/>
            <a:chExt cx="304560" cy="685800"/>
          </a:xfrm>
        </p:grpSpPr>
        <p:sp>
          <p:nvSpPr>
            <p:cNvPr id="89" name=""/>
            <p:cNvSpPr/>
            <p:nvPr/>
          </p:nvSpPr>
          <p:spPr>
            <a:xfrm>
              <a:off x="3657600" y="56386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62160" y="56386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523880" y="2209680"/>
            <a:ext cx="2133720" cy="3810240"/>
          </a:xfrm>
          <a:custGeom>
            <a:avLst/>
            <a:gdLst/>
            <a:ahLst/>
            <a:rect l="l" t="t" r="r" b="b"/>
            <a:pathLst>
              <a:path w="1344" h="2400">
                <a:moveTo>
                  <a:pt x="1344" y="0"/>
                </a:moveTo>
                <a:lnTo>
                  <a:pt x="0" y="0"/>
                </a:lnTo>
                <a:lnTo>
                  <a:pt x="0" y="2400"/>
                </a:lnTo>
                <a:lnTo>
                  <a:pt x="1344" y="240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657240" y="4724280"/>
            <a:ext cx="304920" cy="457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648320"/>
            <a:ext cx="1168560" cy="610200"/>
          </a:xfrm>
          <a:noFill/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ndelle d’app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5464080"/>
            <a:ext cx="1168560" cy="610200"/>
          </a:xfrm>
          <a:noFill/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Écrou de t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52480"/>
            <a:ext cx="22971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ge de l’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1447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ignon 8 est entraîné par le secteur denté 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axe de sortie est guidé par rapport à la c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2133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ignon 8 est monté tournant sur l’axe de sorti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914400"/>
            <a:ext cx="36576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6248520"/>
            <a:ext cx="84924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50532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’entraînement en rotation de l’axe de sortie par le pignon 8 est réalisé par l’adhérence entre le pignon 8 et les rondelles frot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50292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ression de contact est obtenue en comprimant des rondelles ressort grâce à un écrou de tara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38680" y="2971800"/>
            <a:ext cx="1523880" cy="304920"/>
            <a:chOff x="5638680" y="2971800"/>
            <a:chExt cx="1523880" cy="304920"/>
          </a:xfrm>
        </p:grpSpPr>
        <p:sp>
          <p:nvSpPr>
            <p:cNvPr id="104" name=""/>
            <p:cNvSpPr/>
            <p:nvPr/>
          </p:nvSpPr>
          <p:spPr>
            <a:xfrm>
              <a:off x="5638680" y="3124080"/>
              <a:ext cx="1523880" cy="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8680" y="2971800"/>
              <a:ext cx="0" cy="30492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15000" y="27432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ecteur denté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2895480"/>
            <a:ext cx="2895480" cy="228600"/>
          </a:xfrm>
          <a:prstGeom prst="ellipse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62320" y="3124080"/>
            <a:ext cx="2895480" cy="228600"/>
          </a:xfrm>
          <a:prstGeom prst="ellipse">
            <a:avLst/>
          </a:prstGeom>
          <a:solidFill>
            <a:srgbClr val="00cc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61000" y="4919760"/>
            <a:ext cx="2644920" cy="398880"/>
          </a:xfr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s adh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22840" y="1143000"/>
            <a:ext cx="0" cy="525780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74920" y="3962520"/>
            <a:ext cx="2895480" cy="457200"/>
            <a:chOff x="2374920" y="3962520"/>
            <a:chExt cx="2895480" cy="457200"/>
          </a:xfrm>
        </p:grpSpPr>
        <p:sp>
          <p:nvSpPr>
            <p:cNvPr id="112" name=""/>
            <p:cNvSpPr/>
            <p:nvPr/>
          </p:nvSpPr>
          <p:spPr>
            <a:xfrm>
              <a:off x="2374920" y="4267440"/>
              <a:ext cx="289548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670200" y="3962520"/>
              <a:ext cx="304200" cy="457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486400" y="1295280"/>
            <a:ext cx="365760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ctionnement « normal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440" y="3754440"/>
            <a:ext cx="1168560" cy="610200"/>
          </a:xfrm>
          <a:noFill/>
          <a:ln w="19080">
            <a:solidFill>
              <a:srgbClr val="99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Rondelles res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362320"/>
            <a:ext cx="1295280" cy="610200"/>
          </a:xfrm>
          <a:noFill/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ondelles frot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600" y="3200400"/>
            <a:ext cx="1168560" cy="30528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gnon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400" y="1239840"/>
            <a:ext cx="1676520" cy="305280"/>
          </a:xfrm>
          <a:noFill/>
          <a:ln w="1908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x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94240" y="2666880"/>
            <a:ext cx="457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670200" y="1828800"/>
            <a:ext cx="304560" cy="685800"/>
            <a:chOff x="3670200" y="1828800"/>
            <a:chExt cx="304560" cy="685800"/>
          </a:xfrm>
        </p:grpSpPr>
        <p:sp>
          <p:nvSpPr>
            <p:cNvPr id="121" name=""/>
            <p:cNvSpPr/>
            <p:nvPr/>
          </p:nvSpPr>
          <p:spPr>
            <a:xfrm>
              <a:off x="3670200" y="182880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74760" y="182880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994040" y="2971800"/>
            <a:ext cx="3657240" cy="304920"/>
            <a:chOff x="1994040" y="2971800"/>
            <a:chExt cx="3657240" cy="304920"/>
          </a:xfrm>
        </p:grpSpPr>
        <p:grpSp>
          <p:nvGrpSpPr>
            <p:cNvPr id="124" name=""/>
            <p:cNvGrpSpPr/>
            <p:nvPr/>
          </p:nvGrpSpPr>
          <p:grpSpPr>
            <a:xfrm>
              <a:off x="1994040" y="2971800"/>
              <a:ext cx="1523520" cy="304920"/>
              <a:chOff x="1994040" y="2971800"/>
              <a:chExt cx="1523520" cy="304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994040" y="3124080"/>
                <a:ext cx="1523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94040" y="29718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127760" y="2971800"/>
              <a:ext cx="1523520" cy="304920"/>
              <a:chOff x="4127760" y="2971800"/>
              <a:chExt cx="1523520" cy="304920"/>
            </a:xfrm>
          </p:grpSpPr>
          <p:sp>
            <p:nvSpPr>
              <p:cNvPr id="128" name=""/>
              <p:cNvSpPr/>
              <p:nvPr/>
            </p:nvSpPr>
            <p:spPr>
              <a:xfrm flipH="1">
                <a:off x="4127760" y="3124080"/>
                <a:ext cx="15235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51280" y="2971800"/>
                <a:ext cx="0" cy="304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" name=""/>
          <p:cNvSpPr/>
          <p:nvPr/>
        </p:nvSpPr>
        <p:spPr>
          <a:xfrm>
            <a:off x="2374920" y="2895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374920" y="3200400"/>
            <a:ext cx="2895480" cy="457200"/>
            <a:chOff x="2374920" y="3200400"/>
            <a:chExt cx="2895480" cy="457200"/>
          </a:xfrm>
        </p:grpSpPr>
        <p:sp>
          <p:nvSpPr>
            <p:cNvPr id="132" name=""/>
            <p:cNvSpPr/>
            <p:nvPr/>
          </p:nvSpPr>
          <p:spPr>
            <a:xfrm>
              <a:off x="2374920" y="3352680"/>
              <a:ext cx="289548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70200" y="3200400"/>
              <a:ext cx="304200" cy="457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679480" y="3352680"/>
            <a:ext cx="2286360" cy="228600"/>
            <a:chOff x="2679480" y="3352680"/>
            <a:chExt cx="2286360" cy="228600"/>
          </a:xfrm>
        </p:grpSpPr>
        <p:sp>
          <p:nvSpPr>
            <p:cNvPr id="135" name=""/>
            <p:cNvSpPr/>
            <p:nvPr/>
          </p:nvSpPr>
          <p:spPr>
            <a:xfrm flipH="1">
              <a:off x="2679480" y="33526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80040" y="33526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679840" y="3581280"/>
            <a:ext cx="2285640" cy="228600"/>
            <a:chOff x="2679840" y="3581280"/>
            <a:chExt cx="2285640" cy="228600"/>
          </a:xfrm>
        </p:grpSpPr>
        <p:sp>
          <p:nvSpPr>
            <p:cNvPr id="138" name=""/>
            <p:cNvSpPr/>
            <p:nvPr/>
          </p:nvSpPr>
          <p:spPr>
            <a:xfrm flipH="1">
              <a:off x="4279680" y="35812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79840" y="35812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679480" y="3809880"/>
            <a:ext cx="2286360" cy="228600"/>
            <a:chOff x="2679480" y="3809880"/>
            <a:chExt cx="2286360" cy="228600"/>
          </a:xfrm>
        </p:grpSpPr>
        <p:sp>
          <p:nvSpPr>
            <p:cNvPr id="141" name=""/>
            <p:cNvSpPr/>
            <p:nvPr/>
          </p:nvSpPr>
          <p:spPr>
            <a:xfrm flipH="1">
              <a:off x="2679480" y="38098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0040" y="38098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679840" y="4038480"/>
            <a:ext cx="2285640" cy="228600"/>
            <a:chOff x="2679840" y="4038480"/>
            <a:chExt cx="2285640" cy="228600"/>
          </a:xfrm>
        </p:grpSpPr>
        <p:sp>
          <p:nvSpPr>
            <p:cNvPr id="144" name=""/>
            <p:cNvSpPr/>
            <p:nvPr/>
          </p:nvSpPr>
          <p:spPr>
            <a:xfrm flipH="1">
              <a:off x="4279680" y="40384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79840" y="4038480"/>
              <a:ext cx="685800" cy="228600"/>
            </a:xfrm>
            <a:prstGeom prst="line">
              <a:avLst/>
            </a:prstGeom>
            <a:ln w="5724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603520" y="4343040"/>
            <a:ext cx="2437920" cy="838440"/>
            <a:chOff x="2603520" y="4343040"/>
            <a:chExt cx="2437920" cy="838440"/>
          </a:xfrm>
        </p:grpSpPr>
        <p:grpSp>
          <p:nvGrpSpPr>
            <p:cNvPr id="147" name=""/>
            <p:cNvGrpSpPr/>
            <p:nvPr/>
          </p:nvGrpSpPr>
          <p:grpSpPr>
            <a:xfrm>
              <a:off x="2755800" y="4724280"/>
              <a:ext cx="2133000" cy="457200"/>
              <a:chOff x="2755800" y="4724280"/>
              <a:chExt cx="2133000" cy="457200"/>
            </a:xfrm>
          </p:grpSpPr>
          <p:sp>
            <p:nvSpPr>
              <p:cNvPr id="148" name=""/>
              <p:cNvSpPr/>
              <p:nvPr/>
            </p:nvSpPr>
            <p:spPr>
              <a:xfrm>
                <a:off x="2755800" y="5029200"/>
                <a:ext cx="21330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669840" y="4724280"/>
                <a:ext cx="304200" cy="4572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03520" y="4343040"/>
              <a:ext cx="304560" cy="685800"/>
              <a:chOff x="2603520" y="4343040"/>
              <a:chExt cx="304560" cy="68580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2755800" y="4343040"/>
                <a:ext cx="0" cy="6858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03520" y="43434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736880" y="4343040"/>
              <a:ext cx="304560" cy="685800"/>
              <a:chOff x="4736880" y="4343040"/>
              <a:chExt cx="304560" cy="685800"/>
            </a:xfrm>
          </p:grpSpPr>
          <p:sp>
            <p:nvSpPr>
              <p:cNvPr id="154" name=""/>
              <p:cNvSpPr/>
              <p:nvPr/>
            </p:nvSpPr>
            <p:spPr>
              <a:xfrm flipV="1">
                <a:off x="4889160" y="4343040"/>
                <a:ext cx="0" cy="685800"/>
              </a:xfrm>
              <a:prstGeom prst="line">
                <a:avLst/>
              </a:prstGeom>
              <a:ln w="5724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36880" y="434340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 flipH="1">
            <a:off x="3594240" y="5562720"/>
            <a:ext cx="457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670200" y="5638680"/>
            <a:ext cx="304560" cy="685800"/>
            <a:chOff x="3670200" y="5638680"/>
            <a:chExt cx="304560" cy="685800"/>
          </a:xfrm>
        </p:grpSpPr>
        <p:sp>
          <p:nvSpPr>
            <p:cNvPr id="158" name=""/>
            <p:cNvSpPr/>
            <p:nvPr/>
          </p:nvSpPr>
          <p:spPr>
            <a:xfrm>
              <a:off x="3670200" y="56386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74760" y="56386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536840" y="2209680"/>
            <a:ext cx="2133360" cy="3810240"/>
          </a:xfrm>
          <a:custGeom>
            <a:avLst/>
            <a:gdLst/>
            <a:ahLst/>
            <a:rect l="l" t="t" r="r" b="b"/>
            <a:pathLst>
              <a:path w="1344" h="2400">
                <a:moveTo>
                  <a:pt x="1344" y="0"/>
                </a:moveTo>
                <a:lnTo>
                  <a:pt x="0" y="0"/>
                </a:lnTo>
                <a:lnTo>
                  <a:pt x="0" y="2400"/>
                </a:lnTo>
                <a:lnTo>
                  <a:pt x="1344" y="240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669840" y="4724280"/>
            <a:ext cx="304920" cy="4572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600" y="4648320"/>
            <a:ext cx="1168560" cy="610200"/>
          </a:xfrm>
          <a:noFill/>
          <a:ln w="19080">
            <a:solidFill>
              <a:srgbClr val="0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Rondelle d’app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20" y="5464080"/>
            <a:ext cx="1168560" cy="610200"/>
          </a:xfrm>
          <a:noFill/>
          <a:ln w="1908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Écrou de t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600" y="1752480"/>
            <a:ext cx="229716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age de l’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5000" y="1752480"/>
            <a:ext cx="342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ignon 8 est entraîné par le secteur denté 6, et il transmet le mouvement de rotation à l’axe de sortie. Dans ce cas, tout l’ensemble tour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914400"/>
            <a:ext cx="36702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7520" y="6248520"/>
            <a:ext cx="849240" cy="30528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715000" y="3962520"/>
            <a:ext cx="3429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d l’axe de sortie est bloqué (couple trop grand), seul le pignon 8 tourne (entraîné par le secteur 6). Il y a un glissement entre les faces du pignon 8 et les rondelles frottantes. Le couple limite est calculé en fonction des dimensions des surfaces frotta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3581280"/>
            <a:ext cx="365760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nctionnement « limiteur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4876920"/>
            <a:ext cx="495288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2057400"/>
            <a:ext cx="4876920" cy="15228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77040" y="1295280"/>
            <a:ext cx="365760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de à la con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77040" y="914400"/>
            <a:ext cx="36702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ur de cou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4876920"/>
            <a:ext cx="45720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057400"/>
            <a:ext cx="609840" cy="152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1219320"/>
            <a:ext cx="0" cy="457200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16765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es 2 plat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1981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éer la liaison pivot de l’axe par rapport aux plati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2590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a première rondelle frottante encastrée sur l’ax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86400" y="3397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a roue 8 en ajustement tournant sur l’ax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400680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a deuxième rondelle frottante encastrée sur l’ax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6400" y="4844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es rondelles ress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5378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a rondelle d’appu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59119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tre en place l’écro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62164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limiteur de couple doit être termin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137160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 du diaporama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er à la questi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Flch_H4" descr=""/>
          <p:cNvPicPr/>
          <p:nvPr/>
        </p:nvPicPr>
        <p:blipFill>
          <a:blip r:embed="rId2"/>
          <a:stretch/>
        </p:blipFill>
        <p:spPr>
          <a:xfrm>
            <a:off x="3505320" y="2286000"/>
            <a:ext cx="2055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09:14:55Z</dcterms:created>
  <dc:creator>Philippe Jeannerod</dc:creator>
  <dc:description/>
  <dc:language>en-US</dc:language>
  <cp:lastModifiedBy>BTS Microtechniques</cp:lastModifiedBy>
  <dcterms:modified xsi:type="dcterms:W3CDTF">2003-02-01T11:30:04Z</dcterms:modified>
  <cp:revision>12</cp:revision>
  <dc:subject>BTS00</dc:subject>
  <dc:title>CONSTRUCTION</dc:title>
</cp:coreProperties>
</file>